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149-3B20-4C68-921F-407CC9AA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5B2-B9AA-44BE-B406-59870412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978-18E4-4DAC-A77F-536DF467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7C9-4E1E-4C40-885D-CD81BA46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D63-0430-4691-A8B6-0CFF6A15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F2D-28E2-4D4A-9DEB-4AF9DF6B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028-1038-445B-AC3A-97961E26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9E8-EB1D-4B17-894C-7A14B92D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7FE-7632-421A-9B05-6522EB80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EEA-1303-4F69-A079-3D836122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CC2-0E13-4D36-831A-82C372DC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C1E-3DE0-4E9C-9534-52D61C4E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B405-50A9-4C8C-A11D-BB0BD2B02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90792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17: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4162320" cy="3429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650960" cy="1726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8360" y="3621240"/>
            <a:ext cx="4572000" cy="9169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*s1 != '\0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cpy(s1, s2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49480" y="333216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string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1293840"/>
            <a:ext cx="611964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string concatenate". cola conteúdo de um string no fim de ou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ction defini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har *strcat(char *s1, const char *s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1 será s1 +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620640"/>
            <a:ext cx="6119640" cy="64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</a:rPr>
              <a:t>str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588000" y="3068640"/>
            <a:ext cx="17938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650960" cy="1726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56000" y="1293840"/>
            <a:ext cx="6119640" cy="20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string compare". compare dois st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ction defini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rcmp(const char *s1, const char *s2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1 e s2 igual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1&lt;s2: returno númer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1&gt;s2: retorna número po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620640"/>
            <a:ext cx="6119640" cy="64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</a:rPr>
              <a:t>strc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3357720"/>
            <a:ext cx="6264360" cy="3501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char n[30], m[3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nt c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trcpy(n, "Benfica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trcpy(m, "Sporting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cmp = strcmp(n, 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rintf("%s\n", 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f (cmp==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rintf(“they are equal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f (cmp&g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rintf("%s is after %s", n, 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rintf("%s is before %s", n, 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200" y="30686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650960" cy="172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56000" y="1293840"/>
            <a:ext cx="6119640" cy="20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"string compare". compare dois st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unction defini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nt strcmp(const char *s1, const char *s2)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1 e s2 igual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1&lt;s2: returno númer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1&gt;s2: retorna número po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620640"/>
            <a:ext cx="6119640" cy="64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</a:rPr>
              <a:t>strc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621240"/>
            <a:ext cx="4824360" cy="17398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while ((*s1==*s2) &amp;&amp; (*s1!='\0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s1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s2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turn((int) *s1 - *s2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49480" y="333216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string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45000" y="3773520"/>
            <a:ext cx="3699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650960" cy="1726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56000" y="1293840"/>
            <a:ext cx="611964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string length". tamanho do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ction defini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rlen(const char *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manho do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620640"/>
            <a:ext cx="6119640" cy="64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</a:rPr>
              <a:t>str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3357720"/>
            <a:ext cx="6264360" cy="13107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char n[3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trcpy(n, "Benfica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rintf("%s has %d characters", n, strlen(n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Benfica has 7 charac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47320" y="30686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1880" y="413244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outpu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650960" cy="1726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56000" y="1293840"/>
            <a:ext cx="611964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"string length". tamanho do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unction defini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nt strlen(const char *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tamanho do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620640"/>
            <a:ext cx="6119640" cy="64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</a:rPr>
              <a:t>str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3357720"/>
            <a:ext cx="2879640" cy="17974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cnt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while (*s1 != '\0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1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return(c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74560" y="306864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string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300720" y="2852640"/>
            <a:ext cx="23385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650960" cy="1726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56000" y="1293840"/>
            <a:ext cx="611964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"string length". tamanho do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unction defini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nt strlen(const char *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tamanho do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620640"/>
            <a:ext cx="6119640" cy="64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</a:rPr>
              <a:t>str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3357720"/>
            <a:ext cx="2879640" cy="17974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cnt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while (*s1 != '\0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1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return(c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74560" y="306864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string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0720" y="2852640"/>
            <a:ext cx="23432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650960" cy="172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56000" y="1293840"/>
            <a:ext cx="611964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"string length". tamanho do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unction defini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nt strlen(const char *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tamanho do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620640"/>
            <a:ext cx="6119640" cy="64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</a:rPr>
              <a:t>str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3357720"/>
            <a:ext cx="2879640" cy="17974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cnt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while (*s1 != '\0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1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return(c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4560" y="306864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string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300720" y="2852640"/>
            <a:ext cx="23497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650960" cy="1726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556000" y="1293840"/>
            <a:ext cx="633708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"string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string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".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ura string dentro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do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unction defini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*strstr(const char *s1, const char *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torna apontador para substring s2 dentro do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620640"/>
            <a:ext cx="6337080" cy="64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</a:rPr>
              <a:t>strst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60360" y="3516480"/>
            <a:ext cx="2880000" cy="2040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char n[3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char *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trcpy(n, "Benfica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 = strstr(n, "fic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rintf("%s", 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3280" y="322740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57840" y="508320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outpu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084720" y="3141720"/>
            <a:ext cx="21463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v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650960" cy="1726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260360" y="4595760"/>
            <a:ext cx="3240360" cy="15541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for (i=0; i&lt;3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rintf("%s\n", n[i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Ben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or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3280" y="43070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57840" y="51577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outpu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83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cc"/>
                </a:solidFill>
                <a:latin typeface="Arial"/>
              </a:rPr>
              <a:t>um array de strings é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cc"/>
                </a:solidFill>
                <a:latin typeface="Arial"/>
              </a:rPr>
              <a:t>array de array de ch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59280" y="177336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ourier New"/>
              </a:rPr>
              <a:t>char n[3][10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3680" y="2421000"/>
            <a:ext cx="8950320" cy="1942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300720" y="4221000"/>
            <a:ext cx="19432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v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650960" cy="1726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55640" y="4581360"/>
            <a:ext cx="5759640" cy="8240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trcpy(n[1], “Sporting?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trcpy(n[0], “Benfica o Glorioso!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rintf(“%s\n”, n[1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3280" y="43070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57840" y="550080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outpu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32000" y="83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cc"/>
                </a:solidFill>
                <a:latin typeface="Arial"/>
              </a:rPr>
              <a:t>um array de strings é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cc"/>
                </a:solidFill>
                <a:latin typeface="Arial"/>
              </a:rPr>
              <a:t>array de array de ch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59280" y="177336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ourier New"/>
              </a:rPr>
              <a:t>char n[3][10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93680" y="2421000"/>
            <a:ext cx="8950320" cy="1942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877080" y="4365720"/>
            <a:ext cx="1942920" cy="2009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57080" y="5803920"/>
            <a:ext cx="5759640" cy="3373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t17_1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76720" y="2492280"/>
            <a:ext cx="352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string é um array de ch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linguagem C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especialment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orte em trabalhar com st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4817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ring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177336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ourier New"/>
              </a:rPr>
              <a:t>char n[nsize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650960" cy="1726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22880" y="33577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po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067280" y="2421000"/>
            <a:ext cx="43164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ring inicia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650960" cy="1726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89840" y="9399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n = "Benfica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6520" y="17733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po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6160" y="1773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tring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419640" y="1483920"/>
            <a:ext cx="21564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932000" y="1412640"/>
            <a:ext cx="431640" cy="43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36720" y="3502080"/>
            <a:ext cx="2303280" cy="2288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n[0] = 'B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n[1] = 'e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n[2] = 'n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n[3] = 'f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n[4] = 'i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n[5] = 'c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n[6] = 'a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n[7] = '\0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97080" y="5589720"/>
            <a:ext cx="1224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3240" y="5249880"/>
            <a:ext cx="41518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não esquece o EOS (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string terminator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tamanho: n+1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720" y="3716280"/>
            <a:ext cx="23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convenien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iblioteca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tring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276720" y="4221000"/>
            <a:ext cx="1366560" cy="503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620640"/>
            <a:ext cx="2160360" cy="2160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1650960" cy="1727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56000" y="1293840"/>
            <a:ext cx="611964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string copy". copia conteúdo de um string para o ou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ction defini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*strcpy(char *s1, const char *s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pia s2 para s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620640"/>
            <a:ext cx="6119640" cy="64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</a:rPr>
              <a:t>strc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236000" y="3213000"/>
            <a:ext cx="1535040" cy="2543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8360" y="3213000"/>
            <a:ext cx="4572000" cy="14655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har n[10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trcpy(n, "Benfica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("%s\n", 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en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0200" y="292428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8560" y="407664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outpu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3645000"/>
            <a:ext cx="57456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08720" y="4797360"/>
            <a:ext cx="1295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94760" y="5013360"/>
            <a:ext cx="242712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ormat specifier: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908000" y="4220640"/>
            <a:ext cx="503280" cy="79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67200" y="5629320"/>
            <a:ext cx="2412000" cy="642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nd-of-string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ring terminat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508720" y="5229360"/>
            <a:ext cx="180000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650960" cy="1726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56000" y="1293840"/>
            <a:ext cx="611964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string copy". copia conteúdo de um string para o ou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ction defini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*strcpy(char *s1, const char *s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pia s2 para s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56000" y="620640"/>
            <a:ext cx="6119640" cy="64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</a:rPr>
              <a:t>strc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3213000"/>
            <a:ext cx="4572000" cy="20142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s1 = *s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1++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2++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hile (*s2 != '\0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49480" y="292428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string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92720" y="3505320"/>
            <a:ext cx="36720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650960" cy="1726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56000" y="1293840"/>
            <a:ext cx="611964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string copy". copia conteúdo de um string para o ou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ction defini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*strcpy(char *s1, const char *s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pia s2 para s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620640"/>
            <a:ext cx="6119640" cy="64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</a:rPr>
              <a:t>strc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3213000"/>
            <a:ext cx="4572000" cy="20142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s1 = *s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1++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2++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hile (*s2 != '\0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49480" y="292428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string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92720" y="3505320"/>
            <a:ext cx="3699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650960" cy="1726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1293840"/>
            <a:ext cx="611964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string copy". copia conteúdo de um string para o ou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ction defini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*strcpy(char *s1, const char *s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pia s2 para s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620640"/>
            <a:ext cx="6119640" cy="64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</a:rPr>
              <a:t>strc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3213000"/>
            <a:ext cx="4572000" cy="20142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s1 = *s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1++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2++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hile (*s2 != '\0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49480" y="292428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string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92720" y="3505320"/>
            <a:ext cx="3699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650960" cy="1726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56000" y="1293840"/>
            <a:ext cx="611964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string concatenate". cola conteúdo de um string no fim de ou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ction defini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har *strcat(char *s1, const char *s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1 será s1 +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620640"/>
            <a:ext cx="6119640" cy="64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</a:rPr>
              <a:t>str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236000" y="3213000"/>
            <a:ext cx="1535040" cy="2543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8360" y="3824280"/>
            <a:ext cx="4572000" cy="17398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har n[30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trcpy(n, "Benfica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trcat(n, " o glorioso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("%s\n", 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enfica o glor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200" y="353520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8560" y="495936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cc"/>
                </a:solidFill>
                <a:latin typeface="Arial"/>
              </a:rPr>
              <a:t>outpu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1-27T10:31:15Z</dcterms:modified>
  <cp:revision>561</cp:revision>
  <dc:subject/>
  <dc:title>Slide 1</dc:title>
</cp:coreProperties>
</file>