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60A-288F-469D-BDFF-29C89FA5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1AA-71A2-4081-8D98-3DCAC713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43A-1B5F-4E6D-A543-3CADCA44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249-A5F7-4DA1-A154-AFC73CFC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D16-F76D-40D4-95BC-1AE8520D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EA9-3907-4EEE-95F7-974ACC68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823-9D8F-4DC5-B398-96245F2A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F91-F947-49AF-9E37-167B65AC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A94-75D6-4E41-B859-BF0BF423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292-88F5-4D8B-A9D9-4108EA8D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2FF-A9E2-4673-99A9-CBBF8BD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20C-57B9-44BD-B759-EA594C6C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F46F-404B-4717-B1FD-A600160BA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8: structs (estrut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157560" cy="4130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uct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3357720"/>
            <a:ext cx="5759640" cy="2014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floa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float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} coordin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coordinate.x 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coordinate.y 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1987560"/>
            <a:ext cx="295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627280" y="90756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836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1627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126684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234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27082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119556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962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22360" y="10476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uct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1773360"/>
            <a:ext cx="7921440" cy="4208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struct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char street[30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nt housenumb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nt and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char por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} addr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strcpy(address.street, "Rua Santo Antonio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address.housenumber = 34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address.andar = 3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address.porta = 'E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printf("%s %d", address.street, address.housenumbe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printf("%d%c", address.andar, address.porta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165720"/>
            <a:ext cx="7921440" cy="580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Rua Santo Antonio 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3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94472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ecord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290760" cy="223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71640" y="501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truct. Cada divisão com informação do tipo di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98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. Cada gaveta com o mesmo tipo da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0" y="2133360"/>
            <a:ext cx="9144000" cy="2950920"/>
          </a:xfrm>
          <a:prstGeom prst="line">
            <a:avLst/>
          </a:prstGeom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052640"/>
            <a:ext cx="74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colecção de variáveis de tipos mi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como um armário com divis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530064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 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 Cada divisão contem coisas de um tipo di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2480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uct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907920"/>
            <a:ext cx="7705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untar variáveis que logicamente formam um conjunto. Structs vão estruturar o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 exemplo: um carro é definido por as seguintas informações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arc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odel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an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ilindrade do moto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o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atrícul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pre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00600" y="2349360"/>
          <a:ext cx="4343400" cy="26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0600" y="2349360"/>
                    <a:ext cx="4343400" cy="26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971880" y="5014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isualização de 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elemente de um struct chama-se “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field”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ca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uct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00600" y="2349360"/>
          <a:ext cx="4343400" cy="26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0600" y="2349360"/>
                    <a:ext cx="4343400" cy="26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7164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elemente de um struct chama-se “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field”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ca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907920"/>
            <a:ext cx="7705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untar variáveis que logicamente formam um conjunto. Structs vão estruturar o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 exemplo: um carro é definido por as seguintas informações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arc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odel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an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ilindrade do moto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o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atrícul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pre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1880" y="5014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isualização de 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uct.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907920"/>
            <a:ext cx="316872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1 ite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2 item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N item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66760" y="3392640"/>
            <a:ext cx="696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  indentificador (com todas as regr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tem1..item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  indentificadores dos campos individ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type1..type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  tipos dos campos. Podem ser diferente ou ig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uct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4292640"/>
            <a:ext cx="4105080" cy="1465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har name[2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nt ye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nt propinas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} stud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249228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; uma ficha com as informações de um al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33843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uct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4292640"/>
            <a:ext cx="5759280" cy="1465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truct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har name[20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nt ye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nt propinas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} students[20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34936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array de structs; uma caixa com fichas de alu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677880"/>
            <a:ext cx="46087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uct.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907920"/>
            <a:ext cx="316872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ame.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3573360"/>
            <a:ext cx="5759280" cy="2562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char name[2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nt ye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nt propinas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} stud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strcpy(student.name, "Peter Stallinga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student.year = 200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student.propinas = 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4480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uct.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907920"/>
            <a:ext cx="316872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ame[index].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357720"/>
            <a:ext cx="7056360" cy="2837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struct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char name[20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nt ye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nt propinas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} students[20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 = 105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strcpy(students[i].name,"Peter Stallinga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students[i].year = 200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students[i].propina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64000" y="1052640"/>
            <a:ext cx="25210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2-04T21:56:09Z</dcterms:modified>
  <cp:revision>557</cp:revision>
  <dc:subject/>
  <dc:title>Slide 1</dc:title>
</cp:coreProperties>
</file>