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3709-8634-4571-97F7-41563F4A4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9A1B-04A1-4DFD-9BBC-9BE692788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7898-0377-441F-B19E-86FBEB59E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25EA-A5E6-4B29-9283-D9B596DF4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B9F7-154D-43AB-9B69-A901C513C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F9F6-0236-4112-BD62-1E8AAEC68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D80E-4846-4156-AD11-9D131269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C939-0C2B-4F4C-ADEC-08AF8879B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4C60-4473-4ADD-A6B5-CA9A9962D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4CC3-D8DE-40B7-BC80-A2234896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253A-834E-42DC-968D-7B069A1F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92D7-8D07-4254-9B7D-8201A8D8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D1424-45A6-45CB-B8C4-41ED4BB63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907920"/>
            <a:ext cx="9144000" cy="785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Aula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: Programação modula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procedimentos com </a:t>
            </a: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 e/ou </a:t>
            </a: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4522680" cy="4824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Arial"/>
              </a:rPr>
              <a:t>Programação Impera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95280" y="1557360"/>
            <a:ext cx="6264360" cy="42310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#include &lt;stdio.h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float x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void WriteSquare(float 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{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float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y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printf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(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“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The suare of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%0.1f“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,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y = r*r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r = y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printf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(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“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is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%0.1fn“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,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y)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}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void main() {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x = 3.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WriteSquare(4.0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WriteSquare(x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5280" y="5877000"/>
            <a:ext cx="6264360" cy="5806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The square of 4.0 is 16.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The square of 3.0 is 9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cedures com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parâme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732720" y="1628640"/>
            <a:ext cx="223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: criar x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2: atribuir 3 a x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3: chama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WriteSquare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4: entra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proced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227664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948360" y="549360"/>
            <a:ext cx="1008360" cy="7920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020000" y="620640"/>
            <a:ext cx="86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093080" y="765000"/>
            <a:ext cx="1008000" cy="7923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164360" y="836640"/>
            <a:ext cx="86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55640" y="5013360"/>
            <a:ext cx="2232000" cy="287280"/>
          </a:xfrm>
          <a:prstGeom prst="rect">
            <a:avLst/>
          </a:prstGeom>
          <a:noFill/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56000" y="4653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bbe0e3"/>
                </a:solidFill>
                <a:latin typeface="Arial"/>
              </a:rPr>
              <a:t>em execu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11280" y="62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95280" y="571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1042920" y="571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042920" y="1147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8200" y="57168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185840" y="57168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38200" y="57168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5280" y="858960"/>
            <a:ext cx="647640" cy="57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95280" y="1557360"/>
            <a:ext cx="6264360" cy="42310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#include &lt;stdio.h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float x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void WriteSquare(float 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{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float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y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printf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(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“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The suare of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%0.1f“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,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y = r*r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r = y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printf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(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“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is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%0.1fn“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,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y)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}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void main() {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x = 3.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WriteSquare(4.0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WriteSquare(x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5280" y="5877000"/>
            <a:ext cx="6264360" cy="5806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The square of 4.0 is 16.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The square of 3.0 is 9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948360" y="4508640"/>
            <a:ext cx="29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cedures com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parâme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732720" y="1628640"/>
            <a:ext cx="223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: criar x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2: atribuir 3 a x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3: chama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WriteSquare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4: entra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procedimento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5: criar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224784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948360" y="549360"/>
            <a:ext cx="1008360" cy="7920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020000" y="620640"/>
            <a:ext cx="86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093080" y="765000"/>
            <a:ext cx="1008000" cy="7923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164360" y="836640"/>
            <a:ext cx="86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64000" y="1989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bbe0e3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55640" y="5013360"/>
            <a:ext cx="2232000" cy="287280"/>
          </a:xfrm>
          <a:prstGeom prst="rect">
            <a:avLst/>
          </a:prstGeom>
          <a:noFill/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56000" y="4653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bbe0e3"/>
                </a:solidFill>
                <a:latin typeface="Arial"/>
              </a:rPr>
              <a:t>em execu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11280" y="62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95280" y="571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1042920" y="571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042920" y="1147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8200" y="57168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185840" y="57168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8200" y="57168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5280" y="858960"/>
            <a:ext cx="647640" cy="57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1042920" y="571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1690560" y="571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1690560" y="1147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5840" y="57168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33480" y="57168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185840" y="57168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42920" y="858960"/>
            <a:ext cx="647640" cy="57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95280" y="1557360"/>
            <a:ext cx="6264360" cy="42310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#include &lt;stdio.h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float x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void WriteSquare(float 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{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float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y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printf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(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“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The suare of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%0.1f“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,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y = r*r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r = y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printf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(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“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is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%0.1fn“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,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y)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}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void main() {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x = 3.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WriteSquare(4.0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WriteSquare(x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95280" y="5877000"/>
            <a:ext cx="6264360" cy="5806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The square of 4.0 is 16.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The square of 3.0 is 9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948360" y="4508640"/>
            <a:ext cx="29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cedures com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parâme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732720" y="1628640"/>
            <a:ext cx="223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: criar x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2: atribuir 3 a x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3: chama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WriteSquare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4: entra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procedimento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5: criar 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6: atribuir 4 a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948360" y="549360"/>
            <a:ext cx="1008360" cy="7920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020000" y="620640"/>
            <a:ext cx="86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93080" y="765000"/>
            <a:ext cx="1008000" cy="7923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164360" y="836640"/>
            <a:ext cx="86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55640" y="5013360"/>
            <a:ext cx="2232000" cy="287280"/>
          </a:xfrm>
          <a:prstGeom prst="rect">
            <a:avLst/>
          </a:prstGeom>
          <a:noFill/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56000" y="4653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bbe0e3"/>
                </a:solidFill>
                <a:latin typeface="Arial"/>
              </a:rPr>
              <a:t>em execu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11280" y="62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395280" y="571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042920" y="571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1042920" y="1147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8200" y="57168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185840" y="57168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38200" y="57168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95280" y="858960"/>
            <a:ext cx="647640" cy="57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1042920" y="571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690560" y="571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1690560" y="1147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185840" y="57168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33480" y="57168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185840" y="57168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2556000" y="2708280"/>
            <a:ext cx="792000" cy="2233440"/>
          </a:xfrm>
          <a:prstGeom prst="line">
            <a:avLst/>
          </a:prstGeom>
          <a:ln w="25560">
            <a:solidFill>
              <a:srgbClr val="00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195640" y="4941720"/>
            <a:ext cx="647640" cy="503280"/>
          </a:xfrm>
          <a:prstGeom prst="ellipse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132000" y="2205000"/>
            <a:ext cx="648000" cy="503280"/>
          </a:xfrm>
          <a:prstGeom prst="ellipse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258920" y="62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71640" y="306360"/>
            <a:ext cx="430200" cy="316080"/>
          </a:xfrm>
          <a:custGeom>
            <a:avLst/>
            <a:gdLst/>
            <a:ahLst/>
            <a:rect l="l" t="t" r="r" b="b"/>
            <a:pathLst>
              <a:path w="226" h="318">
                <a:moveTo>
                  <a:pt x="0" y="0"/>
                </a:moveTo>
                <a:cubicBezTo>
                  <a:pt x="71" y="64"/>
                  <a:pt x="143" y="129"/>
                  <a:pt x="181" y="182"/>
                </a:cubicBezTo>
                <a:cubicBezTo>
                  <a:pt x="219" y="235"/>
                  <a:pt x="203" y="318"/>
                  <a:pt x="226" y="31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042920" y="858960"/>
            <a:ext cx="647640" cy="57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224784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564000" y="1989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bbe0e3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95280" y="1557360"/>
            <a:ext cx="6264360" cy="42310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#include &lt;stdio.h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float x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void WriteSquare(float 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{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float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y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printf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(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“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The suare of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%0.1f“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,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y = r*r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r = y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printf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(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“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is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%0.1fn“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,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y)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}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void main() {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x = 3.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WriteSquare(4.0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WriteSquare(x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5280" y="5877000"/>
            <a:ext cx="6264360" cy="5806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The square of 4.0 is 16.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The square of 3.0 is 9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948360" y="4508640"/>
            <a:ext cx="29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cedures com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parâme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732720" y="1628640"/>
            <a:ext cx="223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: criar x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2: atribuir 3 a x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3: chama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WriteSquare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4: entra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procedimento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5: criar 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6: atribuir 4 a 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7: criar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948360" y="549360"/>
            <a:ext cx="1008360" cy="7920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020000" y="620640"/>
            <a:ext cx="86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93080" y="765000"/>
            <a:ext cx="1008000" cy="7923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164360" y="836640"/>
            <a:ext cx="86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55640" y="5013360"/>
            <a:ext cx="2232000" cy="287280"/>
          </a:xfrm>
          <a:prstGeom prst="rect">
            <a:avLst/>
          </a:prstGeom>
          <a:noFill/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556000" y="4653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bbe0e3"/>
                </a:solidFill>
                <a:latin typeface="Arial"/>
              </a:rPr>
              <a:t>em execu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11280" y="62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395280" y="571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1042920" y="571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1042920" y="1147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38200" y="57168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185840" y="57168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38200" y="57168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5280" y="858960"/>
            <a:ext cx="647640" cy="57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1042920" y="571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1690560" y="571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1690560" y="1147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85840" y="57168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833480" y="57168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185840" y="57168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25257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258920" y="62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042920" y="858960"/>
            <a:ext cx="647640" cy="57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1703520" y="57636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351160" y="57636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2351160" y="1152000"/>
            <a:ext cx="142920" cy="28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846440" y="57636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94080" y="57636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846440" y="57636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703520" y="863640"/>
            <a:ext cx="647640" cy="57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95280" y="1557360"/>
            <a:ext cx="6264360" cy="42310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#include &lt;stdio.h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float x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void WriteSquare(float 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{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float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y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printf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(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“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The suare of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%0.1f“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,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y = r*r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r = y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printf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(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“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is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%0.1fn“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,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y)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}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void main() {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x = 3.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WriteSquare(4.0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WriteSquare(x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95280" y="5877000"/>
            <a:ext cx="6264360" cy="5806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The square of 4.0 is 16.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The square of 3.0 is 9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948360" y="4508640"/>
            <a:ext cx="29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cedures com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parâme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732720" y="1628640"/>
            <a:ext cx="223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: criar x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2: atribuir 3 a x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3: chama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WriteSquare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4: entra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procedimento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5: criar 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6: atribuir 4 a 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7: criar y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8: mostrar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948360" y="549360"/>
            <a:ext cx="1008360" cy="7920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020000" y="620640"/>
            <a:ext cx="86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093080" y="765000"/>
            <a:ext cx="1008000" cy="7923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164360" y="836640"/>
            <a:ext cx="86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55640" y="5013360"/>
            <a:ext cx="2232000" cy="287280"/>
          </a:xfrm>
          <a:prstGeom prst="rect">
            <a:avLst/>
          </a:prstGeom>
          <a:noFill/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556000" y="4653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bbe0e3"/>
                </a:solidFill>
                <a:latin typeface="Arial"/>
              </a:rPr>
              <a:t>em execu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11280" y="62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395280" y="571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1042920" y="571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1042920" y="1147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38200" y="57168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185840" y="57168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38200" y="57168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95280" y="858960"/>
            <a:ext cx="647640" cy="57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1042920" y="571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1690560" y="571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1690560" y="1147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185840" y="57168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833480" y="57168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185840" y="57168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2997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258920" y="62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42920" y="858960"/>
            <a:ext cx="647640" cy="57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1703520" y="57636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2351160" y="57636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351160" y="1152000"/>
            <a:ext cx="142920" cy="28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846440" y="57636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494080" y="57636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846440" y="57636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703520" y="863640"/>
            <a:ext cx="647640" cy="57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95280" y="5877000"/>
            <a:ext cx="23050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urier New"/>
              </a:rPr>
              <a:t>The square of 4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395280" y="1557360"/>
            <a:ext cx="6264360" cy="42310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#include &lt;stdio.h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float x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void WriteSquare(float 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{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float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y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printf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(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“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The suare of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%0.1f“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,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y = r*r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r = y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printf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(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“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is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%0.1fn“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,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y)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}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void main() {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x = 3.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WriteSquare(4.0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WriteSquare(x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95280" y="5877000"/>
            <a:ext cx="6264360" cy="5806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The square of 4.0 is 16.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The square of 3.0 is 9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948360" y="4508640"/>
            <a:ext cx="29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cedures com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parâme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732720" y="1628640"/>
            <a:ext cx="2411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: criar x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2: atribuir 3 a x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3: chama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WriteSquare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4: entra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procedimento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5: criar 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6: atribuir 4 a 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7: criar y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8: mostrar 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9: calcular expres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948360" y="549360"/>
            <a:ext cx="1008360" cy="7920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020000" y="620640"/>
            <a:ext cx="86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093080" y="765000"/>
            <a:ext cx="1008000" cy="7923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164360" y="836640"/>
            <a:ext cx="86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55640" y="5013360"/>
            <a:ext cx="2232000" cy="287280"/>
          </a:xfrm>
          <a:prstGeom prst="rect">
            <a:avLst/>
          </a:prstGeom>
          <a:noFill/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556000" y="4653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bbe0e3"/>
                </a:solidFill>
                <a:latin typeface="Arial"/>
              </a:rPr>
              <a:t>em execu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11280" y="62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395280" y="571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1042920" y="571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1042920" y="1147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8200" y="57168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185840" y="57168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38200" y="57168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95280" y="858960"/>
            <a:ext cx="647640" cy="57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1042920" y="571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1690560" y="571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1690560" y="1147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185840" y="57168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833480" y="57168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185840" y="57168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327024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258920" y="62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042920" y="858960"/>
            <a:ext cx="647640" cy="57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703520" y="57636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2351160" y="57636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2351160" y="1152000"/>
            <a:ext cx="142920" cy="28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846440" y="57636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494080" y="57636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846440" y="57636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703520" y="863640"/>
            <a:ext cx="647640" cy="57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979640" y="3357720"/>
            <a:ext cx="1224000" cy="337320"/>
          </a:xfrm>
          <a:prstGeom prst="rect">
            <a:avLst/>
          </a:prstGeom>
          <a:noFill/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bbe0e3"/>
                </a:solidFill>
                <a:latin typeface="Courier New"/>
              </a:rPr>
              <a:t>4*4 = 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258920" y="3273480"/>
            <a:ext cx="576360" cy="360360"/>
          </a:xfrm>
          <a:prstGeom prst="ellipse">
            <a:avLst/>
          </a:prstGeom>
          <a:noFill/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395280" y="1557360"/>
            <a:ext cx="6264360" cy="42310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#include &lt;stdio.h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float x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void WriteSquare(float 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{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float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y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printf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(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“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The suare of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%0.1f“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,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y = r*r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r = y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printf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(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“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is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%0.1fn“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,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y)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}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void main() {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x = 3.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WriteSquare(4.0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WriteSquare(x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95280" y="5877000"/>
            <a:ext cx="6264360" cy="5806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The square of 4.0 is 16.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The square of 3.0 is 9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948360" y="4508640"/>
            <a:ext cx="29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cedures com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parâme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732720" y="1628640"/>
            <a:ext cx="2411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: criar x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2: atribuir 3 a x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3: chama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WriteSquare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4: entra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procedimento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5: criar 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6: atribuir 4 a 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7: criar y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8: mostrar 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: calcular expressão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0: atribuir 16 a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948360" y="549360"/>
            <a:ext cx="1008360" cy="7920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020000" y="620640"/>
            <a:ext cx="86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093080" y="765000"/>
            <a:ext cx="1008000" cy="7923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164360" y="836640"/>
            <a:ext cx="86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55640" y="5013360"/>
            <a:ext cx="2232000" cy="287280"/>
          </a:xfrm>
          <a:prstGeom prst="rect">
            <a:avLst/>
          </a:prstGeom>
          <a:noFill/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556000" y="4653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bbe0e3"/>
                </a:solidFill>
                <a:latin typeface="Arial"/>
              </a:rPr>
              <a:t>em execu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11280" y="62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395280" y="571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1042920" y="571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1042920" y="1147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38200" y="57168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185840" y="57168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38200" y="57168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95280" y="858960"/>
            <a:ext cx="647640" cy="57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1042920" y="571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1690560" y="571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1690560" y="1147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185840" y="57168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33480" y="57168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185840" y="57168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3270240"/>
            <a:ext cx="5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258920" y="62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042920" y="858960"/>
            <a:ext cx="647640" cy="57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1703520" y="57636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2351160" y="57636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2351160" y="1152000"/>
            <a:ext cx="142920" cy="28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846440" y="57636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494080" y="57636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846440" y="57636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835280" y="62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619280" y="306360"/>
            <a:ext cx="430200" cy="316080"/>
          </a:xfrm>
          <a:custGeom>
            <a:avLst/>
            <a:gdLst/>
            <a:ahLst/>
            <a:rect l="l" t="t" r="r" b="b"/>
            <a:pathLst>
              <a:path w="226" h="318">
                <a:moveTo>
                  <a:pt x="0" y="0"/>
                </a:moveTo>
                <a:cubicBezTo>
                  <a:pt x="71" y="64"/>
                  <a:pt x="143" y="129"/>
                  <a:pt x="181" y="182"/>
                </a:cubicBezTo>
                <a:cubicBezTo>
                  <a:pt x="219" y="235"/>
                  <a:pt x="203" y="318"/>
                  <a:pt x="226" y="31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703520" y="863640"/>
            <a:ext cx="647640" cy="57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1258920" y="62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95280" y="1557360"/>
            <a:ext cx="6264360" cy="42310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#include &lt;stdio.h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float x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void WriteSquare(float 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{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float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y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printf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(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“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The suare of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%0.1f“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,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y = r*r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r = y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printf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(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“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is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%0.1fn“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,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y)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}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void main() {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x = 3.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WriteSquare(4.0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WriteSquare(x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95280" y="5877000"/>
            <a:ext cx="6264360" cy="5806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The square of 4.0 is 16.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The square of 3.0 is 9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8360" y="4508640"/>
            <a:ext cx="29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cedures com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parâme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732720" y="1628640"/>
            <a:ext cx="2411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: criar x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2: atribuir 3 a x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3: chama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WriteSquare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4: entra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procedimento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5: criar 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6: atribuir 4 a 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7: criar y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8: mostrar 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: calcular expressão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0: atribuir 16 a y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1: calcula expressão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e atribuir a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49360"/>
            <a:ext cx="1008360" cy="7920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20000" y="620640"/>
            <a:ext cx="86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093080" y="765000"/>
            <a:ext cx="1008000" cy="7923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164360" y="836640"/>
            <a:ext cx="86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55640" y="5013360"/>
            <a:ext cx="2232000" cy="287280"/>
          </a:xfrm>
          <a:prstGeom prst="rect">
            <a:avLst/>
          </a:prstGeom>
          <a:noFill/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556000" y="4653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bbe0e3"/>
                </a:solidFill>
                <a:latin typeface="Arial"/>
              </a:rPr>
              <a:t>em execu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11280" y="62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395280" y="571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1042920" y="571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1042920" y="1147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38200" y="57168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185840" y="57168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38200" y="57168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95280" y="858960"/>
            <a:ext cx="647640" cy="57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1042920" y="571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1690560" y="571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1690560" y="1147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185840" y="57168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833480" y="57168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185840" y="57168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350028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1703520" y="57636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2351160" y="57636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2351160" y="1152000"/>
            <a:ext cx="142920" cy="28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46440" y="57636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494080" y="57636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46440" y="57636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835280" y="62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703520" y="863640"/>
            <a:ext cx="647640" cy="57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971640" y="306360"/>
            <a:ext cx="430200" cy="316080"/>
          </a:xfrm>
          <a:custGeom>
            <a:avLst/>
            <a:gdLst/>
            <a:ahLst/>
            <a:rect l="l" t="t" r="r" b="b"/>
            <a:pathLst>
              <a:path w="226" h="318">
                <a:moveTo>
                  <a:pt x="0" y="0"/>
                </a:moveTo>
                <a:cubicBezTo>
                  <a:pt x="71" y="64"/>
                  <a:pt x="143" y="129"/>
                  <a:pt x="181" y="182"/>
                </a:cubicBezTo>
                <a:cubicBezTo>
                  <a:pt x="219" y="235"/>
                  <a:pt x="203" y="318"/>
                  <a:pt x="226" y="31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258920" y="692280"/>
            <a:ext cx="2887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187280" y="6206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042920" y="858960"/>
            <a:ext cx="647640" cy="57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395280" y="1557360"/>
            <a:ext cx="6264360" cy="42310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#include &lt;stdio.h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float x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void WriteSquare(float 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{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float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y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printf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(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“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The suare of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%0.1f“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,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y = r*r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r = y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printf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(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“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is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%0.1fn“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,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y)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}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void main() {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x = 3.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WriteSquare(4.0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WriteSquare(x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95280" y="5877000"/>
            <a:ext cx="6264360" cy="5806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The square of 4.0 is 16.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The square of 3.0 is 9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948360" y="4508640"/>
            <a:ext cx="29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cedures com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parâme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732720" y="1628640"/>
            <a:ext cx="2411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: criar x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2: atribuir 3 a x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3: chama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WriteSquare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4: entra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procedimento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5: criar 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6: atribuir 4 a 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7: criar y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8: mostrar 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: calcular expressão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0: atribuir 16 a y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1: calcula expressão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e atribuir a 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2: mostrar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948360" y="549360"/>
            <a:ext cx="1008360" cy="7920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020000" y="620640"/>
            <a:ext cx="86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093080" y="765000"/>
            <a:ext cx="1008000" cy="7923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164360" y="836640"/>
            <a:ext cx="86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55640" y="5013360"/>
            <a:ext cx="2232000" cy="287280"/>
          </a:xfrm>
          <a:prstGeom prst="rect">
            <a:avLst/>
          </a:prstGeom>
          <a:noFill/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556000" y="4653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bbe0e3"/>
                </a:solidFill>
                <a:latin typeface="Arial"/>
              </a:rPr>
              <a:t>em execu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11280" y="62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395280" y="571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1042920" y="571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1042920" y="1147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38200" y="57168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185840" y="57168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38200" y="57168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95280" y="858960"/>
            <a:ext cx="647640" cy="57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1042920" y="571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1690560" y="571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1690560" y="1147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185840" y="57168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3480" y="57168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185840" y="57168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371628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1703520" y="57636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2351160" y="57636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2351160" y="1152000"/>
            <a:ext cx="142920" cy="28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846440" y="57636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494080" y="57636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46440" y="57636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835280" y="62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703520" y="863640"/>
            <a:ext cx="647640" cy="57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187280" y="6206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042920" y="858960"/>
            <a:ext cx="647640" cy="57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627280" y="5877000"/>
            <a:ext cx="10810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urier New"/>
              </a:rPr>
              <a:t>is 16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395280" y="1557360"/>
            <a:ext cx="6264360" cy="42310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#include &lt;stdio.h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float x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void WriteSquare(float 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{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float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y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printf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(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“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The suare of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%0.1f“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,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y = r*r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r = y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printf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(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“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is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%0.1fn“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,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y)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}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void main() {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x = 3.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WriteSquare(4.0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WriteSquare(x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95280" y="5877000"/>
            <a:ext cx="6264360" cy="5806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The square of 4.0 is 16.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The square of 3.0 is 9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948360" y="4508640"/>
            <a:ext cx="29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cedures com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parâme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32720" y="1628640"/>
            <a:ext cx="2411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: criar x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2: atribuir 3 a x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3: chama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WriteSquare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4: entra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procedimento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5: criar 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6: atribuir 4 a 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7: criar y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8: mostrar 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: calcular expressão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0: atribuir 16 a y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1: calcula expressão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e atribuir a 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2: mostrar y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3: acabar proc. e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voltar ao pro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948360" y="549360"/>
            <a:ext cx="1008360" cy="7920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020000" y="620640"/>
            <a:ext cx="86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093080" y="765000"/>
            <a:ext cx="1008000" cy="7923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164360" y="836640"/>
            <a:ext cx="86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55640" y="5013360"/>
            <a:ext cx="2232000" cy="287280"/>
          </a:xfrm>
          <a:prstGeom prst="rect">
            <a:avLst/>
          </a:prstGeom>
          <a:noFill/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556000" y="4653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bbe0e3"/>
                </a:solidFill>
                <a:latin typeface="Arial"/>
              </a:rPr>
              <a:t>em execu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11280" y="62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395280" y="571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1042920" y="571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1042920" y="1147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38200" y="57168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185840" y="57168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38200" y="57168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95280" y="858960"/>
            <a:ext cx="647640" cy="57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1690560" y="571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1690560" y="1147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85840" y="57168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0" y="371628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2351160" y="57636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2351160" y="1152000"/>
            <a:ext cx="142920" cy="28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846440" y="57636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494080" y="57636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846440" y="57636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835280" y="62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703520" y="863640"/>
            <a:ext cx="647640" cy="57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187280" y="6206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042920" y="858960"/>
            <a:ext cx="647640" cy="57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0" y="495288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258920" y="476280"/>
            <a:ext cx="158436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6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6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0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7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0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gramação modula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32000" y="126828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odulos são pequenos programas dentro do programa. “Procedimentos e Funçõ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350028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em retorno</a:t>
            </a:r>
            <a:br>
              <a:rPr sz="1800"/>
            </a:br>
            <a:r>
              <a:rPr b="0" lang="pt-PT" sz="1800" spc="-1" strike="noStrike">
                <a:solidFill>
                  <a:srgbClr val="ff0000"/>
                </a:solidFill>
                <a:latin typeface="Courier New"/>
              </a:rPr>
              <a:t>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42861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m valor retornado</a:t>
            </a:r>
            <a:br>
              <a:rPr sz="1800"/>
            </a:br>
            <a:r>
              <a:rPr b="0" lang="pt-PT" sz="1800" spc="-1" strike="noStrike">
                <a:solidFill>
                  <a:srgbClr val="6600cc"/>
                </a:solidFill>
                <a:latin typeface="Courier New"/>
              </a:rPr>
              <a:t>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59280" y="285264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em parâme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64000" y="2565360"/>
            <a:ext cx="20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m parâmetros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input valo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16360" y="3429000"/>
            <a:ext cx="4535280" cy="15843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16360" y="4221000"/>
            <a:ext cx="4535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19640" y="3429000"/>
            <a:ext cx="0" cy="158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3645000"/>
            <a:ext cx="502920" cy="431640"/>
          </a:xfrm>
          <a:prstGeom prst="rect">
            <a:avLst/>
          </a:prstGeom>
          <a:solidFill>
            <a:srgbClr val="00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80000" y="4365720"/>
            <a:ext cx="502920" cy="4316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3645000"/>
            <a:ext cx="503280" cy="431640"/>
          </a:xfrm>
          <a:prstGeom prst="rect">
            <a:avLst/>
          </a:prstGeom>
          <a:solidFill>
            <a:srgbClr val="00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84720" y="4365720"/>
            <a:ext cx="503280" cy="4316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84720" y="4581360"/>
            <a:ext cx="358560" cy="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89800" y="4581360"/>
            <a:ext cx="358560" cy="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26160" y="4581360"/>
            <a:ext cx="358560" cy="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24360" y="3860640"/>
            <a:ext cx="35892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3284640"/>
            <a:ext cx="1008360" cy="1079280"/>
          </a:xfrm>
          <a:prstGeom prst="ellipse">
            <a:avLst/>
          </a:prstGeom>
          <a:noFill/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4211280" y="5157720"/>
            <a:ext cx="289080" cy="719280"/>
          </a:xfrm>
          <a:prstGeom prst="line">
            <a:avLst/>
          </a:prstGeom>
          <a:ln w="255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84720" y="5877000"/>
            <a:ext cx="1368360" cy="368280"/>
          </a:xfrm>
          <a:prstGeom prst="rect">
            <a:avLst/>
          </a:prstGeom>
          <a:noFill/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867280" y="4005360"/>
            <a:ext cx="1008360" cy="1079280"/>
          </a:xfrm>
          <a:prstGeom prst="ellipse">
            <a:avLst/>
          </a:prstGeom>
          <a:noFill/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64000" y="4005360"/>
            <a:ext cx="1008000" cy="1079280"/>
          </a:xfrm>
          <a:prstGeom prst="ellipse">
            <a:avLst/>
          </a:prstGeom>
          <a:noFill/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508720" y="5084280"/>
            <a:ext cx="576000" cy="792360"/>
          </a:xfrm>
          <a:prstGeom prst="line">
            <a:avLst/>
          </a:prstGeom>
          <a:ln w="255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5148360" y="4076280"/>
            <a:ext cx="718920" cy="1800360"/>
          </a:xfrm>
          <a:prstGeom prst="line">
            <a:avLst/>
          </a:prstGeom>
          <a:ln w="255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395280" y="1557360"/>
            <a:ext cx="6264360" cy="42310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#include &lt;stdio.h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float x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void WriteSquare(float 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{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float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y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printf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(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“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The suare of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%0.1f“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,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y = r*r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r = y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printf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(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“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is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%0.1fn“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,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y)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}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void main() {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x = 3.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WriteSquare(4.0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WriteSquare(x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95280" y="5877000"/>
            <a:ext cx="6264360" cy="5806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The square of 4.0 is 16.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The square of 3.0 is 9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948360" y="4508640"/>
            <a:ext cx="29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cedures com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parâme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732720" y="1628640"/>
            <a:ext cx="2411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: criar x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2: atribuir 3 a x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3: chama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WriteSquare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4: entra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procedimento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5: criar 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6: atribuir 4 a 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7: criar y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8: mostrar 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: calcular expressão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0: atribuir 16 a y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1: calcula expressão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e atribuir a 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2: mostrar y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3: acabar proc. e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voltar ao prog.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4: chamar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948360" y="549360"/>
            <a:ext cx="1008360" cy="7920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020000" y="620640"/>
            <a:ext cx="86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55640" y="5229360"/>
            <a:ext cx="2016000" cy="287280"/>
          </a:xfrm>
          <a:prstGeom prst="rect">
            <a:avLst/>
          </a:prstGeom>
          <a:noFill/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11280" y="62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395280" y="571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1042920" y="571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1042920" y="1147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38200" y="57168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38200" y="57168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95280" y="858960"/>
            <a:ext cx="647640" cy="57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0" y="515772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176480" y="581040"/>
            <a:ext cx="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8209080" y="6613560"/>
            <a:ext cx="93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Arial"/>
              </a:rPr>
              <a:t>T13_1.P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cedures com parâmetros sort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95280" y="692280"/>
            <a:ext cx="6553080" cy="37443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#include &lt;stdio.h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void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WriteNTimes(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float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r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,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int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n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/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* Will write n times the real r *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int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i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for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(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i=1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; i&lt;=n; i++)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printf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(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“%.3f”,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r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void mai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{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WriteNTimes(3.0, 4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427640" y="4365720"/>
            <a:ext cx="4537080" cy="10674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3.000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3.00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3.00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3.00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164360" y="4076640"/>
            <a:ext cx="16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4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508720" y="1773360"/>
            <a:ext cx="2089080" cy="1439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299280" y="1916280"/>
            <a:ext cx="720720" cy="433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867280" y="2022480"/>
            <a:ext cx="432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867280" y="2227320"/>
            <a:ext cx="432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580000" y="1844640"/>
            <a:ext cx="57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0000"/>
                </a:solidFill>
                <a:latin typeface="Arial"/>
              </a:rPr>
              <a:t>r</a:t>
            </a:r>
            <a:br>
              <a:rPr sz="1400"/>
            </a:br>
            <a:r>
              <a:rPr b="0" lang="pt-PT" sz="14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5940360" y="2492280"/>
          <a:ext cx="94320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0360" y="2492280"/>
                    <a:ext cx="9432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6" name=""/>
          <p:cNvSpPr/>
          <p:nvPr/>
        </p:nvSpPr>
        <p:spPr>
          <a:xfrm>
            <a:off x="6588000" y="2421000"/>
            <a:ext cx="92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r, r, ...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588000" y="2349360"/>
            <a:ext cx="0" cy="216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508720" y="1773360"/>
            <a:ext cx="2089080" cy="1439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rot="16200000">
            <a:off x="6968880" y="2398320"/>
            <a:ext cx="173160" cy="792000"/>
          </a:xfrm>
          <a:custGeom>
            <a:avLst/>
            <a:gdLst>
              <a:gd name="textAreaLeft" fmla="*/ 110520 w 173160"/>
              <a:gd name="textAreaRight" fmla="*/ 173520 w 17316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658200" y="2852640"/>
            <a:ext cx="79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0000"/>
                </a:solidFill>
                <a:latin typeface="Arial"/>
              </a:rPr>
              <a:t>n vez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8209080" y="6613560"/>
            <a:ext cx="93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Arial"/>
              </a:rPr>
              <a:t>T13_2.P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619280" y="1701720"/>
            <a:ext cx="561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Questão 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mo receber informação de um procedimen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556000" y="3141720"/>
            <a:ext cx="2952720" cy="7920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556000" y="314172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cedimento ‘GeraTexto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716360" y="3573360"/>
            <a:ext cx="1654200" cy="18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580000" y="31417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‘</a:t>
            </a: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Benfic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690560" y="4510080"/>
            <a:ext cx="51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um procedimento que gera textos manda um texto, por exemplo ‘Benfica’, ao códi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cedures com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output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va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403280" y="2421000"/>
            <a:ext cx="5688000" cy="155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FunctionName(parameter_list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variable_list&gt;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structions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260360" y="1301760"/>
            <a:ext cx="1729080" cy="54288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260360" y="130176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700360" y="1589040"/>
            <a:ext cx="107964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708360" y="2484360"/>
            <a:ext cx="1728720" cy="216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rameter_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258920" y="551664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a das instruções deve ser uma especificação do va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retornar (senão, o valor a retornar será aleatór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260360" y="652320"/>
            <a:ext cx="1729080" cy="54324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260360" y="65232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700360" y="939960"/>
            <a:ext cx="107964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68360" y="1660680"/>
            <a:ext cx="107928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211640" y="112536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unções com e sem parâme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411200" y="2414520"/>
            <a:ext cx="71280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ourier New"/>
              </a:rPr>
              <a:t>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258920" y="4797360"/>
            <a:ext cx="56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eclarar o tipo de informação a retorn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 rot="1972800">
            <a:off x="323280" y="2781360"/>
            <a:ext cx="1139760" cy="1871640"/>
          </a:xfrm>
          <a:custGeom>
            <a:avLst/>
            <a:gdLst/>
            <a:ahLst/>
            <a:rect l="l" t="t" r="r" b="b"/>
            <a:pathLst>
              <a:path w="1089" h="1497">
                <a:moveTo>
                  <a:pt x="817" y="0"/>
                </a:moveTo>
                <a:cubicBezTo>
                  <a:pt x="953" y="257"/>
                  <a:pt x="1089" y="514"/>
                  <a:pt x="1089" y="726"/>
                </a:cubicBezTo>
                <a:cubicBezTo>
                  <a:pt x="1089" y="938"/>
                  <a:pt x="998" y="1142"/>
                  <a:pt x="817" y="1270"/>
                </a:cubicBezTo>
                <a:cubicBezTo>
                  <a:pt x="636" y="1398"/>
                  <a:pt x="318" y="1447"/>
                  <a:pt x="0" y="1497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403280" y="3357720"/>
            <a:ext cx="568980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000000"/>
                </a:solidFill>
                <a:latin typeface="Courier New"/>
              </a:rPr>
              <a:t>return valo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211640" y="765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uma função retorna 1 (um) va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1258920" y="1484280"/>
            <a:ext cx="6264360" cy="1797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Courier New"/>
              </a:rPr>
              <a:t>float Square(float r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BR" sz="1600" spc="-1" strike="noStrike">
                <a:solidFill>
                  <a:srgbClr val="ffff00"/>
                </a:solidFill>
                <a:latin typeface="Courier New"/>
              </a:rPr>
              <a:t>/* retornara o quadrado do parametro r *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BR" sz="1600" spc="-1" strike="noStrike">
                <a:solidFill>
                  <a:srgbClr val="ffff00"/>
                </a:solidFill>
                <a:latin typeface="Courier New"/>
              </a:rPr>
              <a:t>r = r*r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BR" sz="1600" spc="-1" strike="noStrike">
                <a:solidFill>
                  <a:srgbClr val="ffff00"/>
                </a:solidFill>
                <a:latin typeface="Courier New"/>
              </a:rPr>
              <a:t>return (r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948360" y="4508640"/>
            <a:ext cx="29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emplo de uma fun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254240" y="3716280"/>
            <a:ext cx="6956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sar no programa princip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tribuição: </a:t>
            </a:r>
            <a:r>
              <a:rPr b="0" lang="pt-BR" sz="1800" spc="-1" strike="noStrike">
                <a:solidFill>
                  <a:srgbClr val="ff0000"/>
                </a:solidFill>
                <a:latin typeface="Courier New"/>
              </a:rPr>
              <a:t>y = Square(x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xpressão: </a:t>
            </a:r>
            <a:r>
              <a:rPr b="0" lang="pt-BR" sz="1800" spc="-1" strike="noStrike">
                <a:solidFill>
                  <a:srgbClr val="ff0000"/>
                </a:solidFill>
                <a:latin typeface="Courier New"/>
              </a:rPr>
              <a:t>y = 2.0*Square(x)+1.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sar em outros procedimentos: </a:t>
            </a:r>
            <a:r>
              <a:rPr b="0" lang="pt-BR" sz="1800" spc="-1" strike="noStrike">
                <a:solidFill>
                  <a:srgbClr val="ff0000"/>
                </a:solidFill>
                <a:latin typeface="Courier New"/>
              </a:rPr>
              <a:t>printf(“%0.1f”,Square(x));</a:t>
            </a:r>
            <a:br>
              <a:rPr sz="1800"/>
            </a:br>
            <a:r>
              <a:rPr b="0" lang="pt-BR" sz="1800" spc="-1" strike="noStrike">
                <a:solidFill>
                  <a:srgbClr val="ff0000"/>
                </a:solidFill>
                <a:latin typeface="Courier New"/>
              </a:rPr>
              <a:t>y = Square(Square(Square(3.0)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637080" y="652320"/>
            <a:ext cx="1728720" cy="54324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95640" y="692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076720" y="939960"/>
            <a:ext cx="107964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987640" y="981000"/>
            <a:ext cx="107964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698920" y="7081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227640" y="692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pt-PT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1258920" y="1484280"/>
            <a:ext cx="6842160" cy="37443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Courier New"/>
              </a:rPr>
              <a:t>#include &lt;stdio.h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Courier New"/>
              </a:rPr>
              <a:t>float x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Courier New"/>
              </a:rPr>
              <a:t>float Square(float r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BR" sz="1600" spc="-1" strike="noStrike">
                <a:solidFill>
                  <a:srgbClr val="ffff00"/>
                </a:solidFill>
                <a:latin typeface="Courier New"/>
              </a:rPr>
              <a:t>/* retornara o quadrado do parametro r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BR" sz="1600" spc="-1" strike="noStrike">
                <a:solidFill>
                  <a:srgbClr val="ffff00"/>
                </a:solidFill>
                <a:latin typeface="Courier New"/>
              </a:rPr>
              <a:t>r = r*r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BR" sz="1600" spc="-1" strike="noStrike">
                <a:solidFill>
                  <a:srgbClr val="ffff00"/>
                </a:solidFill>
                <a:latin typeface="Courier New"/>
              </a:rPr>
              <a:t>reurn (r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Courier New"/>
              </a:rPr>
              <a:t>void mai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BR" sz="1600" spc="-1" strike="noStrike">
                <a:solidFill>
                  <a:srgbClr val="ffff00"/>
                </a:solidFill>
                <a:latin typeface="Courier New"/>
              </a:rPr>
              <a:t>x = Square(4.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BR" sz="1600" spc="-1" strike="noStrike">
                <a:solidFill>
                  <a:srgbClr val="ffff00"/>
                </a:solidFill>
                <a:latin typeface="Courier New"/>
              </a:rPr>
              <a:t>printf(“x=%0.1f\n“, x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BR" sz="1600" spc="-1" strike="noStrike">
                <a:solidFill>
                  <a:srgbClr val="ffff00"/>
                </a:solidFill>
                <a:latin typeface="Courier New"/>
              </a:rPr>
              <a:t>printf(“%0.1f\n”, Square(Square(Square(3.0)):0: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948360" y="4508640"/>
            <a:ext cx="29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emplo de uma fun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37080" y="652320"/>
            <a:ext cx="1728720" cy="54324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995640" y="692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076720" y="939960"/>
            <a:ext cx="107964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987640" y="981000"/>
            <a:ext cx="107964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698920" y="7081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227640" y="692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pt-PT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258920" y="5300640"/>
            <a:ext cx="6842160" cy="5806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x=16.0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6561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8209080" y="6613560"/>
            <a:ext cx="93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Arial"/>
              </a:rPr>
              <a:t>T13_3.P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6948360" y="4508640"/>
            <a:ext cx="29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iferença entre matemática e infor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934920" y="3284640"/>
            <a:ext cx="1222560" cy="50472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934920" y="328464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165400" y="3456000"/>
            <a:ext cx="43020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03280" y="3355920"/>
            <a:ext cx="43164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669400" y="1647720"/>
            <a:ext cx="596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Uma função de matemática recebe um ou mais valores e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retorna um valor, por exemp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689200" y="3219480"/>
            <a:ext cx="608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Uma função de informática (PASCAL) recebe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zero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, um ou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ais valores e retorna um valor, por exemplo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FUNCTION Random: integ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690280" y="4514760"/>
            <a:ext cx="564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Uma função da linguagem C recebe zero, um ou mais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valores e retorna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zero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ou um valor, por exemplo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void ClearSc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2315880" cy="144936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/>
          <p:nvPr/>
        </p:nvSpPr>
        <p:spPr>
          <a:xfrm>
            <a:off x="503280" y="3500280"/>
            <a:ext cx="43164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03280" y="3645000"/>
            <a:ext cx="43164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934920" y="4581360"/>
            <a:ext cx="1222560" cy="50328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934920" y="458136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165400" y="4753080"/>
            <a:ext cx="43020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03280" y="4653000"/>
            <a:ext cx="43164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03280" y="4797360"/>
            <a:ext cx="43164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03280" y="4941720"/>
            <a:ext cx="43164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5867280" y="1989000"/>
                <a:ext cx="2448000" cy="41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547640" y="836640"/>
            <a:ext cx="604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Questão 3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orque usar procedimentos (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Procedures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Functions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>
            <a:off x="1908000" y="2133720"/>
            <a:ext cx="4876920" cy="175248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1835280" y="443700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rganização do programa (mais fácil a ler, mud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835280" y="4941720"/>
            <a:ext cx="52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ixas Negras (distribuir tarefas, copiar partes dos outras program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19280" y="1701720"/>
            <a:ext cx="561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Questão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mo passar informação a um procedimen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780000" y="3357720"/>
            <a:ext cx="2735280" cy="7920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335772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cedure ‘EscrevaTexto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700360" y="3789360"/>
            <a:ext cx="1654200" cy="144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90560" y="3573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‘</a:t>
            </a: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Benfic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90560" y="4510080"/>
            <a:ext cx="51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um procedimento que escreva textos recebe um texto, ‘Benfica’, a aperecer no ecrã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cedures com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parâme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08000" y="2644920"/>
            <a:ext cx="5185080" cy="155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procedurename(parametr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variable_list&gt;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struction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03640" y="876240"/>
            <a:ext cx="2232000" cy="79236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03640" y="8762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24000" y="1308240"/>
            <a:ext cx="107964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344840" y="2701800"/>
            <a:ext cx="1224000" cy="216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ourier New"/>
              </a:rPr>
              <a:t>paramet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11280" y="1996920"/>
            <a:ext cx="3097440" cy="36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arâmetros a passar aq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508720" y="2244600"/>
            <a:ext cx="144360" cy="432000"/>
          </a:xfrm>
          <a:custGeom>
            <a:avLst/>
            <a:gdLst/>
            <a:ahLst/>
            <a:rect l="l" t="t" r="r" b="b"/>
            <a:pathLst>
              <a:path w="91" h="272">
                <a:moveTo>
                  <a:pt x="0" y="0"/>
                </a:moveTo>
                <a:cubicBezTo>
                  <a:pt x="45" y="45"/>
                  <a:pt x="91" y="91"/>
                  <a:pt x="91" y="136"/>
                </a:cubicBezTo>
                <a:cubicBezTo>
                  <a:pt x="91" y="181"/>
                  <a:pt x="45" y="226"/>
                  <a:pt x="0" y="272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4908600"/>
            <a:ext cx="3961080" cy="36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Variáveis normais (locais) aq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859280" y="3468600"/>
            <a:ext cx="1403280" cy="1440000"/>
          </a:xfrm>
          <a:custGeom>
            <a:avLst/>
            <a:gdLst/>
            <a:ahLst/>
            <a:rect l="l" t="t" r="r" b="b"/>
            <a:pathLst>
              <a:path w="884" h="907">
                <a:moveTo>
                  <a:pt x="680" y="907"/>
                </a:moveTo>
                <a:cubicBezTo>
                  <a:pt x="782" y="665"/>
                  <a:pt x="884" y="423"/>
                  <a:pt x="771" y="272"/>
                </a:cubicBezTo>
                <a:cubicBezTo>
                  <a:pt x="658" y="121"/>
                  <a:pt x="329" y="60"/>
                  <a:pt x="0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95640" y="3108240"/>
            <a:ext cx="2663640" cy="649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variable_list&gt;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5661000"/>
            <a:ext cx="7201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finir os parâmetros: igual a definir as variáveis. Exemp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void ProcName(float x, char s[10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cedures com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parâme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1557360"/>
            <a:ext cx="6264360" cy="42310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#include &lt;stdio.h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float x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void WriteSquare(float 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{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float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y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printf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(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“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The suare of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%0.1f“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,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y = r*r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r = y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printf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(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“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is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%0.1fn“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,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y)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}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void main() {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x = 3.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WriteSquare(4.0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WriteSquare(x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7650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procedimento pode usar os parâmetros tal como se fossam variáveis norma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659640" y="357336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udar o va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637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ostrar o va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32720" y="3141720"/>
            <a:ext cx="24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sar numa expres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65120" y="3246480"/>
            <a:ext cx="576360" cy="3603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908000" y="3357720"/>
            <a:ext cx="4751640" cy="71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98480" y="3500280"/>
            <a:ext cx="576360" cy="3603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332000" y="3716280"/>
            <a:ext cx="5327640" cy="730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40360" y="2997360"/>
            <a:ext cx="576000" cy="3603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659640" y="4221000"/>
            <a:ext cx="208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Não é necessário inicializar-as</a:t>
            </a:r>
            <a:br>
              <a:rPr sz="1800"/>
            </a:b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(Porque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716360" y="2852280"/>
            <a:ext cx="2664000" cy="2890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5877000"/>
            <a:ext cx="6264360" cy="5806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The square of 4.0 is 16.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The square of 3.0 is 9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95280" y="1557360"/>
            <a:ext cx="6264360" cy="42310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#include &lt;stdio.h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float x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void WriteSquare(float 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{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float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y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printf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(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“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The suare of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%0.1f“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,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y = r*r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r = y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printf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(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“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is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%0.1fn“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,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r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)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}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void main() {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x = 3.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WriteSquare(4.0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WriteSquare(x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765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hamar o procedimento. 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Fornecer um valo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48360" y="4508640"/>
            <a:ext cx="29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4979880"/>
            <a:ext cx="6264360" cy="337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iteSquare(4.0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659640" y="443700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hamada com valor const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659640" y="508464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hamada com variá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4979880"/>
            <a:ext cx="6264360" cy="337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Square(4.0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5218200"/>
            <a:ext cx="6264360" cy="337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iteSquare(x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cedures com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parâme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5877000"/>
            <a:ext cx="6264360" cy="5806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The square of 4.0 is 16.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The square of 3.0 is 9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659640" y="574056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hamada com expres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95280" y="1557360"/>
            <a:ext cx="6264360" cy="42310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#include &lt;stdio.h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float x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void WriteSquare(float 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{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float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y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printf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(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“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The suare of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%0.1f“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,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y = r*r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r = y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printf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(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“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is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%0.1fn“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,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y)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}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void main() {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x = 3.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WriteSquare(4.0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WriteSquare(x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5280" y="5877000"/>
            <a:ext cx="6264360" cy="5806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The square of 4.0 is 16.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The square of 3.0 is 9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948360" y="4508640"/>
            <a:ext cx="29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O programa em anál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732720" y="1628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: criar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395280" y="571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1042920" y="571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1042920" y="1147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8200" y="57168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85840" y="57168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8200" y="571680"/>
            <a:ext cx="1440" cy="264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5280" y="858960"/>
            <a:ext cx="647640" cy="57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773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48360" y="549360"/>
            <a:ext cx="1008360" cy="7920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020000" y="620640"/>
            <a:ext cx="86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95280" y="5877000"/>
            <a:ext cx="6264360" cy="5806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The square of 4.0 is 16.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The square of 3.0 is 9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948360" y="4508640"/>
            <a:ext cx="29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cedures com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parâme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16286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: criar x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2: atribuir 3 a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480" y="47181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1280" y="62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306360"/>
            <a:ext cx="430200" cy="316080"/>
          </a:xfrm>
          <a:custGeom>
            <a:avLst/>
            <a:gdLst/>
            <a:ahLst/>
            <a:rect l="l" t="t" r="r" b="b"/>
            <a:pathLst>
              <a:path w="226" h="318">
                <a:moveTo>
                  <a:pt x="0" y="0"/>
                </a:moveTo>
                <a:cubicBezTo>
                  <a:pt x="71" y="64"/>
                  <a:pt x="143" y="129"/>
                  <a:pt x="181" y="182"/>
                </a:cubicBezTo>
                <a:cubicBezTo>
                  <a:pt x="219" y="235"/>
                  <a:pt x="203" y="318"/>
                  <a:pt x="226" y="31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948360" y="549360"/>
            <a:ext cx="1008360" cy="7920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020000" y="620640"/>
            <a:ext cx="86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395280" y="571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042920" y="571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1042920" y="1147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8200" y="57168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85840" y="57168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8200" y="57168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5280" y="858960"/>
            <a:ext cx="647640" cy="57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6264360" cy="42310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#include &lt;stdio.h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float x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void WriteSquare(float 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{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float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y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printf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(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“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The suare of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%0.1f“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,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y = r*r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r = y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printf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(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“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is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%0.1fn“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,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y)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}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void main() {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x = 3.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WriteSquare(4.0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WriteSquare(x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95280" y="5877000"/>
            <a:ext cx="6264360" cy="5806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The square of 4.0 is 16.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The square of 3.0 is 9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948360" y="4508640"/>
            <a:ext cx="29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cedures com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parâme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732720" y="162864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: criar x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2: atribuir 3 a x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3: chama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Write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3480" y="495288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948360" y="549360"/>
            <a:ext cx="1008360" cy="7920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020000" y="620640"/>
            <a:ext cx="86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093080" y="765000"/>
            <a:ext cx="1008000" cy="7923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164360" y="836640"/>
            <a:ext cx="86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11280" y="62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395280" y="571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1042920" y="571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042920" y="1147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8200" y="57168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85840" y="57168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8200" y="57168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5280" y="858960"/>
            <a:ext cx="647640" cy="57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" y="1557360"/>
            <a:ext cx="6264360" cy="42310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#include &lt;stdio.h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float x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void WriteSquare(float 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{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float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y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printf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(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“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The suare of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%0.1f“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,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y = r*r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r = y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printf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(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“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is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%0.1fn“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,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y)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}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void main() {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x = 3.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WriteSquare(4.0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WriteSquare(x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6T10:27:03Z</dcterms:created>
  <dc:creator>Peter Stallinga</dc:creator>
  <dc:description/>
  <dc:language>en-US</dc:language>
  <cp:lastModifiedBy>Peter Stallinga</cp:lastModifiedBy>
  <dcterms:modified xsi:type="dcterms:W3CDTF">2005-11-15T10:41:05Z</dcterms:modified>
  <cp:revision>433</cp:revision>
  <dc:subject/>
  <dc:title>Slide 1</dc:title>
</cp:coreProperties>
</file>