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A64-B193-4E27-A3BF-BCDD8788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0CB-3853-4938-8081-A6B8960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597-ACF1-430A-849A-3E3B4F1A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B19-70DA-429E-A280-216F7BE8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F54-05CD-4334-836C-18B9629F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04-B663-4F0C-9202-FE2D305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C9-D5C2-4A9B-B61F-C00A8304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FEE-EC99-46AC-B8E2-E321B33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441-1304-4274-8242-E1661969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209-9285-40D1-8BBE-6B1F16B2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443-EE1B-46A6-93F6-086513D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E95-0B9E-4409-83A1-C07AA88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6A2-CC38-40F2-AEFB-89263AE1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6: Programação recur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551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341316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ng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Fibonacci(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(n==1) || (n==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ibonacci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ibonacci = Fibonacci(n-2) + Fibonacci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5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197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1989000"/>
            <a:ext cx="3743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ibonn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19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ecursividad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35280" y="907920"/>
            <a:ext cx="15112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836640"/>
            <a:ext cx="77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ópia para cada nível de chamar (uma caixa nova cada ve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989000"/>
            <a:ext cx="626436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long int Factorial(long 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n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actorial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actorial = n*Factorial(n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8880" y="2637000"/>
            <a:ext cx="280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47660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7492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2256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22560" y="530172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7840" y="472608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784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4920" y="5013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42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3856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862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8620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112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91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112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856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480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9564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0920" y="4724280"/>
            <a:ext cx="64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3856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09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4473720"/>
            <a:ext cx="430200" cy="31572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1164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5928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5928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4560" y="472284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220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456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01012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708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22144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6908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86908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2144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3440" y="4473720"/>
            <a:ext cx="430200" cy="31572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32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3272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2840"/>
            <a:ext cx="64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564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28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501012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9132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06296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93640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32000" y="6165360"/>
            <a:ext cx="1447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005440" y="6165360"/>
            <a:ext cx="1429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443700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4437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3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3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4724280"/>
            <a:ext cx="1150920" cy="136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6360" y="472428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2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501336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50133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1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2000" y="5840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1989000"/>
            <a:ext cx="626436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long int Factorial(long 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n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actorial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actorial = n*Factorial(n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836640"/>
            <a:ext cx="77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ópia para cada nível de chamar (uma caixa nova cada ve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38880" y="2637000"/>
            <a:ext cx="280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47492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2256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22560" y="530172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7840" y="472608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548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784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5013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42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33856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862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8620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112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91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112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3856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3480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9564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9564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0920" y="4724280"/>
            <a:ext cx="64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3856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09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1164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5928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5928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472284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220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501012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2144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908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86908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2144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84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32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3272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4722840"/>
            <a:ext cx="64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564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47228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501012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19132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06296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93640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32000" y="6165360"/>
            <a:ext cx="1447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5440" y="6165360"/>
            <a:ext cx="1429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8720" y="443700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4437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3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3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4720" y="4724280"/>
            <a:ext cx="1150920" cy="136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472428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2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0720" y="501336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12000" y="50133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1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5840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  1  = 2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5516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2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5229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11280" y="6165720"/>
            <a:ext cx="122400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16000" y="1268280"/>
            <a:ext cx="712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tra um procedimento provoca a criação de uma cópia de todas as variáveis loc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air um procedimento causa a destruição de todas as variáveis loc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268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é recursivo quando está definido em termos de si pró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3132000" cy="3011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4365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está a chamar si pró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268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factorial desse número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por exemplo: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6! = 6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e um ciclo (qual tipo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413160"/>
            <a:ext cx="6264360" cy="2527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factorial(int 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returns n!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i, resul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sult = 1; // initialize the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or (i=1; i&lt;=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sult = i*resul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resul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1.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653000"/>
            <a:ext cx="2016000" cy="19447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98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efinição do factorial da matemát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4778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! = </a:t>
            </a: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-1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34936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quê não usar esta definição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notar que a definição é recursiva; o factorial está definido em termos de si próp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629160"/>
            <a:ext cx="6264360" cy="204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factorial(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returns n!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/ the value to be returned is ex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/  in terms of itsel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n*factorial(n-1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2.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4653000"/>
            <a:ext cx="2016000" cy="19447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9421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to nunca para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49360"/>
            <a:ext cx="6264360" cy="204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factorial(int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returns n!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/ the value to be returned is ex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/  in terms of itsel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n*factorial(n-1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924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b infin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4763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028960" cy="3390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229360"/>
            <a:ext cx="5329440" cy="6426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 de acabar/sair do ciclo recur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76500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factorial(int 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n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n*factorial(n-1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9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476360" cy="141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028960" cy="339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229360"/>
            <a:ext cx="5329440" cy="6426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 de acabar/sair do ciclo recur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78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 retorn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3.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268280"/>
            <a:ext cx="712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número Fibonacci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que segue a seguinta defin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414972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guarda os dois últimos números e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soma-os para gerar o novo númer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) Actualiz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) Continue (volta ao ponto 2) até chegar a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913280"/>
            <a:ext cx="660600" cy="576360"/>
          </a:xfrm>
          <a:custGeom>
            <a:avLst/>
            <a:gdLst/>
            <a:ahLst/>
            <a:rect l="l" t="t" r="r" b="b"/>
            <a:pathLst>
              <a:path w="416" h="363">
                <a:moveTo>
                  <a:pt x="416" y="363"/>
                </a:moveTo>
                <a:cubicBezTo>
                  <a:pt x="216" y="257"/>
                  <a:pt x="16" y="151"/>
                  <a:pt x="8" y="91"/>
                </a:cubicBezTo>
                <a:cubicBezTo>
                  <a:pt x="0" y="31"/>
                  <a:pt x="185" y="15"/>
                  <a:pt x="371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16000" y="414972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guarda os dois últimos números e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soma-os para gerar o novo númer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) Actualiz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) Continue (volta ao ponto 2) até chegar a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924280"/>
            <a:ext cx="626436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ng int fibonacci(long int n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ng int f, fa, fb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/* sementes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b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(i=3; i&lt;=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 = fa + fb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 = fb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b = 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turn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4.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197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2349360"/>
            <a:ext cx="23032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ibonn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7544E-006 L -2.5E-006 -0.49583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268280"/>
            <a:ext cx="712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número Fibonacci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que segue a seguinta defin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16000" y="4149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ecursividad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28T12:16:29Z</dcterms:modified>
  <cp:revision>511</cp:revision>
  <dc:subject/>
  <dc:title>Slide 1</dc:title>
</cp:coreProperties>
</file>