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953-8CBC-4AB5-ABBE-04E6897E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CC1-6F4C-474B-82AA-4863F954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1FB-276D-4031-98A6-9A9AF799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010-B232-47AF-9BBD-8DD2881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9FF-5D06-4932-AF5D-2BC6062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00F-1735-4845-AB2C-21EACDC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E32-66D4-4695-97E0-7A00CD11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6E9-AC5A-4F73-A050-0C660A83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7D3-02F1-413D-BB49-D9C9CA1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E6B-DF48-4E4E-9F54-224F706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DF9-A8B2-4C27-BE13-50A1A15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F5F-06AC-4E2E-B65A-FA9DD52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148-E5EE-46AC-A23B-77AD75CA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deec.fct.ualg.pt/PI_pjotr/" TargetMode="External"/><Relationship Id="rId2" Type="http://schemas.openxmlformats.org/officeDocument/2006/relationships/hyperlink" Target="http://www.adeec.fct.ualg.pt/PI_pjotr/" TargetMode="External"/><Relationship Id="rId3" Type="http://schemas.openxmlformats.org/officeDocument/2006/relationships/hyperlink" Target="http://www.adeec.fct.ualg.pt/PI_pjotr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44640"/>
            <a:ext cx="15494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1840" y="1844640"/>
            <a:ext cx="15494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1844640"/>
            <a:ext cx="15494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51640" y="1844640"/>
            <a:ext cx="15494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7280" y="1844640"/>
            <a:ext cx="15494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571920"/>
            <a:ext cx="13665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932280"/>
            <a:ext cx="136692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ES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989000"/>
            <a:ext cx="1366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366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637000"/>
            <a:ext cx="1366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1844640"/>
            <a:ext cx="1366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4149720"/>
            <a:ext cx="136692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I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2492280"/>
            <a:ext cx="136692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ESI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589720"/>
            <a:ext cx="936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5877000"/>
            <a:ext cx="936720" cy="287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v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6165720"/>
            <a:ext cx="93672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573360"/>
            <a:ext cx="136656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3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orário, Programação Imperativa. Ano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573360"/>
            <a:ext cx="136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80000" y="260280"/>
            <a:ext cx="338472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REGRAS DE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 avaliação da cadeira é num trabalho prático e um exame com peso 20% e 80% respectivam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 nota final deve ser igual ou superior a 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Quem não passa o exame de época normal pode fazer o exame de recurs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 parte prática não conta para o exame de recurso; o peso de exame de recurso é 100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ara estar admitido ao exame precisa uma nota da trabalho prático igual ou superior a 10. Os alunos com notas abaixo de 10 serão classificados "sem frequência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Os alunos com nota igual ou superior a 14 podem ser chamados para explicar os seus trabalh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abalhos copiados serão anul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s entregas de trabalhos práticos devem ser feitas em disquette 3.5" até uma semana antes do exa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s regras para os 'repetentes' (que foram no mínimo uma fez admitidos ao exame) são iguais às regras para os alunos novos (20%-80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lternativamente repetentes podem optar para uma nota apenas baseada no exame (100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89000"/>
            <a:ext cx="828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Apresentação,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Descrição e objectivos da cadeira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Noções introdutórias sobre computadores: tipos de computadores, componentes de um computador, características de um computador, sistema operativo, linguagens de programação, compiladores, programas de apl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Noções e utilização da Interne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Noções básicas de programação: constantes, variáveis, expressões, operadores, instrução de atribuição, instruções de input/output, funções pré-definida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Noções de programação estruturada: sequência, selecção, iteração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Instruções de selecção: if, if-else, swi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Instruções de iteração: ciclos for, while, do-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Funções (programação modular).Vectores e matrizes: arrays de uma e duas dimensõ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Caracteres e cadeias de caracteres. </a:t>
            </a:r>
            <a:r>
              <a:rPr b="0" i="1" lang="pt-PT" sz="1800" spc="-1" strike="noStrike">
                <a:solidFill>
                  <a:srgbClr val="cc0066"/>
                </a:solidFill>
                <a:latin typeface="Arial"/>
              </a:rPr>
              <a:t>Structs</a:t>
            </a: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 e definição de novos tipos de 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Recursiv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Noção de algoritmo. Algoritmos de ordenação simples. Algoritmo de pesquisa sequencial e de pesquisa binária.Apont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3300"/>
                </a:solidFill>
                <a:latin typeface="Arial"/>
              </a:rPr>
              <a:t>Passagem de parâ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cc0066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 / </a:t>
            </a:r>
            <a:r>
              <a:rPr b="0" i="1" lang="pt-PT" sz="1800" spc="-1" strike="noStrike">
                <a:solidFill>
                  <a:srgbClr val="cc0066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cc0066"/>
                </a:solidFill>
                <a:latin typeface="Arial"/>
              </a:rPr>
              <a:t> de fichei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0280" y="1629720"/>
            <a:ext cx="789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ntamentos dados nas aulas estarão disponíveis na webpage da cadei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deec.fct.ualg.pt/PI_pjot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rogramação com linguagem C", João Gonçalves, Edições Sílab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BN 972-618-088-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 C programming language", Brian W. Kernighan and Dennis M. Ritch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ntice Hall; ISBN: 0131103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s.strath.ac.uk/courses/c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skimo.com/~scs/cclass/notes/top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720" y="4046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69760" y="1197000"/>
            <a:ext cx="50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eter Stallinga, gab 2.78, pjo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ualg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-mails do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ot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yah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tr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: Quarta-feira 14:00-17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io Serendero, gab 2.63, pserende@ualg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varo Barradas, gab 2.57 abarra@ualg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7800" y="18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a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4680" y="436572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anunciar oportun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4:56:55Z</dcterms:created>
  <dc:creator>Peter Stallinga</dc:creator>
  <dc:description/>
  <dc:language>en-US</dc:language>
  <cp:lastModifiedBy>Peter Stallinga</cp:lastModifiedBy>
  <dcterms:modified xsi:type="dcterms:W3CDTF">2005-09-22T15:43:42Z</dcterms:modified>
  <cp:revision>12</cp:revision>
  <dc:subject/>
  <dc:title>Slide 1</dc:title>
</cp:coreProperties>
</file>