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261-4491-43DB-8E6A-8D45729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888-2090-440E-A336-4D03BB3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BB2-5734-4EA7-8894-08A0C55B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B8A-6A59-4A95-A7CD-1C012789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0A9-78EC-4FA9-A4B6-A62EB3E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E6C-FF46-4D9D-AC27-FB29E15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F67-1B4C-46CF-A028-D2B7AD98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25B-3872-43A9-BAFA-B360BBED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D34-E971-409C-9DAF-169546A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825-136C-4DB7-90A2-57268A0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5C6-1D31-4425-8F5D-C1456F1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6DD-2384-4533-9D9D-4B63B8F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D36C-0BD3-45C7-AC2B-AE816418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20: Fich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456000" cy="3427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7760" y="2276640"/>
            <a:ext cx="404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ibido fumar dentro da univers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 nas a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- nos cor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- nos b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 na b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ot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 Quarto passo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F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20606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close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781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apontador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645000"/>
            <a:ext cx="475308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 = fopen(“myfile.txt”, “w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printf(f, “%.2f”, 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clos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300640"/>
            <a:ext cx="5761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fechar um ficheiro (aberto para escrever) pode perder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482840" cy="153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08720" y="6381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0_1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76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unicação com ficheiros sempre consiste dos seguites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6959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Út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47640" y="112536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of(filehand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01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apontador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2780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eof (“end-of-file”) Uma função de C que retorna verdade (1) caso está a ler no fim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3351240"/>
            <a:ext cx="4753080" cy="58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hile (!feof(f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scanf(f, "%s"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1468440"/>
            <a:ext cx="475308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/* With File Outpu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ILE 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har s[100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("Name of File:\n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canf("%s"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 = fopen(s, "w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or (i=1; i&lt;=10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printf(f, "%d Ola", i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close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1468440"/>
            <a:ext cx="2592360" cy="580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Nome do Ficheir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S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692440"/>
            <a:ext cx="2592360" cy="252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6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7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8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9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0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08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ódig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108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ecr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414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ficheiro TEST.T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1_2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181160"/>
            <a:ext cx="4753080" cy="471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/* With File Inpu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ILE 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har s[100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("Name of File:\n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canf("%s"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 = fopen(s, "r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hile (!feof(f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scanf(f, "%s"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("%s\n"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close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286080"/>
            <a:ext cx="2592360" cy="1797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Name of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S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197000"/>
            <a:ext cx="2592360" cy="131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820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ódig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2925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ecr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62064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eúdo do ficheiro TEST.TXT antes de 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1_3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Út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112536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*fgets(char s1, int n, FILE *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er string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2205000"/>
            <a:ext cx="792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getc(FILE *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789360"/>
            <a:ext cx="777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puts(const char s1, FILE *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5157720"/>
            <a:ext cx="777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putc(char *s1, FILE *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25574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er um único caracter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149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screver string n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5832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screver único caracter n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cheiros do tipo 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157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r e escrever ficheiros do tipo 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65280" cy="227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2808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andos relacionados com fich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284560"/>
            <a:ext cx="457200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open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close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scanf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printf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eof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puts(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gets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putc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get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620640"/>
            <a:ext cx="73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meir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eclarar uma variável que vai guardar as informações do ficheiro, tal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nome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estado do ficheiro (fechado, aberto para ler, aberto para esc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 posição de leitura/escri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314172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filehand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005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handle: o nome da variável (não do fichei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: o tipo d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5084640"/>
            <a:ext cx="475308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ILE *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765000"/>
            <a:ext cx="734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egund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pecificar e abr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un-ti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na altura de correr o pr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13372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 = fopen(nome, mo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14172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apontador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string que contem o nome do ficheiro. constante ou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o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tring (especifique o tipo de abertura, ler escrev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24280"/>
            <a:ext cx="4753080" cy="106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 = fopen("myfile.txt", "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 = fopen("myoutput.txt", "w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609300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ficheiro estará aberto para ler ou escre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2000" y="4869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03080" y="4673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2000" y="556272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03440" y="536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sca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Terceir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2060640"/>
            <a:ext cx="54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canf(filehandle, formatstring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34290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apontador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ista de variáveis a ler. Exactamente igual a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scan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692280"/>
            <a:ext cx="129708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iference entr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canf(...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scanf(f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4151520" cy="214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0832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Terceir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06064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rintf(filehandle, formatstring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42900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apontador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ormatstring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icicação do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lista de informações a 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907920"/>
            <a:ext cx="1297080" cy="6480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iference entr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(...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(f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4680000" cy="2414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4608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2-06T17:09:51Z</dcterms:modified>
  <cp:revision>668</cp:revision>
  <dc:subject/>
  <dc:title>Slide 1</dc:title>
</cp:coreProperties>
</file>