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3ACB-CDB3-4ADB-AA4D-33D0F4B9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685-7071-4848-AECB-3D8CC8FE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113-1F25-43C5-B3DE-D5401CE1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8B7-E623-4718-A0B6-D704852D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27C-0805-4F3D-A041-116DB851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676-AFF1-485F-AF2C-2C0887F5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F09-A477-410A-BFEA-C363F7A0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8E0-884A-4C65-BE3B-95D261F1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42D-8D67-41CA-A207-A7ACC9CF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53A-12C2-4D74-8E2F-3384AB41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179-E09B-44A8-9930-E8BD5F58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1E9-0F4A-4367-950E-79A26535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82B9-0492-4D13-A25D-89F64305A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/ e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11280" y="907920"/>
            <a:ext cx="7993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 d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4130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3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1413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7080" y="1413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/2 = 1 +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7668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3 %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7668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1319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3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21319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4861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3 %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24861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2125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3/5 = 2 +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068640"/>
            <a:ext cx="7993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divisível por 3? Será que é posível determinar com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/ou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7280" y="3716280"/>
            <a:ext cx="1415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0 /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 /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2 /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3 /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4 /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5 /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6 /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7 /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13760" y="3716280"/>
            <a:ext cx="1415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0 %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 %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2 %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3 %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4 %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5 %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6 %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7 %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u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1454040"/>
            <a:ext cx="8353440" cy="3257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a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f (a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"a is equal to 1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"a is not equal to 0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4360" y="64468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8_1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84320" y="981000"/>
            <a:ext cx="46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 que será o output do seguinte program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5013360"/>
            <a:ext cx="324000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a is equal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19640" y="5037120"/>
            <a:ext cx="324000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a is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not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equal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51280" y="494172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472428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04000" y="1700280"/>
            <a:ext cx="14619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867280" y="4005360"/>
            <a:ext cx="144720" cy="9363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lgebra booleana com int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87280" y="981000"/>
          <a:ext cx="2039760" cy="1373040"/>
        </p:xfrm>
        <a:graphic>
          <a:graphicData uri="http://schemas.openxmlformats.org/drawingml/2006/table">
            <a:tbl>
              <a:tblPr/>
              <a:tblGrid>
                <a:gridCol w="649440"/>
                <a:gridCol w="649080"/>
                <a:gridCol w="741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&amp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3708360" y="1125360"/>
            <a:ext cx="1655640" cy="7855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≡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0 ≡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187280" y="2492280"/>
          <a:ext cx="1947960" cy="1373040"/>
        </p:xfrm>
        <a:graphic>
          <a:graphicData uri="http://schemas.openxmlformats.org/drawingml/2006/table">
            <a:tbl>
              <a:tblPr/>
              <a:tblGrid>
                <a:gridCol w="649440"/>
                <a:gridCol w="649080"/>
                <a:gridCol w="64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|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187280" y="3933720"/>
          <a:ext cx="2031840" cy="1373040"/>
        </p:xfrm>
        <a:graphic>
          <a:graphicData uri="http://schemas.openxmlformats.org/drawingml/2006/table">
            <a:tbl>
              <a:tblPr/>
              <a:tblGrid>
                <a:gridCol w="649440"/>
                <a:gridCol w="649080"/>
                <a:gridCol w="733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^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1547640" y="5516640"/>
          <a:ext cx="1298880" cy="823680"/>
        </p:xfrm>
        <a:graphic>
          <a:graphicData uri="http://schemas.openxmlformats.org/drawingml/2006/table">
            <a:tbl>
              <a:tblPr/>
              <a:tblGrid>
                <a:gridCol w="649440"/>
                <a:gridCol w="64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!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3564000" y="3719520"/>
            <a:ext cx="55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49 = 11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24 = 01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49 | 24 = 11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111001 = 1*32 + 1*16 + 1*8 + 0*4 + 0*2 + 1*1 = 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00720" y="4581360"/>
            <a:ext cx="1511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04000" y="45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. 1 | 0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73920" y="4784760"/>
            <a:ext cx="1162080" cy="323640"/>
          </a:xfrm>
          <a:custGeom>
            <a:avLst/>
            <a:gdLst/>
            <a:ahLst/>
            <a:rect l="l" t="t" r="r" b="b"/>
            <a:pathLst>
              <a:path w="732" h="204">
                <a:moveTo>
                  <a:pt x="732" y="99"/>
                </a:moveTo>
                <a:cubicBezTo>
                  <a:pt x="520" y="151"/>
                  <a:pt x="309" y="204"/>
                  <a:pt x="188" y="189"/>
                </a:cubicBezTo>
                <a:cubicBezTo>
                  <a:pt x="67" y="174"/>
                  <a:pt x="0" y="0"/>
                  <a:pt x="7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8040" y="1633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317520" y="3268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241200" y="44892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247320" y="5864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35280" y="2414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Exemplo:   49 |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64000" y="300348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49 = 1*32 + 1*16 + 0*8 + 0*4 + 0*2 + 1*1 = 11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24 = 0*32 + 1*16 + 1*8 + 0*4 + 0*2 + 0*1 = 011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u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187280" y="2703600"/>
          <a:ext cx="2039760" cy="1373040"/>
        </p:xfrm>
        <a:graphic>
          <a:graphicData uri="http://schemas.openxmlformats.org/drawingml/2006/table">
            <a:tbl>
              <a:tblPr/>
              <a:tblGrid>
                <a:gridCol w="649440"/>
                <a:gridCol w="649080"/>
                <a:gridCol w="741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amp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 rot="16200000">
            <a:off x="248040" y="4135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187280" y="4503600"/>
          <a:ext cx="2039760" cy="1373040"/>
        </p:xfrm>
        <a:graphic>
          <a:graphicData uri="http://schemas.openxmlformats.org/drawingml/2006/table">
            <a:tbl>
              <a:tblPr/>
              <a:tblGrid>
                <a:gridCol w="649440"/>
                <a:gridCol w="649080"/>
                <a:gridCol w="741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amp;&amp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6227640" y="2852640"/>
            <a:ext cx="2448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907920"/>
            <a:ext cx="792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 tipo boolean não existe em C. Em ve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0000"/>
                </a:solidFill>
                <a:latin typeface="Arial"/>
              </a:rPr>
              <a:t>0 ≡ FALSE</a:t>
            </a:r>
            <a:br>
              <a:rPr sz="1800"/>
            </a:br>
            <a:r>
              <a:rPr b="1" sz="1800" spc="-1" strike="noStrike">
                <a:solidFill>
                  <a:srgbClr val="00cc00"/>
                </a:solidFill>
                <a:latin typeface="Arial"/>
              </a:rPr>
              <a:t>Todos</a:t>
            </a:r>
            <a:r>
              <a:rPr b="0" sz="1800" spc="-1" strike="noStrike">
                <a:solidFill>
                  <a:srgbClr val="00cc00"/>
                </a:solidFill>
                <a:latin typeface="Arial"/>
              </a:rPr>
              <a:t> os outros valores ≡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08360" y="35672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TRUE 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08360" y="40705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08360" y="2852640"/>
            <a:ext cx="2448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&amp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2000" y="357336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0000000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1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--------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4797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0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2852640"/>
            <a:ext cx="2448000" cy="252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27640" y="2852640"/>
            <a:ext cx="2448000" cy="2521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43640" y="644688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8_2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804000" y="692280"/>
            <a:ext cx="14619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692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creve um programa que mostra ao aluno quais as disciplinas a fazer dependente do ano da matric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4920" y="1484280"/>
            <a:ext cx="6192720" cy="520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int ano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printf(“From what year are you?”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scanf(“%d”, &amp;ano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if (ano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printf(“primeiro ano: MAT-1, CALC-1”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if (ano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printf(“segundo ano: INF, LIN-ALG”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if (ano==3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printf(“terceiro ano: ELEC, FYS”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if (ano==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printf(“quarto ano: QUI, MAT-2”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if (ano==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printf(“quinto ano: PROJECTO”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printf(“&gt;5: AINDA NAO ACABOU?”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8900000">
            <a:off x="2411640" y="3683880"/>
            <a:ext cx="4321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Compl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04080" y="981000"/>
            <a:ext cx="4158360" cy="228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witch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express</a:t>
            </a:r>
            <a:r>
              <a:rPr b="0" lang="pt-PT" sz="1800" spc="-1" strike="noStrike">
                <a:solidFill>
                  <a:srgbClr val="ffffff"/>
                </a:solidFill>
                <a:latin typeface="Courier New"/>
              </a:rPr>
              <a:t>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case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 value1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: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instruction1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s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value2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: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instruction2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s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value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: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instruction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aul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instruction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50760" y="3824280"/>
            <a:ext cx="73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express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value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value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mesmo tipo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ontáve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Sim: integer, char, etc.. Não: string, floa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572000" y="4508280"/>
            <a:ext cx="0" cy="1152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3564000" y="3860640"/>
            <a:ext cx="1008000" cy="64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565440" y="3141360"/>
            <a:ext cx="0" cy="718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72000" y="1700280"/>
            <a:ext cx="0" cy="1008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24360" y="4941720"/>
            <a:ext cx="136836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pre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64000" y="1989000"/>
            <a:ext cx="208908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sto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73440" y="3284640"/>
            <a:ext cx="1655640" cy="43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564000" y="2708280"/>
            <a:ext cx="1008000" cy="433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572000" y="3860640"/>
            <a:ext cx="936720" cy="64800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508720" y="3141360"/>
            <a:ext cx="0" cy="718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284640"/>
            <a:ext cx="1655640" cy="43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2708280"/>
            <a:ext cx="936720" cy="43344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1690560" y="3860640"/>
            <a:ext cx="2881440" cy="64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692360" y="3141360"/>
            <a:ext cx="0" cy="718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3284640"/>
            <a:ext cx="1656000" cy="43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74920" y="40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valu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690560" y="2708280"/>
            <a:ext cx="2810160" cy="433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2144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val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572000" y="3860640"/>
            <a:ext cx="2809800" cy="64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7381800" y="3141360"/>
            <a:ext cx="0" cy="718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661080" y="3284640"/>
            <a:ext cx="1656000" cy="43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2708280"/>
            <a:ext cx="2809800" cy="433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48000" y="40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valu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48360" y="4076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valu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47640" y="907920"/>
            <a:ext cx="6193080" cy="478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int ano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printf(“From what year are you?”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scanf(“%d”, &amp;ano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switch (an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case 1: printf(“primeiro ano: MAT-1, CALC-1”)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        break;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case 2: printf(“segundo ano: INF, LIN-ALG”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 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reak;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case 3: printf(“terceiro ano: ELEC, FYS”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 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case 4: printf(“quarto ano: QUI, MAT-2”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 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case 5: printf(“quinto ano: PROJECTO”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 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default printf(“&gt;5: AINDA NAO ACABOU?”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8160" y="5013360"/>
            <a:ext cx="1365120" cy="18190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332000" y="6453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6600"/>
                </a:solidFill>
                <a:latin typeface="Courier New"/>
              </a:rPr>
              <a:t>Case .. of</a:t>
            </a:r>
            <a:r>
              <a:rPr b="0" lang="pt-PT" sz="1800" spc="-1" strike="noStrike">
                <a:solidFill>
                  <a:srgbClr val="006600"/>
                </a:solidFill>
                <a:latin typeface="Arial"/>
              </a:rPr>
              <a:t>: bifurcação múlti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Álgebra Boole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2130480" cy="25923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894960" y="3141720"/>
            <a:ext cx="746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George Boole (1815-1864):          O pai da lo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English mathematician. His work "The mathematical analysis of logic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(1847) established the basis of  modern mathematical logic, and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boolean algebra can be used in designing compu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Boole's system is essentially two-valued. This can be symboliz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0     or   1            "binary representation. C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TRUE  or FALSE     "truth representation. PASCAL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0 V   or  5 V           "TTL electronic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0 pC  or  1 pC          "the charge in a condensat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the elementary memory unit in  (dynamic) RA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flipV="1">
            <a:off x="971640" y="2276280"/>
            <a:ext cx="2592360" cy="865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/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620640"/>
            <a:ext cx="7993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divisível por 3? Será que é posível determinar com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/ou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49840" y="3716280"/>
            <a:ext cx="1415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/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 /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2 / 3 = 0</a:t>
            </a:r>
            <a:br>
              <a:rPr sz="1800"/>
            </a:b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/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4 /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5 / 3 = 1</a:t>
            </a:r>
            <a:br>
              <a:rPr sz="1800"/>
            </a:b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/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7 /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53560" y="3716280"/>
            <a:ext cx="1415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%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 %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2 % 3 = 2</a:t>
            </a:r>
            <a:br>
              <a:rPr sz="1800"/>
            </a:b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%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4 %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5 % 3 = 2</a:t>
            </a:r>
            <a:br>
              <a:rPr sz="1800"/>
            </a:b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%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7 %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10240" y="372888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10240" y="455436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10240" y="5372280"/>
            <a:ext cx="2872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18240" y="3860640"/>
            <a:ext cx="2160720" cy="9169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n % 3 = 0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br>
              <a:rPr sz="1800"/>
            </a:br>
            <a:r>
              <a:rPr b="0" i="1" lang="pt-P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é divisível po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97520" y="3933720"/>
            <a:ext cx="649440" cy="142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897520" y="4292280"/>
            <a:ext cx="64944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897520" y="4581000"/>
            <a:ext cx="64944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268280"/>
            <a:ext cx="0" cy="19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3141720"/>
            <a:ext cx="25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25892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547640" y="3017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2736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11932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41128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0036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98764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276720" y="303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64000" y="303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4040" y="284004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55276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226368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4320" y="19764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7560" y="16891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7560" y="140004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508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3284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4328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3284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1964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3068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9360" y="3068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1680" y="30560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43120" y="277956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48040" y="2781360"/>
            <a:ext cx="1425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278136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08200" y="24782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13120" y="24796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5080" y="24796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220500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270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2421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133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84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55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1413000"/>
            <a:ext cx="1224000" cy="368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3141720"/>
            <a:ext cx="5760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547640" y="2852280"/>
            <a:ext cx="287640" cy="2890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2852640"/>
            <a:ext cx="5760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413080" y="2563920"/>
            <a:ext cx="287280" cy="2887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276720" y="2276640"/>
            <a:ext cx="287280" cy="2887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00360" y="2565360"/>
            <a:ext cx="57636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1268280"/>
            <a:ext cx="0" cy="19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3141720"/>
            <a:ext cx="25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21964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508720" y="3017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78808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08004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37236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66108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94836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237440" y="303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524720" y="303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4760" y="284004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255276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226368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75040" y="197640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78280" y="16891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78280" y="140004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580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308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036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2944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1672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9308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61080" y="3068640"/>
            <a:ext cx="1425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40440" y="277956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32400" y="249228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03840" y="3068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08760" y="278136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0720" y="249228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68920" y="3068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3840" y="277956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5800" y="24796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53440" y="3068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270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2421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00720" y="2133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184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155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9640" y="1413000"/>
            <a:ext cx="1295640" cy="368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%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932360" y="2565000"/>
            <a:ext cx="576360" cy="5763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796000" y="2565000"/>
            <a:ext cx="576360" cy="5763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565360"/>
            <a:ext cx="287280" cy="5763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732720" y="2565360"/>
            <a:ext cx="503280" cy="5047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7440" y="2565360"/>
            <a:ext cx="287280" cy="5763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2565360"/>
            <a:ext cx="287280" cy="5763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227664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191628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1628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242100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24720" y="242100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3284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299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00720" y="299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6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/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2600280"/>
            <a:ext cx="934920" cy="973080"/>
          </a:xfrm>
          <a:custGeom>
            <a:avLst/>
            <a:gdLst/>
            <a:ahLst/>
            <a:rect l="l" t="t" r="r" b="b"/>
            <a:pathLst>
              <a:path w="589" h="613">
                <a:moveTo>
                  <a:pt x="0" y="613"/>
                </a:moveTo>
                <a:cubicBezTo>
                  <a:pt x="109" y="374"/>
                  <a:pt x="219" y="136"/>
                  <a:pt x="317" y="68"/>
                </a:cubicBezTo>
                <a:cubicBezTo>
                  <a:pt x="415" y="0"/>
                  <a:pt x="502" y="102"/>
                  <a:pt x="589" y="2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67640" y="3141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08360" y="3141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692360" y="765000"/>
            <a:ext cx="5616360" cy="368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n % m = 0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é divisível por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0320" y="1628640"/>
            <a:ext cx="53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determinar se um númer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par ou imp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2349360"/>
            <a:ext cx="8353440" cy="301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“Give a number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scanf(“%d”, &amp;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f ((</a:t>
            </a:r>
            <a:r>
              <a:rPr b="1" sz="1600" spc="-1" strike="noStrike">
                <a:solidFill>
                  <a:srgbClr val="ffff00"/>
                </a:solidFill>
                <a:latin typeface="Courier New"/>
              </a:rPr>
              <a:t>n % 2) == 0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“O numero n e par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“O numero n e impar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566100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determinar se um 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úmer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primo ....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.... aulas pr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/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0692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ula 8: </a:t>
            </a: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Álgebra boole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684680" cy="5950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076720" y="335772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am Shakespeare 1564-16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32360" y="5084640"/>
            <a:ext cx="39607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2==b) || (!(2==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lgebra boole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9079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lgebra booleana: Para combinar condi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700360" y="1700280"/>
                <a:ext cx="2376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124000" y="2781360"/>
            <a:ext cx="0" cy="23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4005360"/>
            <a:ext cx="28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26920" y="3068640"/>
            <a:ext cx="2594160" cy="1728720"/>
          </a:xfrm>
          <a:custGeom>
            <a:avLst/>
            <a:gdLst/>
            <a:ahLst/>
            <a:rect l="l" t="t" r="r" b="b"/>
            <a:pathLst>
              <a:path w="952" h="1277">
                <a:moveTo>
                  <a:pt x="0" y="1232"/>
                </a:moveTo>
                <a:cubicBezTo>
                  <a:pt x="170" y="616"/>
                  <a:pt x="340" y="0"/>
                  <a:pt x="499" y="7"/>
                </a:cubicBezTo>
                <a:cubicBezTo>
                  <a:pt x="658" y="14"/>
                  <a:pt x="869" y="1073"/>
                  <a:pt x="952" y="127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319040" y="3928680"/>
            <a:ext cx="1296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58960" y="3911760"/>
            <a:ext cx="126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471760" y="3911760"/>
            <a:ext cx="126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86120" y="3920760"/>
            <a:ext cx="126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335400" y="3911760"/>
            <a:ext cx="126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25560" y="3911760"/>
            <a:ext cx="126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1928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4149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6680" y="2781360"/>
            <a:ext cx="38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Não é possível calcular quando </a:t>
            </a: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no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interv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076720" y="4005000"/>
            <a:ext cx="27352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640480" y="3941280"/>
            <a:ext cx="126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080040" y="3924360"/>
            <a:ext cx="1296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792840" y="3924360"/>
            <a:ext cx="126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207200" y="3933360"/>
            <a:ext cx="126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656480" y="3924360"/>
            <a:ext cx="126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246640" y="3924360"/>
            <a:ext cx="126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7080" y="41623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40360" y="41623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41623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1080" y="41623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3080" y="41623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24720" y="41623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432480" y="3920760"/>
            <a:ext cx="126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00720" y="41590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51640" y="3801960"/>
            <a:ext cx="1582560" cy="21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4869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pt-PT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e         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pt-PT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lgebra boole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9079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lgebra booleana: Para combinar condi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27280" y="162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pt-PT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e         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pt-PT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2205000"/>
            <a:ext cx="8353440" cy="82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f (x&lt;2) 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if (x&gt;-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“Error!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3789360"/>
            <a:ext cx="8353440" cy="580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f ((x&lt;2) &amp;&amp; (x&gt;-2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(“Error!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4941720"/>
            <a:ext cx="79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ondição3 = condição1 &amp;&amp; condiçã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verdade cas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ondição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ondição2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mbas são ver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lgebra boole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9079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1773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nfica campeão? 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) número de pontos de Benfica é maior que qualquer outro club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) número de jogos = 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34624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equemate em xadrez? 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) O rei está em xequ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) O rei não consegue mover sem continuar estar em xe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1280" y="50468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ou admitido ao exame de PI? 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) Estou enscrito na disciplina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) Entreguei um trabalho com nota maior que 9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Truth Table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tabelas de verd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87280" y="981000"/>
          <a:ext cx="2039760" cy="1373040"/>
        </p:xfrm>
        <a:graphic>
          <a:graphicData uri="http://schemas.openxmlformats.org/drawingml/2006/table">
            <a:tbl>
              <a:tblPr/>
              <a:tblGrid>
                <a:gridCol w="649440"/>
                <a:gridCol w="649080"/>
                <a:gridCol w="741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&amp;&amp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3708360" y="1700280"/>
            <a:ext cx="50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ND: verdade cas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mbas ver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042920" y="2492280"/>
          <a:ext cx="2233800" cy="1373400"/>
        </p:xfrm>
        <a:graphic>
          <a:graphicData uri="http://schemas.openxmlformats.org/drawingml/2006/table">
            <a:tbl>
              <a:tblPr/>
              <a:tblGrid>
                <a:gridCol w="744480"/>
                <a:gridCol w="696960"/>
                <a:gridCol w="792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||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708360" y="2990880"/>
            <a:ext cx="50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R: verdade cas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ver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87280" y="3933720"/>
          <a:ext cx="2031840" cy="1373040"/>
        </p:xfrm>
        <a:graphic>
          <a:graphicData uri="http://schemas.openxmlformats.org/drawingml/2006/table">
            <a:tbl>
              <a:tblPr/>
              <a:tblGrid>
                <a:gridCol w="649440"/>
                <a:gridCol w="649080"/>
                <a:gridCol w="733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OR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3710160" y="4175280"/>
            <a:ext cx="5038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OR (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OR): verdade cas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verdade mas não am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Não existe em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547640" y="5516640"/>
          <a:ext cx="1298520" cy="823680"/>
        </p:xfrm>
        <a:graphic>
          <a:graphicData uri="http://schemas.openxmlformats.org/drawingml/2006/table">
            <a:tbl>
              <a:tblPr/>
              <a:tblGrid>
                <a:gridCol w="649440"/>
                <a:gridCol w="649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3708360" y="5667480"/>
            <a:ext cx="50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T: o inverso d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620640"/>
            <a:ext cx="8353440" cy="2801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a = 1;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int b = -2;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int c = 3;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int d = 3;</a:t>
            </a:r>
            <a:br>
              <a:rPr sz="1600"/>
            </a:b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if (a&gt;0)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printf(“VERDADE”);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else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intf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ALSA”);</a:t>
            </a:r>
            <a:br>
              <a:rPr sz="1600"/>
            </a:b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24360" y="537372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573264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24360" y="609300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ER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24360" y="357336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ER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393228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429264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24360" y="465300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ER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24360" y="501336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ER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537372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! (a&g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573264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!(a&gt;0)) || (b&g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609300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2==b) || (! (2==b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357336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a&g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93228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b&g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5640" y="429264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a&gt;0) &amp;&amp; (b&g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465300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a&gt;0) || (b&g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501336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a&gt;0) XOR (b&g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40360" y="4724280"/>
            <a:ext cx="266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To be or not to be. That is the questio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The answer, my friend, is 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88000" y="57340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R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0-30T19:17:22Z</dcterms:modified>
  <cp:revision>290</cp:revision>
  <dc:subject/>
  <dc:title>Slide 1</dc:title>
</cp:coreProperties>
</file>