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EB3-6063-4F08-8BC9-6294D9DF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9B6-684F-4379-892B-BB8D3CDB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733-3115-4885-9C6E-7DA32B27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B25-EC60-4F16-89DE-5EC26E71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AA7-9627-46F5-B55E-4EB217D9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DE7-53FA-444C-9BE4-68DC4E9F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CCF-0C47-4C5E-BBF2-8E2B6899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4A0-BEBB-4452-B454-6FA991F4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FFC-0F96-4A68-9E0D-E885E946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2E4-0EAA-4344-96AD-9EE64CD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F3E-F84D-441B-9904-36E1660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C2A-509F-49A3-B10C-191F251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D0A1-C952-4BD4-8BD0-A7ED7AA4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9: Novos 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5661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hardware: monitor with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765000"/>
            <a:ext cx="5904000" cy="520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hour, minute, 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ShowTime(time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Vai mostrar o tempo no formato h:m.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d:%d.%d", t.hour, t.minu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.secon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ime a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time.hour = 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time.minute = 1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time.second = 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ShowTime(ati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1341360"/>
            <a:ext cx="2303280" cy="642600"/>
          </a:xfrm>
          <a:prstGeom prst="rect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 nov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2211480"/>
            <a:ext cx="2303280" cy="916920"/>
          </a:xfrm>
          <a:prstGeom prst="rect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arâmetro desta função é do novo tipo. Um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219480"/>
            <a:ext cx="2303280" cy="642600"/>
          </a:xfrm>
          <a:prstGeom prst="rect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ceder aos campos d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4011480"/>
            <a:ext cx="2448000" cy="642600"/>
          </a:xfrm>
          <a:prstGeom prst="rect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a variável do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803840"/>
            <a:ext cx="2303280" cy="642600"/>
          </a:xfrm>
          <a:prstGeom prst="rect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ceder aos campos d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5595840"/>
            <a:ext cx="2448000" cy="642600"/>
          </a:xfrm>
          <a:prstGeom prst="rect">
            <a:avLst/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r a struct à fu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5589360"/>
            <a:ext cx="3745080" cy="215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987280" y="5157360"/>
            <a:ext cx="3529080" cy="71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280" y="4365720"/>
            <a:ext cx="432108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708000" y="2997360"/>
            <a:ext cx="2808360" cy="576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132000" y="2205000"/>
            <a:ext cx="3384720" cy="432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924000" y="1484280"/>
            <a:ext cx="2592360" cy="216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765000"/>
            <a:ext cx="5904000" cy="593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d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on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hou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in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ime dat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ate dat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dateand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ateandtime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.dattime.hour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é um struct que contem dois campos.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campo chama-se dattime o que é um str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e três campos. Um destes campos é h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1341360"/>
            <a:ext cx="2303280" cy="302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134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an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1700280"/>
            <a:ext cx="194292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2997360"/>
            <a:ext cx="1942920" cy="12236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1989000"/>
            <a:ext cx="144000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227808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256536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328464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357336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3860640"/>
            <a:ext cx="158436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443640" y="54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no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6600cc"/>
                </a:solidFill>
                <a:latin typeface="Courier New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29894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tim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hou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inu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secon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16938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da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y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onth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ye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4292640"/>
            <a:ext cx="24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é uma struct que contem dois cam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campo chama-s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atti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 que é uma struct de três camp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destes campos é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16720" y="1341360"/>
            <a:ext cx="2303280" cy="302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:datean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720" y="1700280"/>
            <a:ext cx="194292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2997360"/>
            <a:ext cx="1942920" cy="12236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1989000"/>
            <a:ext cx="144000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227808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48360" y="256536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328464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357336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860640"/>
            <a:ext cx="158436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54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no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6600cc"/>
                </a:solidFill>
                <a:latin typeface="Courier New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9894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tim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hou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inu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secon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16938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da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y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onth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ye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765000"/>
            <a:ext cx="5904000" cy="593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d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on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ye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hou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in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ime dat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ate dat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dateand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ateandtime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.dattime.hour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é um struct que contem dois campos.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campo chama-se dattime o que é um str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e três campos. Um destes campos é h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sum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981000"/>
            <a:ext cx="6912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eclarar nov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ruturaçã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ecialmente em relação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struct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um novo tipo não é igual à declaração de uma variável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(uma definição de um tipo não gasta a memó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novo tipo é definido em termos de tipos já conhecid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tipos básic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array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struct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novos 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819000"/>
            <a:ext cx="620640" cy="623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4452840"/>
            <a:ext cx="626760" cy="627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4000" y="2530440"/>
            <a:ext cx="623880" cy="62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50920" y="3451320"/>
            <a:ext cx="620640" cy="623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50920" y="1682640"/>
            <a:ext cx="6206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r novos tipo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805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 definir novos tipos de caix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95640" y="3716280"/>
            <a:ext cx="1193760" cy="120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119376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407988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835280" y="3784680"/>
            <a:ext cx="11998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227640" y="2131920"/>
            <a:ext cx="119376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476360" y="2276640"/>
            <a:ext cx="11937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Syn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907920"/>
            <a:ext cx="5041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descrição novo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3213000"/>
            <a:ext cx="5759280" cy="2562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typedef float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def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float floatarray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har name[2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float 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real width, he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 mystru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484280"/>
            <a:ext cx="66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typede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palavra de C para indicar que segue um bloco de código com definições de novos t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novotip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a nossa escolha de nome 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escr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a descrição em termos de tipos já conhe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3068640"/>
            <a:ext cx="2266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a quem gosta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escrição pode ser um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u um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43280" y="3284640"/>
            <a:ext cx="2160720" cy="144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003640" y="3933720"/>
            <a:ext cx="18734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00720" y="4941720"/>
            <a:ext cx="23032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17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Av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268280"/>
            <a:ext cx="6191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Definir um novo tipo não é igual a declarar uma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502080"/>
            <a:ext cx="5759640" cy="1465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typedef float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al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= 3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844720" y="2997360"/>
            <a:ext cx="3024360" cy="28080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4720" y="3357720"/>
            <a:ext cx="3240000" cy="23763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1943280" cy="20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61578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um novo tipo é uma especificação ao compilador de um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Av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1268280"/>
            <a:ext cx="6191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Definir um novo tipo não é igual a declarar uma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3933720"/>
            <a:ext cx="5759640" cy="1739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typedef float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eal</a:t>
            </a:r>
            <a:r>
              <a:rPr b="1" sz="1800" spc="-1" strike="noStrike">
                <a:solidFill>
                  <a:srgbClr val="ffff00"/>
                </a:solidFill>
                <a:latin typeface="Courier New"/>
              </a:rPr>
              <a:t> 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f = 3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1943280" cy="20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61578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um novo tipo é uma especificação ao compilador de um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476280"/>
            <a:ext cx="50418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descrição novo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ovotipo no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ome = va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557360"/>
            <a:ext cx="5759640" cy="5031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ypedef float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real 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ypedef float floatarray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floatarray 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ra[1] = 2.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ypedef float ra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ra[1] = 2.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char nam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float 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real width, he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} mystru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mystruct mydata[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mydata[23].length = 3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907920"/>
            <a:ext cx="50418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descrição novo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ovotipo no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ome = va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033640"/>
            <a:ext cx="5761080" cy="1465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char nam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float 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real width, he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} mystru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013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l o tamanho da memória que 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cu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3672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0 (zero) porqu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tipo e não um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907920"/>
            <a:ext cx="50418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descrição novo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ovotipo no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ome = va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033640"/>
            <a:ext cx="5761080" cy="2288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har nam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float 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real width, he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 mystru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mystruct mydata[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mydata[23].length = 3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5013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l o tamanho da memória que 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cu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53672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0 (zero) porqu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tipo e não um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5732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l o tamanho da memória que 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dat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cu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6086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0 x (10 + 4 + 4 + 4) = 2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38200"/>
            <a:ext cx="7129440" cy="6177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lcude &lt;stdio.h&gt;           /* with typedef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ypedef int ra[6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a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y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AreEqual(ra 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Nota que o novo tipo pode també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usado para os parametro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r[0]==r[1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[0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[1]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d\n", AreEqual(x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[0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[1]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A seguinta linha de código não 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bom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d\n", AreEqual(y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3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16720" y="836640"/>
            <a:ext cx="230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 nov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2492280"/>
            <a:ext cx="2303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arâmetro desta função é do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1557360"/>
            <a:ext cx="244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a variável do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789360"/>
            <a:ext cx="244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r o array à fu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24000" y="4149720"/>
            <a:ext cx="2592360" cy="863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402920" y="1483920"/>
            <a:ext cx="5040360" cy="2890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916360" y="2204640"/>
            <a:ext cx="3456000" cy="647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059280" y="1125360"/>
            <a:ext cx="3457440" cy="730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2-12T12:08:06Z</dcterms:modified>
  <cp:revision>601</cp:revision>
  <dc:subject/>
  <dc:title>Slide 1</dc:title>
</cp:coreProperties>
</file>