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9800-A0E9-4DDE-8CFB-348214CB9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D68B-C140-4F44-9B08-FE939A0A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09A7-E857-44EB-9D56-8572B58A7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08D5-7DAA-4527-B5DA-F752D2EE1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57F9-D583-46BA-933A-7B544B96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429A-E768-43D3-B2DA-02EFD366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5457-74D3-4B12-8A34-3FE3A58E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9FFA-C178-4749-AF47-608E256E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D25E-76DC-49D9-AD04-05654B9A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9AB4-F045-48AF-A1B0-59692624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32E9-6BA4-4425-B3FF-13C2E83D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66F1-3641-4FE9-A1B0-34B65887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C0E7-3061-44B0-BD7B-19C2F48E6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5111640" cy="39258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0" y="907920"/>
            <a:ext cx="9144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la 10: Ciclos 2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while e do-w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Programação Impera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paração dos três cic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76720" y="1341360"/>
            <a:ext cx="2735280" cy="20908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203640" y="404640"/>
            <a:ext cx="0" cy="645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00720" y="404640"/>
            <a:ext cx="0" cy="645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64000" y="549360"/>
            <a:ext cx="237492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48000" y="4581360"/>
            <a:ext cx="2735280" cy="1159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while (x</a:t>
            </a: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&lt;=10</a:t>
            </a: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.0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{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printf("%</a:t>
            </a: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f</a:t>
            </a: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", </a:t>
            </a: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x</a:t>
            </a: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);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x = x + 0.1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;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6237360"/>
            <a:ext cx="828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programa, uma vez compilados, são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totalmente igu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49360"/>
            <a:ext cx="237492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o-w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877080" y="1197000"/>
            <a:ext cx="1887480" cy="2879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373800" y="4581360"/>
            <a:ext cx="2735280" cy="1585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if (x&lt;=10.0)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do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{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printf("%</a:t>
            </a: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f</a:t>
            </a: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", </a:t>
            </a: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x</a:t>
            </a: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);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x = x + 0.1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;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}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while (x</a:t>
            </a: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&lt;=10</a:t>
            </a: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.0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paração dos três cic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76720" y="1341360"/>
            <a:ext cx="2735280" cy="2090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203640" y="404640"/>
            <a:ext cx="0" cy="645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00720" y="404640"/>
            <a:ext cx="0" cy="645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4000" y="549360"/>
            <a:ext cx="237492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48000" y="4581360"/>
            <a:ext cx="2735280" cy="1372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printf("%</a:t>
            </a: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f</a:t>
            </a: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", </a:t>
            </a: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x</a:t>
            </a: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);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while (x</a:t>
            </a: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&lt;=10</a:t>
            </a: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.0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{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printf("%</a:t>
            </a: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f</a:t>
            </a: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", </a:t>
            </a: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x</a:t>
            </a: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);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x = x + 0.1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;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6237360"/>
            <a:ext cx="828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Os programa, uma vez compilados, são totalmente igu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16720" y="549360"/>
            <a:ext cx="237492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o-w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877080" y="1197000"/>
            <a:ext cx="1887480" cy="28796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408720" y="4581360"/>
            <a:ext cx="2735280" cy="1372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do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{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printf("%</a:t>
            </a: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f</a:t>
            </a: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", </a:t>
            </a: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x</a:t>
            </a: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);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x = x + 0.1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;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}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while (x</a:t>
            </a: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&lt;=10</a:t>
            </a: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.0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paração dos três cic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276720" y="1341360"/>
            <a:ext cx="2735280" cy="20908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203640" y="404640"/>
            <a:ext cx="0" cy="645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00720" y="404640"/>
            <a:ext cx="0" cy="645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549360"/>
            <a:ext cx="237492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64000" y="549360"/>
            <a:ext cx="237492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16720" y="549360"/>
            <a:ext cx="237492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o-w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4437000"/>
            <a:ext cx="230328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ntá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88000" y="5052960"/>
            <a:ext cx="230364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no mínimo 1 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5877000"/>
            <a:ext cx="784872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s três ciclos são iguais. A diferênça é apenas o sintax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Legibilidade do program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80000" y="4437000"/>
            <a:ext cx="230328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não contá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89800" y="4437000"/>
            <a:ext cx="230328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não contá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2455920" cy="2881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877080" y="1197000"/>
            <a:ext cx="18874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Nesting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dos cic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39640" y="692280"/>
          <a:ext cx="3200400" cy="98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92280"/>
                    <a:ext cx="3200400" cy="98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859280" y="981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da ciclo com variável de controlo próp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2060640"/>
            <a:ext cx="3529080" cy="946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for (i=1; i&lt;=10; i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for (k=1; k&lt;=10; k++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for (k=1; k&lt;=10; k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       </a:t>
            </a: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printf("%d", 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39640" y="3860640"/>
          <a:ext cx="3645000" cy="112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3860640"/>
                    <a:ext cx="3645000" cy="11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4932360" y="4076640"/>
            <a:ext cx="37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da ciclo completamente dentro do outro ciclo (deve começar e acabar dentre do cicl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5157720"/>
            <a:ext cx="3529080" cy="1585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for (i=1; i&lt;=10; i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x = 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x = x+0.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while (x&lt;2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50028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932360" y="532116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compilador não aceita isso (felizmente)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om estruturação (indentação) vai evitar is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iclos 2: while e do-w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907920"/>
            <a:ext cx="79930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s ciclos </a:t>
            </a:r>
            <a:r>
              <a:rPr b="1" lang="pt-PT" sz="1800" spc="-1" strike="noStrike">
                <a:solidFill>
                  <a:srgbClr val="ff0000"/>
                </a:solidFill>
                <a:latin typeface="Courier New"/>
              </a:rPr>
              <a:t>whil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PT" sz="1800" spc="-1" strike="noStrike">
                <a:solidFill>
                  <a:srgbClr val="ff0000"/>
                </a:solidFill>
                <a:latin typeface="Courier New"/>
              </a:rPr>
              <a:t>do-whil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são para repetir coisas numa maneira </a:t>
            </a: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não contá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74920" y="2205000"/>
            <a:ext cx="0" cy="3745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85840" y="2924280"/>
            <a:ext cx="2089080" cy="23050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042920" y="4005000"/>
            <a:ext cx="144360" cy="142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1186920" y="4005000"/>
            <a:ext cx="142920" cy="142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09840" y="3860640"/>
            <a:ext cx="1800360" cy="43200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stru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32000" y="5790600"/>
            <a:ext cx="142920" cy="144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274200" y="5792400"/>
            <a:ext cx="142920" cy="142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32000" y="3714120"/>
            <a:ext cx="142920" cy="144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274200" y="3715920"/>
            <a:ext cx="142920" cy="142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2419200"/>
            <a:ext cx="142920" cy="14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274200" y="2420640"/>
            <a:ext cx="142920" cy="142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435640" y="2924280"/>
            <a:ext cx="2343240" cy="2047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03640" y="2565360"/>
            <a:ext cx="3313440" cy="302436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076720" y="3024360"/>
            <a:ext cx="3168720" cy="256536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while,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12760" y="1844640"/>
            <a:ext cx="23752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(</a:t>
            </a:r>
            <a:r>
              <a:rPr b="0" i="1" lang="en-US" sz="1800" spc="-1" strike="noStrike">
                <a:solidFill>
                  <a:srgbClr val="ffffff"/>
                </a:solidFill>
                <a:latin typeface="Courier New"/>
              </a:rPr>
              <a:t>condição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Courier New"/>
              </a:rPr>
              <a:t>instruction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148360" y="1125360"/>
            <a:ext cx="3600360" cy="2752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26920" y="4581360"/>
            <a:ext cx="64090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ai executar a instrução até condição é fal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condição é verificada no início do ciclo (0 vezes instruçã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dição é, tal como sempre, uma expressão que dá um valor do tipo verdadeira/falsa (em C: intei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while, ex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6920" y="907920"/>
            <a:ext cx="3529080" cy="265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mai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// while examp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float 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x = 0.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while (x&lt;=1.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printf("%0.1f\n", x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x = x + 0.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7640" y="4149720"/>
            <a:ext cx="4275720" cy="642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s temos de iniciar o nosso variável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rolo: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x = 0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588000" y="3789360"/>
            <a:ext cx="1438560" cy="2770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0.0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0.1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0.2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0.3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0.4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0.5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0.6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0.7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0.8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0.9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720" y="404640"/>
            <a:ext cx="0" cy="645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2133720"/>
            <a:ext cx="720720" cy="2087280"/>
          </a:xfrm>
          <a:custGeom>
            <a:avLst/>
            <a:gdLst/>
            <a:ahLst/>
            <a:rect l="l" t="t" r="r" b="b"/>
            <a:pathLst>
              <a:path w="454" h="1315">
                <a:moveTo>
                  <a:pt x="454" y="0"/>
                </a:moveTo>
                <a:cubicBezTo>
                  <a:pt x="272" y="253"/>
                  <a:pt x="90" y="506"/>
                  <a:pt x="45" y="725"/>
                </a:cubicBezTo>
                <a:cubicBezTo>
                  <a:pt x="0" y="944"/>
                  <a:pt x="91" y="1129"/>
                  <a:pt x="182" y="1315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5013360"/>
            <a:ext cx="4176720" cy="140364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esqueça de dar uma possibil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acabar/sair do ciclo: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x = x + 0.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O que aconteceria se esquecemos este instrução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32000" y="2997360"/>
            <a:ext cx="2351160" cy="2232000"/>
          </a:xfrm>
          <a:custGeom>
            <a:avLst/>
            <a:gdLst/>
            <a:ahLst/>
            <a:rect l="l" t="t" r="r" b="b"/>
            <a:pathLst>
              <a:path w="1481" h="1406">
                <a:moveTo>
                  <a:pt x="0" y="0"/>
                </a:moveTo>
                <a:cubicBezTo>
                  <a:pt x="574" y="336"/>
                  <a:pt x="1149" y="673"/>
                  <a:pt x="1315" y="907"/>
                </a:cubicBezTo>
                <a:cubicBezTo>
                  <a:pt x="1481" y="1141"/>
                  <a:pt x="1239" y="1273"/>
                  <a:pt x="998" y="1406"/>
                </a:cubicBezTo>
              </a:path>
            </a:pathLst>
          </a:custGeom>
          <a:noFill/>
          <a:ln w="25560">
            <a:solidFill>
              <a:srgbClr val="80008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77080" y="3500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4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64000" y="692280"/>
            <a:ext cx="360072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o-while,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16360" y="1844640"/>
            <a:ext cx="2265840" cy="916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Courier New"/>
              </a:rPr>
              <a:t>instruction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hil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ndiçã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4581360"/>
            <a:ext cx="64090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ai executar a instrução até condição é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fal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condição é verificada no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fim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do ciclo (0 vezes instrução não é possív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dição é, tal como sempre, uma expressão que dá um valor do tipo verdadeira/falsa (em C: intei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651640" y="765000"/>
            <a:ext cx="23587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o-while, ex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907920"/>
            <a:ext cx="3529080" cy="2864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mai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// while examp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float 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x = 0.0;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printf("%0.1f\n", x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x = x + 0.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while (x&lt;=1.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4149720"/>
            <a:ext cx="4248360" cy="11912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s temos de iniciar o nosso variável de controlo: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x = 0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 dar uma possibilidade de acabar/sair do ciclo: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x = x + 0.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76720" y="404640"/>
            <a:ext cx="0" cy="645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2133720"/>
            <a:ext cx="720720" cy="2087280"/>
          </a:xfrm>
          <a:custGeom>
            <a:avLst/>
            <a:gdLst/>
            <a:ahLst/>
            <a:rect l="l" t="t" r="r" b="b"/>
            <a:pathLst>
              <a:path w="454" h="1315">
                <a:moveTo>
                  <a:pt x="454" y="0"/>
                </a:moveTo>
                <a:cubicBezTo>
                  <a:pt x="272" y="253"/>
                  <a:pt x="90" y="506"/>
                  <a:pt x="45" y="725"/>
                </a:cubicBezTo>
                <a:cubicBezTo>
                  <a:pt x="0" y="944"/>
                  <a:pt x="91" y="1129"/>
                  <a:pt x="182" y="1315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3040" y="2781360"/>
            <a:ext cx="768600" cy="718920"/>
          </a:xfrm>
          <a:custGeom>
            <a:avLst/>
            <a:gdLst/>
            <a:ahLst/>
            <a:rect l="l" t="t" r="r" b="b"/>
            <a:pathLst>
              <a:path w="484" h="453">
                <a:moveTo>
                  <a:pt x="484" y="0"/>
                </a:moveTo>
                <a:cubicBezTo>
                  <a:pt x="318" y="76"/>
                  <a:pt x="152" y="152"/>
                  <a:pt x="76" y="227"/>
                </a:cubicBezTo>
                <a:cubicBezTo>
                  <a:pt x="0" y="302"/>
                  <a:pt x="15" y="377"/>
                  <a:pt x="30" y="453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67640" y="3500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4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651640" y="765000"/>
            <a:ext cx="2358720" cy="3600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451640" y="3789360"/>
            <a:ext cx="1438200" cy="2770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0.0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0.1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0.2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0.3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0.4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0.5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0.6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0.7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0.8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0.9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5805360"/>
            <a:ext cx="4248360" cy="368280"/>
          </a:xfrm>
          <a:prstGeom prst="rect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ínimo uma 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paração dos três cic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76720" y="1341360"/>
            <a:ext cx="2735280" cy="2090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03640" y="404640"/>
            <a:ext cx="0" cy="645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00720" y="404640"/>
            <a:ext cx="0" cy="645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49360"/>
            <a:ext cx="237492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64000" y="549360"/>
            <a:ext cx="237492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16720" y="549360"/>
            <a:ext cx="237492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o-w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4437000"/>
            <a:ext cx="230328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ntá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88000" y="5052960"/>
            <a:ext cx="230364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no mínimo 1 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5877000"/>
            <a:ext cx="784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É sempre possível converter um ciclo num outro tipo</a:t>
            </a:r>
            <a:br>
              <a:rPr sz="1800"/>
            </a:b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(não existem ciclos na linguagem da máquin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80000" y="4437000"/>
            <a:ext cx="230328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não contá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89800" y="4437000"/>
            <a:ext cx="230328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não contá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2455920" cy="2881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877080" y="1197000"/>
            <a:ext cx="18874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paração dos três cic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76720" y="1341360"/>
            <a:ext cx="2735280" cy="2090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203640" y="404640"/>
            <a:ext cx="0" cy="645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00720" y="404640"/>
            <a:ext cx="0" cy="645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549360"/>
            <a:ext cx="237492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64000" y="549360"/>
            <a:ext cx="237492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2455920" cy="2881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79280" y="4581360"/>
            <a:ext cx="2735280" cy="520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for (i=1; i&lt;=10; i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printf("%d",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i</a:t>
            </a: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49800" y="4581360"/>
            <a:ext cx="2734920" cy="1372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i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= 1;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while (</a:t>
            </a: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i&lt;=10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{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printf("%d",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i</a:t>
            </a: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);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i++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;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6237360"/>
            <a:ext cx="828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programa, uma vez compilados, são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totalmente igu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paração dos três cic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276720" y="1341360"/>
            <a:ext cx="2735280" cy="2090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203640" y="404640"/>
            <a:ext cx="0" cy="645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00720" y="404640"/>
            <a:ext cx="0" cy="645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549360"/>
            <a:ext cx="237492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64000" y="549360"/>
            <a:ext cx="237492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2455920" cy="2881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4581360"/>
            <a:ext cx="3348000" cy="520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for (</a:t>
            </a: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x=0.0</a:t>
            </a: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; </a:t>
            </a: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x</a:t>
            </a: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&lt;=</a:t>
            </a: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10.0</a:t>
            </a: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; </a:t>
            </a: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x=x+0.1</a:t>
            </a: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printf("%</a:t>
            </a: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f</a:t>
            </a: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", </a:t>
            </a: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x</a:t>
            </a: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37080" y="4581360"/>
            <a:ext cx="2735280" cy="1372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x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= 0.0;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while (x</a:t>
            </a: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&lt;=10</a:t>
            </a: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.0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{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printf("%</a:t>
            </a: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f</a:t>
            </a: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", </a:t>
            </a: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x</a:t>
            </a: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);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x = x + 0.1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;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6237360"/>
            <a:ext cx="828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programa, uma vez compilados, são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totalmente igu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0:27:03Z</dcterms:created>
  <dc:creator>Peter Stallinga</dc:creator>
  <dc:description/>
  <dc:language>en-US</dc:language>
  <cp:lastModifiedBy>Peter Stallinga</cp:lastModifiedBy>
  <dcterms:modified xsi:type="dcterms:W3CDTF">2005-11-07T11:17:34Z</dcterms:modified>
  <cp:revision>341</cp:revision>
  <dc:subject/>
  <dc:title>Slide 1</dc:title>
</cp:coreProperties>
</file>