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0.wmf" ContentType="image/x-wmf"/>
  <Override PartName="/ppt/media/image3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2BB8-CFBC-4DC3-B2D4-EF7A69B7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C779-7140-48F2-ADB6-4D800E71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7D7B-F9AC-48EF-9EE8-30C5D446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92C3-88D2-4E7C-81DB-B97AC406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318F-9415-4D28-A212-31E770B3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C825-4BFA-4F48-84BD-3595A550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AFA-703E-46D8-A016-08B47FAB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74F-E860-4879-8E83-382864F1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C504-216D-47BF-869C-ACB2DF87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E09D-BE7B-427D-A73F-64F3AB4A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F1C-0A04-4794-BC60-31FA3B05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5CD8-8A6F-4D2C-9729-CCF0118D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74F0-BC44-47DF-8305-D8D48FE7C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3781440" cy="489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18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Programação Imper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61640" y="623736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http://www.adeec.fct.ualg.pt/PI_pjot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411280" y="765000"/>
          <a:ext cx="4467240" cy="50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765000"/>
                    <a:ext cx="446724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ware vs.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905120" y="1052640"/>
          <a:ext cx="4829040" cy="53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52640"/>
                    <a:ext cx="482904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amadas Físicas e 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484280"/>
            <a:ext cx="9144000" cy="537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905120" y="1052640"/>
          <a:ext cx="4829040" cy="53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52640"/>
                    <a:ext cx="482904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amadas Físicas e 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133720"/>
            <a:ext cx="91440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905120" y="1052640"/>
          <a:ext cx="4829040" cy="53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52640"/>
                    <a:ext cx="482904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amadas Físicas e 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637000"/>
            <a:ext cx="9144000" cy="42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905120" y="1052640"/>
          <a:ext cx="4829040" cy="53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52640"/>
                    <a:ext cx="482904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amadas Físicas e 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905120" y="1052640"/>
          <a:ext cx="4829040" cy="53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52640"/>
                    <a:ext cx="482904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amadas Físicas e 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905120" y="1052640"/>
          <a:ext cx="4829040" cy="53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52640"/>
                    <a:ext cx="482904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amadas Físicas e 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653000"/>
            <a:ext cx="91440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905120" y="1052640"/>
          <a:ext cx="4829040" cy="53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52640"/>
                    <a:ext cx="482904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amadas Físicas e 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905120" y="1052640"/>
          <a:ext cx="4829040" cy="53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52640"/>
                    <a:ext cx="482904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amadas Físicas e 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905120" y="1052640"/>
          <a:ext cx="4829040" cy="53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52640"/>
                    <a:ext cx="482904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amadas Físicas e 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403280" y="1700280"/>
          <a:ext cx="5724720" cy="30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5724720" cy="30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ula 2: Introdução aos Compu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rcuitos Integrado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re’s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916360" y="907920"/>
            <a:ext cx="2993760" cy="2154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916360" y="3500280"/>
            <a:ext cx="3209760" cy="139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619280" y="5445000"/>
          <a:ext cx="5850000" cy="5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5445000"/>
                    <a:ext cx="585000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19890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re’s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rcuitos Integ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916360" y="907920"/>
            <a:ext cx="2993760" cy="2154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916360" y="3500280"/>
            <a:ext cx="3209760" cy="139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1619280" y="5445000"/>
          <a:ext cx="5850000" cy="5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5445000"/>
                    <a:ext cx="585000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898640" y="692280"/>
          <a:ext cx="4989600" cy="58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8640" y="692280"/>
                    <a:ext cx="4989600" cy="58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pil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83080" y="35211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 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32320" y="436572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5148360" y="1628640"/>
          <a:ext cx="2124000" cy="7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628640"/>
                    <a:ext cx="2124000" cy="7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916360" y="692280"/>
          <a:ext cx="3949560" cy="564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692280"/>
                    <a:ext cx="3949560" cy="56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539640" y="4149720"/>
            <a:ext cx="1897200" cy="2089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2556000" y="1700280"/>
            <a:ext cx="2305080" cy="6951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516720" y="2276640"/>
            <a:ext cx="2157480" cy="1915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istema Ope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5398920" cy="5399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303240" y="692280"/>
            <a:ext cx="22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rst Transi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ll Laboratories 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43640" y="242100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19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482840" y="549360"/>
          <a:ext cx="6184800" cy="58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2840" y="549360"/>
                    <a:ext cx="618480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516720" y="4076640"/>
            <a:ext cx="863640" cy="360360"/>
          </a:xfrm>
          <a:prstGeom prst="rect">
            <a:avLst/>
          </a:prstGeom>
          <a:solidFill>
            <a:srgbClr val="ff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79640" y="4437000"/>
            <a:ext cx="5400720" cy="360360"/>
          </a:xfrm>
          <a:prstGeom prst="rect">
            <a:avLst/>
          </a:prstGeom>
          <a:solidFill>
            <a:srgbClr val="ff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79640" y="4797360"/>
            <a:ext cx="1440000" cy="360360"/>
          </a:xfrm>
          <a:prstGeom prst="rect">
            <a:avLst/>
          </a:prstGeom>
          <a:solidFill>
            <a:srgbClr val="ff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187280" y="757080"/>
          <a:ext cx="6480360" cy="61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757080"/>
                    <a:ext cx="6480360" cy="61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619280" y="1125360"/>
            <a:ext cx="2009880" cy="5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5148360" y="1052640"/>
          <a:ext cx="101916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48360" y="1052640"/>
                    <a:ext cx="10191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508720" y="4437000"/>
          <a:ext cx="615960" cy="64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08720" y="4437000"/>
                    <a:ext cx="6159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979640" y="4508640"/>
          <a:ext cx="1440000" cy="563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79640" y="4508640"/>
                    <a:ext cx="14400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ipos de compu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916280"/>
            <a:ext cx="9144000" cy="494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187280" y="757080"/>
          <a:ext cx="6480360" cy="61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757080"/>
                    <a:ext cx="6480360" cy="61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619280" y="1125360"/>
            <a:ext cx="2009880" cy="5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5148360" y="1052640"/>
          <a:ext cx="101916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48360" y="1052640"/>
                    <a:ext cx="10191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508720" y="4437000"/>
          <a:ext cx="615960" cy="64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08720" y="4437000"/>
                    <a:ext cx="6159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979640" y="4508640"/>
          <a:ext cx="1440000" cy="563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79640" y="4508640"/>
                    <a:ext cx="14400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ipos de compu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924280"/>
            <a:ext cx="91440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87280" y="757080"/>
          <a:ext cx="6480360" cy="61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757080"/>
                    <a:ext cx="6480360" cy="61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619280" y="1125360"/>
            <a:ext cx="2009880" cy="5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5148360" y="1052640"/>
          <a:ext cx="101916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48360" y="1052640"/>
                    <a:ext cx="10191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508720" y="4437000"/>
          <a:ext cx="615960" cy="64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08720" y="4437000"/>
                    <a:ext cx="6159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979640" y="4508640"/>
          <a:ext cx="1440000" cy="563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79640" y="4508640"/>
                    <a:ext cx="14400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ipos de compu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187280" y="757080"/>
          <a:ext cx="6480360" cy="61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757080"/>
                    <a:ext cx="6480360" cy="61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619280" y="1125360"/>
            <a:ext cx="2009880" cy="5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5148360" y="1052640"/>
          <a:ext cx="101916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48360" y="1052640"/>
                    <a:ext cx="10191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5508720" y="4437000"/>
          <a:ext cx="615960" cy="64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08720" y="4437000"/>
                    <a:ext cx="6159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979640" y="4508640"/>
          <a:ext cx="1440000" cy="563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79640" y="4508640"/>
                    <a:ext cx="14400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ipos de compu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373720"/>
            <a:ext cx="914400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187280" y="757080"/>
          <a:ext cx="6480360" cy="61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757080"/>
                    <a:ext cx="6480360" cy="61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619280" y="1125360"/>
            <a:ext cx="2009880" cy="5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5148360" y="1052640"/>
          <a:ext cx="101916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48360" y="1052640"/>
                    <a:ext cx="10191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508720" y="4437000"/>
          <a:ext cx="615960" cy="64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08720" y="4437000"/>
                    <a:ext cx="6159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979640" y="4508640"/>
          <a:ext cx="1440000" cy="563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79640" y="4508640"/>
                    <a:ext cx="14400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ipos de compu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187280" y="757080"/>
          <a:ext cx="6480360" cy="61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757080"/>
                    <a:ext cx="6480360" cy="61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619280" y="1125360"/>
            <a:ext cx="2009880" cy="5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5148360" y="1052640"/>
          <a:ext cx="101916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48360" y="1052640"/>
                    <a:ext cx="10191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508720" y="4437000"/>
          <a:ext cx="615960" cy="64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08720" y="4437000"/>
                    <a:ext cx="6159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979640" y="4508640"/>
          <a:ext cx="1440000" cy="563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79640" y="4508640"/>
                    <a:ext cx="14400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ipos de compu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411280" y="765000"/>
          <a:ext cx="4467240" cy="50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765000"/>
                    <a:ext cx="446724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ware vs.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141720"/>
            <a:ext cx="914400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10-11T08:44:31Z</dcterms:modified>
  <cp:revision>33</cp:revision>
  <dc:subject/>
  <dc:title>Slide 1</dc:title>
</cp:coreProperties>
</file>