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75A-4987-4DF4-B668-D0DD8044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93B-C1DB-4A21-B923-31C42270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673-ED08-4B71-B6B3-56838894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73E-535B-4790-AF64-CD74F120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FD0-4EDE-407B-8F6C-D2920CDB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113-FB31-4C93-B759-5408FEC3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08B-346B-43BB-8942-11634034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5EF-02DF-4318-AD89-9E16DB70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14F-8368-4317-9E29-C77465FC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B95-5353-44D0-81F4-AC6A2A2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5AF-284A-4BA6-901A-4FC040C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DA9-B06A-4AD8-A617-95232938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3E70-21A0-4264-83E2-0BAB00092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5: Variáveis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80360" cy="251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71640" y="479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pothol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buracos na r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1640" y="623736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http://www.adeec.fct.ualg.pt/PI_pjot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303640" cy="210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48360" y="3546360"/>
            <a:ext cx="3619440" cy="29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48000" y="836640"/>
            <a:ext cx="5327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ara armazenar informação (aula 3, unidades de inform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é semelhante a uma caix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localiza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teúd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789360"/>
            <a:ext cx="468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istem vários tipos de informação (aula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cai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339640" y="2133720"/>
            <a:ext cx="1079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2210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579400">
            <a:off x="1476360" y="1844640"/>
            <a:ext cx="100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2205000"/>
            <a:ext cx="648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133720"/>
            <a:ext cx="1440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1280" y="2637000"/>
            <a:ext cx="86508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2852640"/>
            <a:ext cx="1584360" cy="36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dereç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133720"/>
            <a:ext cx="1224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2637000"/>
            <a:ext cx="5032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2924280"/>
            <a:ext cx="1584360" cy="36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l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27082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3068640"/>
            <a:ext cx="1655640" cy="43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dentificad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205000"/>
            <a:ext cx="64764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27640" y="1989000"/>
            <a:ext cx="73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557360"/>
            <a:ext cx="2160360" cy="43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 de informaçã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variáveis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907920"/>
            <a:ext cx="712944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Boolea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. Não existe em C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erdade ou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nteir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int, long i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intei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ável: 1, 2, 3 etc. Têm uma ordem 3 &gt; 2, etc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só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Floating poin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possivel con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1415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45E23  (2.45 x 10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baixa precisão, até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lta pr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Text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'c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13  (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pontadore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oint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ontam a endereços especificos da 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812000" cy="2408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7840" y="4545000"/>
            <a:ext cx="60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nteir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ng i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intei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ável: 1, 2, 3 etc. Têm uma ordem 3 &gt; 2, etc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só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503800">
            <a:off x="104292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56000" y="1052640"/>
          <a:ext cx="6264000" cy="4767120"/>
        </p:xfrm>
        <a:graphic>
          <a:graphicData uri="http://schemas.openxmlformats.org/drawingml/2006/table">
            <a:tbl>
              <a:tblPr/>
              <a:tblGrid>
                <a:gridCol w="1800000"/>
                <a:gridCol w="3059280"/>
                <a:gridCol w="14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4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man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/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28 .. 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igned 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.. 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2768 .. 32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.. 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147483648 .. 2147483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E-38 .. 3.4E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E-308 .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1.7E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E-308 .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1.7E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 2</a:t>
                      </a:r>
                      <a:r>
                        <a:rPr b="0" lang="pt-PT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64 k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 2</a:t>
                      </a:r>
                      <a:r>
                        <a:rPr b="0" lang="pt-PT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4 G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rot="20622000">
            <a:off x="1043280" y="256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615400">
            <a:off x="1116000" y="4076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533200">
            <a:off x="1116000" y="494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900000" y="357336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00000" y="472428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00000" y="508644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900000" y="177336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900000" y="141300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191628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60865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* Notação científica: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.0E-34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 5.0 x 10</a:t>
            </a:r>
            <a:r>
              <a:rPr b="0" lang="pt-PT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PT" sz="1800" spc="-1" strike="noStrike" baseline="30000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00000" y="580536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533200">
            <a:off x="1116000" y="54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35280" y="1413000"/>
            <a:ext cx="3672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PT" sz="3600" spc="-1" strike="noStrike">
                <a:solidFill>
                  <a:srgbClr val="ffffff"/>
                </a:solidFill>
                <a:latin typeface="Arial"/>
              </a:rPr>
              <a:t>tipo no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83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criar uma variável?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35280" y="1413000"/>
            <a:ext cx="3672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PT" sz="3600" spc="-1" strike="noStrike">
                <a:solidFill>
                  <a:srgbClr val="ffffff"/>
                </a:solidFill>
                <a:latin typeface="Arial"/>
              </a:rPr>
              <a:t>tipo no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83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criar uma variável?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1413000"/>
            <a:ext cx="1440000" cy="71892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858920" y="2133720"/>
            <a:ext cx="73080" cy="71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2852640"/>
            <a:ext cx="1656000" cy="432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dentificad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1413000"/>
            <a:ext cx="1295280" cy="71892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276720" y="2133720"/>
            <a:ext cx="287280" cy="790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2852640"/>
            <a:ext cx="180036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” (integer,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11280" y="1554120"/>
            <a:ext cx="612144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br>
              <a:rPr sz="1800"/>
            </a:br>
            <a:br>
              <a:rPr sz="1800"/>
            </a:br>
            <a:r>
              <a:rPr b="1" sz="1800" spc="-1" strike="noStrike">
                <a:solidFill>
                  <a:srgbClr val="ffff00"/>
                </a:solidFill>
                <a:latin typeface="Courier New"/>
              </a:rPr>
              <a:t>char c;</a:t>
            </a:r>
            <a:br>
              <a:rPr sz="1800"/>
            </a:b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nt main()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{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ffff00"/>
                </a:solidFill>
                <a:latin typeface="Courier New"/>
              </a:rPr>
              <a:t>int a;</a:t>
            </a:r>
            <a:br>
              <a:rPr sz="1800"/>
            </a:b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a = 23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c = ‘x’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printf(“a = %d\nc = %c\n”, a, c)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7650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?: dentro do corpo de uma fu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ção (local) ou fora de qualquer função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11280" y="5157720"/>
            <a:ext cx="612144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a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= 23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0559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159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roblemas 1: Inici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11280" y="3792600"/>
            <a:ext cx="612144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Hoje e dia 3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4513320"/>
            <a:ext cx="4465800" cy="146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ma decalara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reserva espaço na 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- atribue um nome a este espa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ÃO atribue um valor ao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87280" y="4440240"/>
            <a:ext cx="1462320" cy="1512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1280" y="1125360"/>
            <a:ext cx="6121440" cy="256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br>
              <a:rPr sz="1800"/>
            </a:b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int main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(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int a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//  a = 23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printf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(“Hoje e dia %d\n”, a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Inici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765000"/>
            <a:ext cx="727416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icialização de uma variável sign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tribuir um valor pela primeir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2133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a altura de declaraç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nt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2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30765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início do program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39402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tribuir o resultado de um cálcu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3.1415*sqrt(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4876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edir um valor ao utilizado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canf(“%d”, &amp;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5745240"/>
            <a:ext cx="7274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pode “usar” o valor de uma variável antes da sua inici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roblemas 2: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11280" y="981000"/>
            <a:ext cx="6121440" cy="3111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br>
              <a:rPr sz="1800"/>
            </a:b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nt main()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{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int a, b, c;</a:t>
            </a:r>
            <a:br>
              <a:rPr sz="1800"/>
            </a:b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a = 130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b = 130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c = a + b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printf(“%d + %d = %d\n”, a, b, c)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11280" y="4365720"/>
            <a:ext cx="612144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130 + 130 = 2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64360" y="64911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5_1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93080" y="6558120"/>
            <a:ext cx="976320" cy="260280"/>
          </a:xfrm>
          <a:prstGeom prst="rightArrow">
            <a:avLst>
              <a:gd name="adj1" fmla="val 50000"/>
              <a:gd name="adj2" fmla="val 937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5: Variáveis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341360"/>
            <a:ext cx="655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roblemas 2: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11280" y="981000"/>
            <a:ext cx="6121440" cy="3111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br>
              <a:rPr sz="1800"/>
            </a:b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int main()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{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int a, b, c;</a:t>
            </a:r>
            <a:br>
              <a:rPr sz="1800"/>
            </a:b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a = 130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b = 130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c = a + b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  printf(“%d + %d = %d\n”, a, b, c);</a:t>
            </a:r>
            <a:br>
              <a:rPr sz="1800"/>
            </a:br>
            <a:r>
              <a:rPr b="0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11280" y="4365720"/>
            <a:ext cx="612144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130 + 130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515772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roblemas 2: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57360" y="1052640"/>
            <a:ext cx="455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 + 130 = 260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8 +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6600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+ 2</a:t>
            </a:r>
            <a:r>
              <a:rPr b="0" lang="en-US" sz="1800" spc="-1" strike="noStrike" baseline="30000">
                <a:solidFill>
                  <a:srgbClr val="6600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2535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0010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0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7640" y="4292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00000100  = 2</a:t>
            </a:r>
            <a:r>
              <a:rPr b="0" lang="en-US" sz="1800" spc="-1" strike="noStrike" baseline="30000">
                <a:solidFill>
                  <a:srgbClr val="6600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30 + 130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57340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sto chama-s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orque o resultado é maior que o número máximo que ainda cabe n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roblemas 2: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907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30 + 130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628640"/>
            <a:ext cx="799308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lução: usa um tipo de variável adequ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64360" y="64911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5_2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6558120"/>
            <a:ext cx="976320" cy="260280"/>
          </a:xfrm>
          <a:prstGeom prst="rightArrow">
            <a:avLst>
              <a:gd name="adj1" fmla="val 50000"/>
              <a:gd name="adj2" fmla="val 937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2276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cc"/>
                </a:solidFill>
                <a:latin typeface="Arial"/>
              </a:rPr>
              <a:t>1: Os computadores s</a:t>
            </a:r>
            <a:r>
              <a:rPr b="0" lang="pt-PT" sz="1800" spc="-1" strike="noStrike">
                <a:solidFill>
                  <a:srgbClr val="6600cc"/>
                </a:solidFill>
                <a:latin typeface="Arial"/>
              </a:rPr>
              <a:t>ão especialmente bons a fazer cál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2917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50021"/>
                </a:solidFill>
                <a:latin typeface="Arial"/>
              </a:rPr>
              <a:t>2: Os computadores NUNCA se enga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341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is das seguintes frases 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erdadeir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35672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: 130 + 130 = 2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276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cc"/>
                </a:solidFill>
                <a:latin typeface="Arial"/>
              </a:rPr>
              <a:t>1: Os computadores s</a:t>
            </a:r>
            <a:r>
              <a:rPr b="0" lang="pt-PT" sz="1800" spc="-1" strike="noStrike">
                <a:solidFill>
                  <a:srgbClr val="6600cc"/>
                </a:solidFill>
                <a:latin typeface="Arial"/>
              </a:rPr>
              <a:t>ão especialmente bons a fazer cál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917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50021"/>
                </a:solidFill>
                <a:latin typeface="Arial"/>
              </a:rPr>
              <a:t>2: Os computadores NUNCA se enga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341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is das seguintes frases 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erdadeir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5672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: 130 + 130 = 2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instruçã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249640" cy="283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19640" y="1125360"/>
            <a:ext cx="48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ara mostrar result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, números, val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3141720"/>
            <a:ext cx="6121440" cy="147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intf(“Today is a very nice day”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300640"/>
            <a:ext cx="6121440" cy="785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oday is a very nice day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2997360"/>
            <a:ext cx="3024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508720" y="2565000"/>
            <a:ext cx="115092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3640" y="1557360"/>
            <a:ext cx="270036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quando vamos usar o printf, temos de incluir a biblioteca “standard-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5157720"/>
            <a:ext cx="1079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995640" y="5734080"/>
            <a:ext cx="21600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6165720"/>
            <a:ext cx="30970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cursor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fica no fim da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911960" y="37123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436680" y="55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instruçã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249640" cy="2830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19640" y="1125360"/>
            <a:ext cx="48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ara mostrar result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, números, val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3141720"/>
            <a:ext cx="6121440" cy="147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intf(“Today is a very nice day\n”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5300640"/>
            <a:ext cx="6121440" cy="785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oday is a very nic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4360" y="3789360"/>
            <a:ext cx="1224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716360" y="4437000"/>
            <a:ext cx="3276720" cy="172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5589720"/>
            <a:ext cx="1079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623736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6165720"/>
            <a:ext cx="53290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cursor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fica no início da linha a segu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911960" y="37123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436680" y="554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instruçã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249640" cy="2830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419640" y="1125360"/>
            <a:ext cx="48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ara mostrar result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, números, val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3141720"/>
            <a:ext cx="6121440" cy="147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intf(“Today is\n a very nice\n day\n”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5300640"/>
            <a:ext cx="612144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oday is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a very nice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day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1911960" y="37123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436680" y="5692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Format spec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0280" y="1413000"/>
            <a:ext cx="72936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34280" y="1413000"/>
            <a:ext cx="447228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ger com s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ger sem s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ger sem s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exa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loat (31.20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 examplo %10.3f mostra o float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 lugares total, 3 casas decim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loat com notação científica (3.12E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CII carac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95840" y="4551480"/>
            <a:ext cx="72936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\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57680" y="4551480"/>
            <a:ext cx="44510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va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ecentagem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CII #65 (‘A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303640" cy="210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546360"/>
            <a:ext cx="3619440" cy="2986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836640"/>
            <a:ext cx="53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ara armazenar informação (aula 3, unidades de inform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é semelhante a uma c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789360"/>
            <a:ext cx="468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istem vários tipos de informação (aula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cai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771280" y="213372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2210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303640" cy="210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48360" y="3546360"/>
            <a:ext cx="3619440" cy="298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8000" y="836640"/>
            <a:ext cx="5327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ara armazenar informação (aula 3, unidades de inform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é semelhante a uma caix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localiza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teúd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789360"/>
            <a:ext cx="475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istem vários tipos de informação (aula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cai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42210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0-18T10:24:27Z</dcterms:modified>
  <cp:revision>159</cp:revision>
  <dc:subject/>
  <dc:title>Slide 1</dc:title>
</cp:coreProperties>
</file>