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DA8-1761-4982-9F07-88780ACC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9D6-6C2A-4235-A56A-417C64D8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45DF-2DD9-4EAB-8F7A-5FC3B95B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A9B-112F-4407-9AB4-E1E7C38C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A3A8-5D53-486B-8EC9-882B3723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1DA-AB20-4D1B-AFB5-CCF3F1C4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718-A02D-4798-B86D-6F15BD9D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4BA-AF87-45D8-93BA-2420877A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8BF-E677-4196-963C-E3F361F7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5E6-5C50-41B8-957E-3283C95E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94AA-2CF9-4320-A274-9D03A18C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44F-4600-4AFB-B34A-9B1C7E4B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DE94-DA5C-4284-AB4D-0C19C6749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50920" y="5778360"/>
            <a:ext cx="1657080" cy="1079640"/>
          </a:xfrm>
          <a:prstGeom prst="rect">
            <a:avLst/>
          </a:prstGeom>
          <a:solidFill>
            <a:srgbClr val="ffffff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MA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90792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7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Programação Imper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61640" y="623736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Courier New"/>
              </a:rPr>
              <a:t>http://www.adeec.fct.ualg.pt/PI_pjot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ul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: Ramos e ra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2133720"/>
            <a:ext cx="3600720" cy="1059840"/>
          </a:xfrm>
          <a:prstGeom prst="rect">
            <a:avLst/>
          </a:prstGeom>
          <a:solidFill>
            <a:srgbClr val="ffff99">
              <a:alpha val="7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cisões / bifurcações / ramific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.. else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3328920" cy="3384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6922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xecução condicio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076640"/>
            <a:ext cx="3600720" cy="1465560"/>
          </a:xfrm>
          <a:prstGeom prst="rect">
            <a:avLst/>
          </a:prstGeom>
          <a:solidFill>
            <a:srgbClr val="ffff99">
              <a:alpha val="7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rograma que calcula o raíz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ve parar ou avisar quand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menor que z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V="1">
            <a:off x="2843280" y="5300640"/>
            <a:ext cx="0" cy="1152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1547280" y="4652640"/>
            <a:ext cx="129564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547640" y="3789360"/>
            <a:ext cx="0" cy="792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843280" y="4652640"/>
            <a:ext cx="136836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211640" y="2852640"/>
            <a:ext cx="0" cy="1728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ul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: Ramos e ra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83560" y="4581360"/>
            <a:ext cx="1984320" cy="2016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6922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xecução condicio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981000"/>
            <a:ext cx="3600360" cy="1465560"/>
          </a:xfrm>
          <a:prstGeom prst="rect">
            <a:avLst/>
          </a:prstGeom>
          <a:solidFill>
            <a:srgbClr val="ffff99">
              <a:alpha val="71000"/>
            </a:srgbClr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rograma que calcula o raíz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ve parar ou avisar quand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menor que z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95640" y="5734080"/>
            <a:ext cx="1368360" cy="43164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ler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3640" y="3357720"/>
            <a:ext cx="2089080" cy="43164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ostrar resul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64000" y="4221000"/>
            <a:ext cx="1368360" cy="4320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lcular ra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4221000"/>
            <a:ext cx="1655640" cy="4320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crever ‘err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35640" y="59500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o uma árv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5157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5157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981000"/>
            <a:ext cx="482616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if </a:t>
            </a:r>
            <a:r>
              <a:rPr b="0" lang="pt-PT" sz="3600" spc="-1" strike="noStrike">
                <a:solidFill>
                  <a:srgbClr val="ffffff"/>
                </a:solidFill>
                <a:latin typeface="Courier New"/>
              </a:rPr>
              <a:t>(condição)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PT" sz="3600" spc="-1" strike="noStrike">
                <a:solidFill>
                  <a:srgbClr val="ffffff"/>
                </a:solidFill>
                <a:latin typeface="Courier New"/>
              </a:rPr>
              <a:t>instrução</a:t>
            </a: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8000" y="3716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i executar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instruçã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só se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condiçã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verdade. Senão, vai saltar a instrução e continuar com os resto do progr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43280" y="5300640"/>
            <a:ext cx="0" cy="1152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547280" y="4652640"/>
            <a:ext cx="129564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547640" y="3933720"/>
            <a:ext cx="0" cy="719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43280" y="2492280"/>
            <a:ext cx="0" cy="3168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5734080"/>
            <a:ext cx="1368360" cy="43164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d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2781360"/>
            <a:ext cx="2089080" cy="43164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sto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4076640"/>
            <a:ext cx="1655640" cy="4320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str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5157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fa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5157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verdad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547280" y="3500280"/>
            <a:ext cx="1295640" cy="433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 d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if 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1413000"/>
            <a:ext cx="61214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if (x&lt;0) </a:t>
            </a: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printf(“x is smaller than zero!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4908600"/>
            <a:ext cx="280836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x is negativ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rogram contin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03280" y="2532240"/>
            <a:ext cx="6121440" cy="188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if (x&lt;0) </a:t>
            </a: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{</a:t>
            </a: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  y = -x;</a:t>
            </a: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  printf(“x is negative”);</a:t>
            </a: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printf(“program continues”)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4908600"/>
            <a:ext cx="280692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rogram contin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45482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x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45482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di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90792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condição é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qualquer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xpressão que retorna um valor do tipo 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1773360"/>
            <a:ext cx="6121440" cy="2025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int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if (b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printf(‘Boolean b is TRUE’)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4005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rmalmente: compar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4653000"/>
            <a:ext cx="13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(x==y)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(x!=y)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(x&lt;y)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(x&gt;y)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(x&lt;=y)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(x&gt;=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465300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igual a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1800"/>
            </a:b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diferente ?</a:t>
            </a:r>
            <a:br>
              <a:rPr sz="1800"/>
            </a:b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menor que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800"/>
            </a:b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maior que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1800"/>
            </a:b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menor que ou igual a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1800"/>
            </a:b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maior que ou igual a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..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620640"/>
            <a:ext cx="4825800" cy="228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if </a:t>
            </a:r>
            <a:r>
              <a:rPr b="0" lang="pt-PT" sz="3600" spc="-1" strike="noStrike">
                <a:solidFill>
                  <a:srgbClr val="ffffff"/>
                </a:solidFill>
                <a:latin typeface="Courier New"/>
              </a:rPr>
              <a:t>(condição)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PT" sz="3600" spc="-1" strike="noStrike">
                <a:solidFill>
                  <a:srgbClr val="ffffff"/>
                </a:solidFill>
                <a:latin typeface="Courier New"/>
              </a:rPr>
              <a:t>instruçãoA;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else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PT" sz="3600" spc="-1" strike="noStrike">
                <a:solidFill>
                  <a:srgbClr val="ffffff"/>
                </a:solidFill>
                <a:latin typeface="Courier New"/>
              </a:rPr>
              <a:t>instruçãoB</a:t>
            </a: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414972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i executar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instrução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instruçãoB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dependente do valor da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condiçã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04000" y="5445000"/>
            <a:ext cx="0" cy="1152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796000" y="4797000"/>
            <a:ext cx="100800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797440" y="4078080"/>
            <a:ext cx="0" cy="718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804000" y="2637000"/>
            <a:ext cx="0" cy="1008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56360" y="5878440"/>
            <a:ext cx="1368360" cy="4320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d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6000" y="2925720"/>
            <a:ext cx="2089080" cy="4320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sto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5440" y="4221000"/>
            <a:ext cx="1655640" cy="4320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struçã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52228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6600cc"/>
                </a:solidFill>
                <a:latin typeface="Arial"/>
              </a:rPr>
              <a:t>fa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52228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6600cc"/>
                </a:solidFill>
                <a:latin typeface="Arial"/>
              </a:rPr>
              <a:t>verdad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96000" y="3645000"/>
            <a:ext cx="1008000" cy="433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804000" y="4797000"/>
            <a:ext cx="93672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740720" y="4078080"/>
            <a:ext cx="0" cy="718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20000" y="4221000"/>
            <a:ext cx="1655640" cy="4320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struçã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04000" y="3645000"/>
            <a:ext cx="936720" cy="433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if .. else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747720"/>
            <a:ext cx="8748720" cy="4231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float x, roo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 (“Give a number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scanf(“%f”, &amp;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if (x&lt;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 (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Negative numbers are not allowed!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”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)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root = sqrt(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 (“The square-root of %.4f is %.4f\n“, x, roo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printf (“Have a nice day\n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5067360"/>
            <a:ext cx="4103640" cy="1310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Give a number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i="1" lang="en-US" sz="1600" spc="-1" strike="noStrike">
                <a:solidFill>
                  <a:srgbClr val="ffff00"/>
                </a:solidFill>
                <a:latin typeface="Courier New"/>
              </a:rPr>
              <a:t>3.68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-root of 2.68 is 1.9183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Have a nice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8920" y="5067360"/>
            <a:ext cx="4500720" cy="1067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Give a number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-</a:t>
            </a:r>
            <a:r>
              <a:rPr b="0" i="1" lang="en-US" sz="1600" spc="-1" strike="noStrike">
                <a:solidFill>
                  <a:srgbClr val="ffff00"/>
                </a:solidFill>
                <a:latin typeface="Courier New"/>
              </a:rPr>
              <a:t>3.68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Negative numbers are not allowed!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Have a nice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10-25T08:47:15Z</dcterms:modified>
  <cp:revision>233</cp:revision>
  <dc:subject/>
  <dc:title>Slide 1</dc:title>
</cp:coreProperties>
</file>