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BB7-06FD-4998-8ECF-1ABF43DC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A93-D38C-4371-81C3-5BA3861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B1A-EF73-4B57-BB10-639F0F8C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6A8-081B-4144-818B-CC41A66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569-979A-49C6-BB55-0DD505B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361-BED1-4BB5-8EBD-442EA42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157-9148-4FB5-BC0F-A84BFBF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232-522B-4F3D-B441-36BDBB7E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E21-AB91-44C5-B032-9F1EE7C0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63C-E42F-45F1-BD5E-6CD27C0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AF6-10CA-4FB5-9E6B-7CE23D1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800-E85A-4794-A3FF-4FE2C9C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6D7-31C6-42AD-9A58-0ACE9DF8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6: Atribuição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Cál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1640" y="623736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http://www.adeec.fct.ualg.pt/PI_pjot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14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ões, operandos e 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774800"/>
            <a:ext cx="1295280" cy="31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620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un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8200" y="1773360"/>
            <a:ext cx="1513080" cy="311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reme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ver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dress of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1773360"/>
            <a:ext cx="1152360" cy="31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j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!(a==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~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amp;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1268280"/>
            <a:ext cx="15127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1268280"/>
            <a:ext cx="129528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1268280"/>
            <a:ext cx="115236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589720"/>
            <a:ext cx="712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aula “Álgebra Boolea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ula “Apontado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1773360"/>
            <a:ext cx="36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operação 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1209600"/>
            <a:ext cx="316872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= 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1197000"/>
            <a:ext cx="316872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= ++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01796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400536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5229360"/>
            <a:ext cx="7632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essas confuçõ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gibilid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operação 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1209600"/>
            <a:ext cx="316872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= 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1197000"/>
            <a:ext cx="3168720" cy="2837160"/>
          </a:xfrm>
          <a:prstGeom prst="rect">
            <a:avLst/>
          </a:prstGeom>
          <a:solidFill>
            <a:srgbClr val="0000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= i;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  i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21488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420228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36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229360"/>
            <a:ext cx="7632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essas confuçõ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gibilid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765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rutura pref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ões, operandos e 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2206800"/>
            <a:ext cx="129564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20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sturas Operações / Atribu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1840" y="2205000"/>
            <a:ext cx="151308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d,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,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,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,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2205000"/>
            <a:ext cx="115272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+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-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/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*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1700280"/>
            <a:ext cx="15127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1700280"/>
            <a:ext cx="12956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1700280"/>
            <a:ext cx="115272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6360" y="2205000"/>
            <a:ext cx="115236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a/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a*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1700280"/>
            <a:ext cx="115236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is combin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1209600"/>
            <a:ext cx="3168720" cy="283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j = 0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+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197000"/>
            <a:ext cx="3168720" cy="2837160"/>
          </a:xfrm>
          <a:prstGeom prst="rect">
            <a:avLst/>
          </a:prstGeom>
          <a:solidFill>
            <a:srgbClr val="0000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int i, j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i = 1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j = 0;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Courier New"/>
              </a:rPr>
              <a:t>j = j+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intf("%d", 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14180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4129200"/>
            <a:ext cx="31687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279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229360"/>
            <a:ext cx="7632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essas confuçõ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gibilid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765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rutura pref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ões, operandos e operadores.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2880" y="2932200"/>
            <a:ext cx="231444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*   /   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88400" y="4189320"/>
            <a:ext cx="141660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+    </a:t>
            </a:r>
            <a:r>
              <a:rPr b="0" lang="pt-PT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9880" y="1628640"/>
            <a:ext cx="12628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37440" y="293220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2520" y="418932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57960" y="162864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040" y="104616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al como na matemática, os operadores têm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5320" y="54450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+ 7 * 3 – 5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6760" y="5856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* 8 + 1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6040" y="62308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* (8 + 1)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5661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 all languages are like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0"/>
            <a:ext cx="8424720" cy="4757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{ int x, y, sum, diff, modd, divv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printf("Give the value of the first variable x:\n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"%d", &amp;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printf("Give the value of the second variable y:\n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canf("%d", &amp;y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sum = x + 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printf("The sum of %d and %d y  is %d\n", x, y, sum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diff = x - 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printf("The difference between %d and %d is %d\n", x, 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diff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divv = x / 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modd = x % 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printf("%d divided by %d is %d plus %d/%d\n", x, 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divv, modd, y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797360"/>
            <a:ext cx="8424720" cy="2014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Give the value of the first variable x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Give the value of the second variable 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he sum of 13 and 5 is 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he difference between 13 and 5 is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13 divided by 5 is 2 plus 3/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34136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636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tribui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565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lado </a:t>
            </a: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esquer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uma (1)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lado </a:t>
            </a: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direi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uma expressão que vai retornar um valor do mesmo tipo d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03520" y="4149720"/>
            <a:ext cx="2016000" cy="133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3.0;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 = 3.0*a;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 = cos(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-892080"/>
            <a:ext cx="7345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24480" y="4149720"/>
            <a:ext cx="2016000" cy="13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3.0 = a;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 = 1;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urier New"/>
              </a:rPr>
              <a:t>a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040" y="5892840"/>
            <a:ext cx="42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tip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tip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422600">
            <a:off x="-192960" y="1652760"/>
            <a:ext cx="1646280" cy="733320"/>
          </a:xfrm>
          <a:custGeom>
            <a:avLst/>
            <a:gdLst>
              <a:gd name="textAreaLeft" fmla="*/ 288000 w 1646280"/>
              <a:gd name="textAreaRight" fmla="*/ 1193760 w 1646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976800">
            <a:off x="7431840" y="1905480"/>
            <a:ext cx="2151000" cy="733320"/>
          </a:xfrm>
          <a:custGeom>
            <a:avLst/>
            <a:gdLst>
              <a:gd name="textAreaLeft" fmla="*/ 376200 w 2151000"/>
              <a:gd name="textAreaRight" fmla="*/ 1559520 w 2151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3636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tribui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565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faz parte de uma equaçã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-892080"/>
            <a:ext cx="7345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3800" y="1341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sím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9440" y="416880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faz parte de uma comp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2400" y="530064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Uma a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= a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21040" y="6216480"/>
            <a:ext cx="59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o novo valor de a) (será) (o velho valor de a) ( mais 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2390760"/>
            <a:ext cx="273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 C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a+b+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00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 depois da execução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239076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       -      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       -      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1.0      -      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1.0     4.3     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9.6     4.3     4.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sca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39868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19640" y="1916280"/>
            <a:ext cx="49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put do 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entrar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ontrolar o programa (Esc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8520" y="981000"/>
            <a:ext cx="1552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8600" y="3716280"/>
            <a:ext cx="7130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f("format specifier(s)", &amp;var(s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3600" y="4797360"/>
            <a:ext cx="16254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d, %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51560" y="4722840"/>
            <a:ext cx="1549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endere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3429000"/>
            <a:ext cx="3670200" cy="93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56000" y="4292640"/>
            <a:ext cx="57600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1584360" cy="863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4365720"/>
            <a:ext cx="0" cy="358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45360" y="596916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f("%d %f", &amp;i, &amp;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sca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858440" cy="5172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3645000"/>
            <a:ext cx="43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canf lê um valor e coloca ess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caixa d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3907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f("%d", &amp;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700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 depois da execução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239076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ões, operandos e 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3440" y="1774800"/>
            <a:ext cx="12952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620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bin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773360"/>
            <a:ext cx="151272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dici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tr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i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773360"/>
            <a:ext cx="115236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*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/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3080" y="1268280"/>
            <a:ext cx="151308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268280"/>
            <a:ext cx="129528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9080" y="1268280"/>
            <a:ext cx="115236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3440" y="3935520"/>
            <a:ext cx="12952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3933720"/>
            <a:ext cx="15127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i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9080" y="3933720"/>
            <a:ext cx="11523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%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773360"/>
            <a:ext cx="432000" cy="2037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3933720"/>
            <a:ext cx="43200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5157720"/>
            <a:ext cx="36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30760" y="53942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     2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5157720"/>
            <a:ext cx="36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4720" y="5518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6360" y="5518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522936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7440" y="6093000"/>
            <a:ext cx="7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55640" y="5877000"/>
            <a:ext cx="7308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9800" y="501336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9080" y="6165720"/>
            <a:ext cx="7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%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3080" y="5589720"/>
            <a:ext cx="57636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8160" y="5516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18T11:25:57Z</dcterms:modified>
  <cp:revision>180</cp:revision>
  <dc:subject/>
  <dc:title>Slide 1</dc:title>
</cp:coreProperties>
</file>