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545-DE5A-4839-8864-E48834D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7A7-EDC3-440F-946E-D3BFFFF9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43C-B382-4A40-B836-6B24A82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990-0043-4B30-827A-A4250630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C07-5AC9-4996-BB60-AC3B3E9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E9E-A32D-48DB-8EA4-7EB89688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134-21B2-4736-A76E-806048F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47F-D6E8-4858-9B34-6BBDEABE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6AF-0F32-49F2-873F-F38D28C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EB5-4454-4255-980E-A068222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E50-B731-4E1E-860D-F728005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A26-83F7-414D-8AF4-EF0FBF7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D87-B508-4BA0-B521-8146FA52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15: Variáveis e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594240" cy="475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68560"/>
            <a:ext cx="626400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a,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square(double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localr = r*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 = 1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 = square(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rograma a seguir identifique os objectos globais e loc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6640" cy="114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6520" y="33177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573360"/>
            <a:ext cx="288000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0536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30252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reutilisabilidade da função será per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3213000"/>
            <a:ext cx="2519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rror: “unknown symbo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globais e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 caso de objectos globais e locais com o mesmo nom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1728720" cy="155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5636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08360" y="2708280"/>
            <a:ext cx="1873440" cy="719280"/>
          </a:xfrm>
          <a:prstGeom prst="leftRightArrow">
            <a:avLst>
              <a:gd name="adj1" fmla="val 50000"/>
              <a:gd name="adj2" fmla="val 51851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7800" y="1773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32000" y="2133360"/>
            <a:ext cx="1727280" cy="18716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2276640"/>
            <a:ext cx="1368720" cy="172872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1844640"/>
            <a:ext cx="2592360" cy="252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5294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á usado o objecto mais próximo: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0" y="579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óbvio que é desaconselhável a reutilização de n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262240"/>
            <a:ext cx="431928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_square(double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 = p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sqr = %.1f",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2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_square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x = %.1f",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5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980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69380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672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34144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4144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692280"/>
            <a:ext cx="288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816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765000"/>
            <a:ext cx="38876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gem por va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nova caixa (variável) é criada e o valor da chamada é copiada lá d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notar que existem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ua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riáveis distintas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que podem ter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valore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205000"/>
            <a:ext cx="719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755640" y="1844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2708280"/>
            <a:ext cx="7189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339640" y="1844640"/>
            <a:ext cx="86364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68400" y="62064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380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3154320"/>
            <a:ext cx="3348000" cy="82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r = 4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4091040"/>
            <a:ext cx="38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variável usada na chamada não mudou de valor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chamada apenas temos de fornecer um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val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Podemos usar qualquer expressão na chamada do procedimento: variáveis, constantes, funçõ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3920" y="2262240"/>
            <a:ext cx="460836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_square(double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change contents of p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*p = *p *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show contents of p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f", *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2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pass the address of x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_square(&amp;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f",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5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76500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gem por referê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 apenas uma caix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Mudar o valor de uma variável também muda, simultaneamente, o valor da outra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variávei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ig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2276640"/>
            <a:ext cx="71928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55640" y="1844640"/>
            <a:ext cx="21600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2637000"/>
            <a:ext cx="71928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115640" y="1844280"/>
            <a:ext cx="20876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154320"/>
            <a:ext cx="3348000" cy="82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r = 4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091040"/>
            <a:ext cx="3816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variável usada na chamada mudou de valor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chamada temos de fornecer uma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caix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O procedimento apenas pode ser chamada com um endereço (em vez de va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61498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2924280"/>
            <a:ext cx="2665080" cy="331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63640" y="1916280"/>
            <a:ext cx="3168720" cy="17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71640" y="5373360"/>
            <a:ext cx="216072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passagem por referênica e passagem por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1562040" cy="1609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32000" y="4046400"/>
            <a:ext cx="3314520" cy="1543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47080" y="141912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necer uma c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7240" y="383076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necer um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3284640"/>
            <a:ext cx="792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ica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952720" cy="2709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424320" y="1052640"/>
            <a:ext cx="55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ine queremos uma função com doi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output. Por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Carthesian (x,y) to polar (r,q) coordinat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 usar variáveis glob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140360" y="2349360"/>
            <a:ext cx="3816360" cy="8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587760"/>
            <a:ext cx="756144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xy_to_pol(float x, float y, float *r, float *th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*r = sqrt(x*x + y*y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*theta = atan(y/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rl, thet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y_to_pol(1.0, 1.0, &amp;r1, &amp;theta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polar coordinat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%f, %f)\n", rl, thet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3500280"/>
            <a:ext cx="280836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5734080"/>
            <a:ext cx="2089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076720" y="4149360"/>
            <a:ext cx="129564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4724280"/>
            <a:ext cx="1729080" cy="642600"/>
          </a:xfrm>
          <a:prstGeom prst="rect">
            <a:avLst/>
          </a:prstGeom>
          <a:solidFill>
            <a:srgbClr val="00ff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passagem por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ype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851200"/>
            <a:ext cx="381636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double10(double *d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*dp = 10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y=10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=1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10(&amp;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f %f\n", x, y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548240" cy="468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028000" y="644688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15_1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3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 e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765000"/>
            <a:ext cx="4572000" cy="47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, um array é um 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ervar 10x2 bytes na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ir o endereço 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i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é um apontador que aponta para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a é o conteúdo do endereço 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tem um int: o primeiro int do array, a[0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i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igu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4365720"/>
            <a:ext cx="2305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loat *f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p[0] = 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5877000"/>
            <a:ext cx="7632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ssar um array a uma função é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ssagem por referência!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 e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268280"/>
            <a:ext cx="712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Âmbito das variáve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- global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-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” vs. “passagem por referênc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glob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ode ser usado em todo 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39607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1809720" cy="197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6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global pode ser referenciada no código principal (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em todos os procedimentos do programa (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29080" y="31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global pode ser referenciada no código principal (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em todos os procedimentos do programa (</a:t>
            </a:r>
            <a:r>
              <a:rPr b="1" lang="pt-PT" sz="1800" spc="-1" strike="noStrike">
                <a:solidFill>
                  <a:srgbClr val="6600cc"/>
                </a:solidFill>
                <a:latin typeface="Arial"/>
              </a:rPr>
              <a:t>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28960" y="981000"/>
            <a:ext cx="1041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cc"/>
                </a:solidFill>
                <a:latin typeface="Arial"/>
              </a:rPr>
              <a:t>obj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809720" cy="19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3524400" cy="3524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objecto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ode ser usado em apenas parte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508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local apenas pode ser usado dentro do procedimento (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onde foi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5052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32120" cy="412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200000">
            <a:off x="6552360" y="3537720"/>
            <a:ext cx="37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M.C. Escher, pintor holandê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76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dentro para fora consegue-se ve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ud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76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fora para dentro não se consegue ver nad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65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estas pessoas conseguem ver o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734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nos não conseguimos ver dentro da 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692280"/>
            <a:ext cx="4032000" cy="583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4032000" cy="583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1942920" cy="20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4076640"/>
            <a:ext cx="7201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941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ansportablidade dos procedi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43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ter acesso às variáveis globais, usa parâ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ne-pass comp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180972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4221000"/>
            <a:ext cx="741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e outros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ne-pas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compiladores):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ó pode usar uma variável (constante/function/procedure)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poi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 sua decla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Unknown symbo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952560"/>
            <a:ext cx="626400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ouble x,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ouble square(double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ouble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calr = r*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turn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4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= square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390680"/>
            <a:ext cx="792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71440" y="1862280"/>
            <a:ext cx="92412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2349360"/>
            <a:ext cx="935280" cy="43200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8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 o objecto (function)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Pode ser chamada em qualquer parte do programa (incluído a função própria) e, por isso, é um objecto glo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1884240"/>
            <a:ext cx="193680" cy="43200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168560"/>
            <a:ext cx="626400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x,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square(double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double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localr = r*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local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eturn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4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square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rograma a seguir identifique os objectos globais e loc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1595520" cy="164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6520" y="33177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3095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94216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27T08:57:45Z</dcterms:modified>
  <cp:revision>467</cp:revision>
  <dc:subject/>
  <dc:title>Slide 1</dc:title>
</cp:coreProperties>
</file>