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205-B253-453F-9571-9D96D5AF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5B6-6A1B-42FE-9F99-FEFF6C41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C38-1978-4678-8515-2A8DCEFB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7C3B-D99B-4279-95AE-53317AD1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A7B-D746-4422-A204-FEE2182E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B37-5495-4ED5-892D-E18F2E21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384-9872-4E92-BA66-6DB766B2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B13-75B5-4436-9631-3C2E7AC2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1612-1AE5-45DE-95C7-55ECED96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7AB4-3DF5-4EBE-92FA-13860BAE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786-287A-4DD5-B793-B86D55C1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163-F8DF-48C7-880F-B51B1FB1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7F9C-A822-442E-832C-E4EE62B9A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907920"/>
            <a:ext cx="914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13: 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4162320" cy="3429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Programação Imper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 múltiplos.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19640" y="1197000"/>
            <a:ext cx="5400360" cy="5447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</a:t>
            </a:r>
            <a:br>
              <a:rPr sz="1600"/>
            </a:b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/* mostra matriz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matrix[3][3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mai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matrix[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][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] =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matrix[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][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1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] 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matrix[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][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2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] =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matrix[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1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][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] = 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matrix[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1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][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1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] = 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matrix[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1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][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2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] 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matrix[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2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][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] =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matrix[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2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][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1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] 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matrix[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2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][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2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] =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or (i=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; i&lt;3; i++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or (j=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; j&lt;3; j++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(“%d “, matrix[i][j]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(“\n”);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765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26654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. Cuidado com os índ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1268280"/>
            <a:ext cx="5400360" cy="2770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Tes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nt 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nt r[4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oid main(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a 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intf(“a=%d\n”, a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[4] =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intf(“a=%d\n”, a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1247760" cy="1290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780000" y="5013360"/>
            <a:ext cx="334800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a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a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76500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erá o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do seguinte program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92480" y="3240000"/>
            <a:ext cx="237636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587700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[4] = 1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vai sobreescrever o valor d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4000" y="4149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[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719000" y="4343400"/>
            <a:ext cx="431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56720" y="659772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t13_1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16146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2205000"/>
            <a:ext cx="5400720" cy="301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loat a[10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loat averag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i, 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scanf("%d", &amp;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average = 0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.0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or (i=0; i&lt;n; i++)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scanf(“%f”, &amp;a[i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average = average + a[i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average = average/(float)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("%f\n", averag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105264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reva um programa que calcula a média de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úm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84360" y="1989000"/>
            <a:ext cx="4176720" cy="3470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>
            <a:off x="2339280" y="1197000"/>
            <a:ext cx="1871640" cy="1008000"/>
          </a:xfrm>
          <a:prstGeom prst="wedgeRoundRectCallout">
            <a:avLst>
              <a:gd name="adj1" fmla="val -53226"/>
              <a:gd name="adj2" fmla="val 86532"/>
              <a:gd name="adj3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urray I understand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052640"/>
            <a:ext cx="748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array é uma colecção indexada de variáveis do mesmo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array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como um armário com gav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40000" y="2060640"/>
            <a:ext cx="3744720" cy="2808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1640" y="2490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0360" y="276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82680" y="3056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4520" y="4124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5280" y="3683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95280" y="3319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91240" y="5300640"/>
            <a:ext cx="565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.. um array. Cada gaveta conte coisas do mesmo 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. Porqu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105264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reva um programa que calcula a média de 10 núm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2062080"/>
            <a:ext cx="6769080" cy="40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float a1, a2, a3, a4, a5, a6, a7, a8, a9, a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float averag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scanf(“%f”, &amp;a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scanf(“%f”, &amp;a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scanf(“%f”, &amp;a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scanf(“%f”, &amp;a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scanf(“%f”, &amp;a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scanf(“%f”, &amp;a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scanf(“%f”, &amp;a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scanf(“%f”, &amp;a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scanf(“%f”, &amp;a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scanf(“%f”, &amp;a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average = (a1 + a2 + a3 + a4 + a5 + a6 + a7 + a8 + a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+ a10) / 10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1557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. Porqu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105264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reva um programa que calcula a média de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úm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932040"/>
            <a:ext cx="7777080" cy="5691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void main() 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float a01, a02, a03, a04, a05, a06, a07, a08, a09, a1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a11, a12, a13, a14, a15, a16, a17, a18, a19, a2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a21, a22, a23, a24, a25, a26, a27, a28, a29, a3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a31, a32, a33, a34, a35, a36, a37, a38, a39, a4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a41, a42, a43, a44, a45, a46, a47, a48, a49, a5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a51, a52, a53, a54, a55, a56, a57, a58, a59, a6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a61, a62, a63, a64, a65, a66, a67, a68, a69, a7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a71, a72, a73, a74, a75, a76, a77, a78, a79, a8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a81, a82, a83, a84, a85, a86, a87, a88, a89, a9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a91, a92, a93, a94, a95, a96, a97, a98, a99, a100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01);  scanf("%f", &amp;a02);  scanf("%f", &amp;a03);  scanf("%f", &amp;a04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05);  scanf("%f", &amp;a06);  scanf("%f", &amp;a07);  scanf("%f", &amp;a08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09);  scanf("%f", &amp;a10);  scanf("%f", &amp;a11);  scanf("%f", &amp;a12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13);  scanf("%f", &amp;a14);  scanf("%f", &amp;a15);  scanf("%f", &amp;a16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17);  scanf("%f", &amp;a18);  scanf("%f", &amp;a19);  scanf("%f", &amp;a20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21);  scanf("%f", &amp;a22);  scanf("%f", &amp;a23);  scanf("%f", &amp;a24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25);  scanf("%f", &amp;a26);  scanf("%f", &amp;a27);  scanf("%f", &amp;a28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29);  scanf("%f", &amp;a30);  scanf("%f", &amp;a31);  scanf("%f", &amp;a32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33);  scanf("%f", &amp;a34);  scanf("%f", &amp;a35);  scanf("%f", &amp;a36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37);  scanf("%f", &amp;a38);  scanf("%f", &amp;a39);  scanf("%f", &amp;a40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41);  scanf("%f", &amp;a42);  scanf("%f", &amp;a43);  scanf("%f", &amp;a44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45);  scanf("%f", &amp;a46);  scanf("%f", &amp;a47);  scanf("%f", &amp;a48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49);  scanf("%f", &amp;a50);  scanf("%f", &amp;a51);  scanf("%f", &amp;a52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53);  scanf("%f", &amp;a54);  scanf("%f", &amp;a55);  scanf("%f", &amp;a56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57);  scanf("%f", &amp;a58);  scanf("%f", &amp;a59);  scanf("%f", &amp;a60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61);  scanf("%f", &amp;a62);  scanf("%f", &amp;a63);  scanf("%f", &amp;a64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65);  scanf("%f", &amp;a66);  scanf("%f", &amp;a67);  scanf("%f", &amp;a68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69);  scanf("%f", &amp;a70);  scanf("%f", &amp;a71);  scanf("%f", &amp;a72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73);  scanf("%f", &amp;a74);  scanf("%f", &amp;a75);  scanf("%f", &amp;a76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77);  scanf("%f", &amp;a78);  scanf("%f", &amp;a79);  scanf("%f", &amp;a80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81);  scanf("%f", &amp;a82);  scanf("%f", &amp;a83);  scanf("%f", &amp;a84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85);  scanf("%f", &amp;a86);  scanf("%f", &amp;a87);  scanf("%f", &amp;a88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89);  scanf("%f", &amp;a90);  scanf("%f", &amp;a91);  scanf("%f", &amp;a92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93);  scanf("%f", &amp;a94);  scanf("%f", &amp;a95);  scanf("%f", &amp;a96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scanf("%f", &amp;a97);  scanf("%f", &amp;a98);  scanf("%f", &amp;a99);  scanf("%f", &amp;a100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media = (a01+a02+a03+a04+a05+a06+a07+a08+a09+a10+a11+a12+a13+a14+a15+a16+a17+a18+a19+a20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a21+a22+a23+a24+a25+a26+a27+a28+a29+a30+a31+a32+a33+a34+a35+a36+a37+a38+a39+a40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a41+a42+a43+a44+a45+a46+a47+a48+a49+a50+a51+a52+a53+a54+a55+a56+a57+a58+a59+a60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a61+a62+a63+a64+a65+a66+a67+a68+a69+a70+a71+a72+a73+a74+a75+a76+a77+a78+a79+a80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a81+a82+a83+a84+a85+a86+a87+a88+a89+a90+a91+a92+a93+a94+a95+a96+a97+a98+a99+100)/100.0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Media: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%f\n”</a:t>
            </a:r>
            <a:r>
              <a:rPr b="0" sz="800" spc="-1" strike="noStrike">
                <a:solidFill>
                  <a:srgbClr val="ffff00"/>
                </a:solidFill>
                <a:latin typeface="Courier New"/>
              </a:rPr>
              <a:t>, media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47628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reva um programa que calcula a média de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úm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. Porqu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76500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reva um programa que calcula a média de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10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úm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11905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reva um programa que calcula a média de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úmeros (n dado pelo utiliz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1917720"/>
            <a:ext cx="7416720" cy="3744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loat a1, a2, a3, a4, a5, a6, a7, a8, a9, a10, med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nt 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scanf("%d", &amp;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switch (n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case 1: scanf("%f", &amp;a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media = a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case 2: scanf("%f", &amp;a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scanf("%f", &amp;a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media = (a1+a2)/2.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(“Media: %f”, medi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. Porqu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76500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á que é possível fazer isso mais fáci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2781360"/>
            <a:ext cx="273528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8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vector/matriz/tens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. Decla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1557360"/>
            <a:ext cx="7488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type name[numelements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2492280"/>
            <a:ext cx="748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: indentifi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numelements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: limites do índice: 0 - numelements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: tipo do cada elemento do arr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4149720"/>
            <a:ext cx="6769440" cy="1310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loat account[100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long int prime[10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propinas[200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. U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836640"/>
            <a:ext cx="7488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name[index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35280" y="4653000"/>
            <a:ext cx="4934160" cy="824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(“%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”, account[20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opinas[1055]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3500280"/>
            <a:ext cx="1079280" cy="1944720"/>
          </a:xfrm>
          <a:custGeom>
            <a:avLst/>
            <a:gdLst/>
            <a:ahLst/>
            <a:rect l="l" t="t" r="r" b="b"/>
            <a:pathLst>
              <a:path w="680" h="1225">
                <a:moveTo>
                  <a:pt x="680" y="0"/>
                </a:moveTo>
                <a:cubicBezTo>
                  <a:pt x="555" y="329"/>
                  <a:pt x="430" y="658"/>
                  <a:pt x="317" y="862"/>
                </a:cubicBezTo>
                <a:cubicBezTo>
                  <a:pt x="204" y="1066"/>
                  <a:pt x="60" y="1172"/>
                  <a:pt x="0" y="1225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68360" y="3284640"/>
            <a:ext cx="15843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rime[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855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 múlti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25360"/>
            <a:ext cx="8928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ype name[numelements1][numelements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4920" y="2708280"/>
            <a:ext cx="2952720" cy="337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name[index1][index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765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clara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220500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6654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11-15T12:19:20Z</dcterms:modified>
  <cp:revision>541</cp:revision>
  <dc:subject/>
  <dc:title>Slide 1</dc:title>
</cp:coreProperties>
</file>