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944-A500-4A92-AFDA-76B8A88C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DBA-C886-47D2-BBC3-00CA527A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5B8-371C-4389-822D-85BA9601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F27-2719-49C2-9543-7037310C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1C5-335D-4BA2-80F8-6099DD81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DEC-F82A-46F5-8934-B8369157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AF4-6599-440E-B018-18A5427F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AD4-0EEA-40D6-A078-D978DB85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F9B-3C77-48AC-B67F-F235D9AE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696-4881-4C99-885E-B7296ECE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EA3-6D60-4811-A32E-2F4915AE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6F3-76F9-4CDE-9A92-C4EDCBF0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CD6C-63FE-4B89-B557-1749259B0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ula 14: Apon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080320" cy="294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551664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Uma vantagem do Windows: Arrastar e lar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16000" y="3398760"/>
            <a:ext cx="3168720" cy="2551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16000" y="1152360"/>
            <a:ext cx="3168720" cy="1922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78800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ap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653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exem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49360"/>
            <a:ext cx="5904000" cy="246672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void SlowProc(float a[1000]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a[1] = 1.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void main(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float r[1000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int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for (i=1; i&lt;=4000000; i++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SlowProc(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8760" y="4581360"/>
            <a:ext cx="2300760" cy="91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o de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entium II, 45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urbo Pascal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734080"/>
            <a:ext cx="100800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1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3860640"/>
            <a:ext cx="100836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11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547640" y="3429000"/>
            <a:ext cx="3603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68360" y="5805000"/>
            <a:ext cx="71928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3213000"/>
            <a:ext cx="5904000" cy="246672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void SlowProc(float *a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*a = 1.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void main(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float r[1000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int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for (i=1; i&lt;=4000000; i++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SlowProc(&amp;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77080" y="692280"/>
            <a:ext cx="1728720" cy="1049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484360" y="649116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ara poupar tempo, em C todas as arrays 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ã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 apon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exem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1800360" cy="1449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8764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a base de dados para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lunos e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funcionários,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isciplinas e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al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637000"/>
            <a:ext cx="741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quanto não sabemos o número de alunos, funcionários, disciplinas e salas temos de declarar um array com tamanho máximo possível. Isto vai gastar a memória to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lhor fazer isso dinamicamente. Reserva espaço para as variáveis na altura de correr o programa. Isso é (apenas) possível usando apont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46134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5805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orientada por objectos (O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 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4720" y="1125360"/>
            <a:ext cx="590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apontadores temos de ter muito cuid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ôr um valor num endereço apontado por um apontador não inicializado pode danificar o sistema operativo (até danificar o disco rígido ou comput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3573360"/>
            <a:ext cx="3672000" cy="210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int *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int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for (i=1; i&lt;=10000; i+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p = ran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*p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2162160" cy="216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48360" y="3357720"/>
            <a:ext cx="3527280" cy="26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093080" y="3573360"/>
            <a:ext cx="301320" cy="385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867280" y="414972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6372360" y="3500280"/>
            <a:ext cx="301320" cy="3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6372360" y="4292640"/>
            <a:ext cx="301320" cy="385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7667640" y="472428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659640" y="4869000"/>
            <a:ext cx="301680" cy="385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7164360" y="42195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5221440" y="4724280"/>
            <a:ext cx="301320" cy="385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6156360" y="5229360"/>
            <a:ext cx="301680" cy="38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2"/>
          <a:stretch/>
        </p:blipFill>
        <p:spPr>
          <a:xfrm>
            <a:off x="5508720" y="530064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6013440" y="465120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"/>
          <a:stretch/>
        </p:blipFill>
        <p:spPr>
          <a:xfrm>
            <a:off x="6516720" y="4005360"/>
            <a:ext cx="301680" cy="385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5"/>
          <a:stretch/>
        </p:blipFill>
        <p:spPr>
          <a:xfrm>
            <a:off x="8101080" y="407664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6"/>
          <a:stretch/>
        </p:blipFill>
        <p:spPr>
          <a:xfrm>
            <a:off x="6804000" y="45813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7"/>
          <a:stretch/>
        </p:blipFill>
        <p:spPr>
          <a:xfrm>
            <a:off x="7740720" y="35733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8"/>
          <a:stretch/>
        </p:blipFill>
        <p:spPr>
          <a:xfrm>
            <a:off x="7308720" y="472428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9"/>
          <a:stretch/>
        </p:blipFill>
        <p:spPr>
          <a:xfrm>
            <a:off x="8101080" y="5516640"/>
            <a:ext cx="301680" cy="385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0"/>
          <a:stretch/>
        </p:blipFill>
        <p:spPr>
          <a:xfrm>
            <a:off x="8101080" y="465120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1"/>
          <a:stretch/>
        </p:blipFill>
        <p:spPr>
          <a:xfrm>
            <a:off x="7310520" y="54435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2"/>
          <a:stretch/>
        </p:blipFill>
        <p:spPr>
          <a:xfrm>
            <a:off x="6950160" y="5083200"/>
            <a:ext cx="301680" cy="38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076720" y="3068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mó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128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14_3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 / Po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apontador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uma variável cujo valor é um endere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05120" y="2492280"/>
            <a:ext cx="2667240" cy="1362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4200" y="234936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94172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valor d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endereço $32500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stá a apontar endereço $32500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827680" y="2697120"/>
            <a:ext cx="1949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Decla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144880"/>
            <a:ext cx="3095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tipo *no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4720" y="14954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1197000"/>
            <a:ext cx="698364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39840" y="3665520"/>
            <a:ext cx="66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ti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tipo de informação /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nome para in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riar uma variável nome que aponta informação 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valor d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 endere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0560" y="5950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nt *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loat *f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144880"/>
            <a:ext cx="309564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amp;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o endereço d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14954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25034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qualquer variável (objec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378320"/>
            <a:ext cx="302580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nteúdo do endereç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7288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7372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ap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3080" y="1197000"/>
            <a:ext cx="698364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3080" y="3502080"/>
            <a:ext cx="698364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095640" cy="2948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19640" y="1268280"/>
            <a:ext cx="32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a variável do tipo float com valor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 ap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365720"/>
            <a:ext cx="590400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x = 3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 = &amp;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*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59500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resultado deste programa ... é imprevisí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65440" y="58910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ta que nos computadores Intel: um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eça com o LS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96000" y="4543560"/>
            <a:ext cx="1104840" cy="234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04080" y="4543560"/>
            <a:ext cx="1082520" cy="236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7760" y="2917800"/>
            <a:ext cx="10746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7880" y="117936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34000" y="111600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001101110101000110100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2720" y="1179360"/>
            <a:ext cx="107496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41600" y="1181160"/>
            <a:ext cx="1103040" cy="2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27680" y="1177920"/>
            <a:ext cx="110484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35760" y="1177920"/>
            <a:ext cx="1082520" cy="23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18280" y="117936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" y="1181160"/>
            <a:ext cx="1103400" cy="2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76600" y="3492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09800" y="81108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36520" y="1482840"/>
            <a:ext cx="68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char e o valor do char é 129 (1000001).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*p = 12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2560" y="291780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38680" y="285444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110001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0101000110100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46280" y="29192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2916360"/>
            <a:ext cx="1104840" cy="23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40440" y="2916360"/>
            <a:ext cx="1082520" cy="23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22960" y="291780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440" y="2919240"/>
            <a:ext cx="110304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81280" y="20876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4480" y="254952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38320" y="3186000"/>
            <a:ext cx="80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unsigned int e o valor do int é 50817 (11000110 10000001).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*p = 508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1040" y="4545000"/>
            <a:ext cx="107496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16200" y="454500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2320" y="448164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110001101110101000110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9560" y="45464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54500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4720" y="45464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44920" y="37148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8120" y="417672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7320" y="4857840"/>
            <a:ext cx="77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longint e o valor do longint é 7439246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00101100010101110110001110000001).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*p = 7439246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0920" y="5850000"/>
            <a:ext cx="74916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m todos estes casos, o valor de </a:t>
            </a: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é igual. O conteúdo do endereço </a:t>
            </a: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depende do tipo de apontad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Declaração exem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784520"/>
            <a:ext cx="3095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tipo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1350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8720" y="836640"/>
            <a:ext cx="698328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9129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specificação do ti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3573360"/>
            <a:ext cx="5904000" cy="824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char *charpt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nt *wordPt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loat real6arrayptr[6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65440" y="58910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ta que nos computadores Intel: um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eça com o LS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96000" y="4543560"/>
            <a:ext cx="1104840" cy="234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04080" y="4543560"/>
            <a:ext cx="1082520" cy="236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7760" y="2917800"/>
            <a:ext cx="10746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7880" y="117936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4000" y="111600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001101110101000110100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2720" y="1179360"/>
            <a:ext cx="107496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1600" y="1181160"/>
            <a:ext cx="1103040" cy="2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27680" y="1177920"/>
            <a:ext cx="110484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35760" y="1177920"/>
            <a:ext cx="1082520" cy="23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18280" y="117936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" y="1181160"/>
            <a:ext cx="1103400" cy="2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76600" y="3492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81108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36520" y="1482840"/>
            <a:ext cx="68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char e o valor do char é 129 (1000001).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*p = 12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52560" y="291780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8680" y="285444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110001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0101000110100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46280" y="29192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2916360"/>
            <a:ext cx="1104840" cy="23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40440" y="2916360"/>
            <a:ext cx="1082520" cy="23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22960" y="291780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440" y="2919240"/>
            <a:ext cx="110304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81280" y="20876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254952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38320" y="3186000"/>
            <a:ext cx="80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unsigned int e o valor do int é 50817 (11000110 10000001).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*p = 508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21040" y="4545000"/>
            <a:ext cx="107496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16200" y="454500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02320" y="448164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110001101110101000110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9560" y="45464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54500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4720" y="45464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4920" y="37148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8120" y="417672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57320" y="4857840"/>
            <a:ext cx="77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longint e o valor do longint é 7439246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00101100010101110110001110000001).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*p = 7439246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0920" y="5850000"/>
            <a:ext cx="74916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m todos estes casos, o valor de </a:t>
            </a: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é igual. O conteúdo do endereço </a:t>
            </a: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depende do tipo de apontad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21800" y="6553080"/>
            <a:ext cx="12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14_1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exem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836640"/>
            <a:ext cx="5904000" cy="2284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unsigned char *wordpt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unsigned char 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/* atribuir um valor ao word w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w = 2547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/* atribuir o endereço ao apontador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wordptr = &amp;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/* Mostrar o conteudo do endereco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printf("%d", *wordp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3716280"/>
            <a:ext cx="5904000" cy="2284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unsigned char *bytept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unsigned int 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/* atribuir um valor ao word w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w = 2547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/* atribuir o endereço ao apontador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byteptr = &amp;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/* Mostrar o conteudo do endereco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printf("%d", *bytep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128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14_2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836640"/>
            <a:ext cx="1512720" cy="337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254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6000" y="3716280"/>
            <a:ext cx="1512720" cy="337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1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1-21T11:15:50Z</dcterms:modified>
  <cp:revision>634</cp:revision>
  <dc:subject/>
  <dc:title>Slide 1</dc:title>
</cp:coreProperties>
</file>