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54E-A762-40A4-BEBF-EBEB537A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AD6-FF66-4333-9D8D-DAC2B25D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918-5619-4AC0-95D9-6B1FE449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F09-D00A-4847-B492-63F2FA97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385-102E-4C32-8E62-E1778EE1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F94-30C6-4EA3-849A-D108137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F91-E012-42B1-9B7A-38FC9123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2A1-E646-4342-9C1A-73F7A2A1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346-C96A-40F0-B381-2F5B8B56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162-2251-41BD-A627-7C6582E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31F-944F-45F4-85ED-245EB11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8AF-DA05-4F9B-A4CA-B9595AA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D734-885B-46AA-A4DF-D042C90FD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ula 11: Programação mo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5543640" cy="399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907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2781360"/>
            <a:ext cx="35290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instrução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instruçã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1760" y="4941720"/>
            <a:ext cx="81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á conhecemos funções. A “main” é uma função especial. O programa começ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ela primeira instrucção da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83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ugar para definir functions é antes o começo do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2205000"/>
            <a:ext cx="352908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novafuncao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664160"/>
            <a:ext cx="1584360" cy="6364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s instruções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o pr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2360" y="3448080"/>
            <a:ext cx="1584360" cy="5047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Um novo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2637000"/>
            <a:ext cx="1584360" cy="5047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s variáveis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o pr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733840"/>
            <a:ext cx="3529080" cy="15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novafuncao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836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ar o procedimento é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cham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4664160"/>
            <a:ext cx="2089080" cy="718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Uma das instruções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de ser o novo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ed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2133360" cy="2509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19800000">
            <a:off x="6950520" y="17002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WriteAja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880" y="3573360"/>
            <a:ext cx="600120" cy="1440000"/>
          </a:xfrm>
          <a:custGeom>
            <a:avLst/>
            <a:gdLst/>
            <a:ahLst/>
            <a:rect l="l" t="t" r="r" b="b"/>
            <a:pathLst>
              <a:path w="378" h="907">
                <a:moveTo>
                  <a:pt x="378" y="907"/>
                </a:moveTo>
                <a:cubicBezTo>
                  <a:pt x="204" y="665"/>
                  <a:pt x="30" y="423"/>
                  <a:pt x="15" y="272"/>
                </a:cubicBezTo>
                <a:cubicBezTo>
                  <a:pt x="0" y="121"/>
                  <a:pt x="234" y="53"/>
                  <a:pt x="28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2205000"/>
            <a:ext cx="352908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writeAja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4892760"/>
            <a:ext cx="3529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633680"/>
            <a:ext cx="352908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writeAja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633680"/>
            <a:ext cx="352908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writeAja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4370400"/>
            <a:ext cx="1511280" cy="28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3108240"/>
            <a:ext cx="3527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printf(“Ajax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1633680"/>
            <a:ext cx="208944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58831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strução (chamada)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Ajax;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efectivamente substitui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intf(“Ajax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5164200"/>
            <a:ext cx="35290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j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8751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633680"/>
            <a:ext cx="352908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oid writeAja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Aja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692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demos imaginar que as instruções do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ão inseridas no código pela ch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92593E-006 C 0.0592 0.02825 0.11841 0.05649 0.125 0.08612 C 0.1316 0.11575 0.08559 0.14677 0.03959 0.17779 E">
                                      <p:cBhvr>
                                        <p:cTn id="5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5164200"/>
            <a:ext cx="35290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j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27640" y="48751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1633680"/>
            <a:ext cx="352908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oid writeAja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Aja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692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lhor é pensar que o programa vai temporareamente se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rumpido a executar as instruções do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628640"/>
            <a:ext cx="338472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writeAja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4365720"/>
            <a:ext cx="610920" cy="26964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5300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4365720"/>
            <a:ext cx="610920" cy="26964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154240"/>
            <a:ext cx="610920" cy="27000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2133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655720"/>
            <a:ext cx="610920" cy="27000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6352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173400"/>
            <a:ext cx="610920" cy="27000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1399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414600"/>
            <a:ext cx="610920" cy="27000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33559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4365720"/>
            <a:ext cx="610920" cy="26964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4292640"/>
            <a:ext cx="720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5300640"/>
            <a:ext cx="374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encontra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.. programa interum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5300640"/>
            <a:ext cx="41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encontra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.. programa interompid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.. e começa no início do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5300640"/>
            <a:ext cx="41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a variável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5300640"/>
            <a:ext cx="41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‘Ajax’ no ecr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300640"/>
            <a:ext cx="41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m do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5300640"/>
            <a:ext cx="41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inua com os 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300640"/>
            <a:ext cx="41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m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4365720"/>
            <a:ext cx="122400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4005360"/>
            <a:ext cx="1224000" cy="21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em exec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40000" y="4221000"/>
            <a:ext cx="144360" cy="1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1628640"/>
            <a:ext cx="338472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writeAja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"Ajax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ão;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6280"/>
            <a:ext cx="6516720" cy="4717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/* example of a program with funct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oid module1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"Now I am entering Procedure Module1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"Give a value for y: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canf("%f", &amp;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"%0.3f", y/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"Starting the program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odule1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("Came back from Module1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299200"/>
            <a:ext cx="6264360" cy="1554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tarting the progra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ow I am entering Procedure Module1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a value for y: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12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.00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ame back from Modu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992160" cy="1166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372360" y="4076640"/>
            <a:ext cx="26445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s; Procedimento chama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620640"/>
            <a:ext cx="5761080" cy="6061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oid module1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loat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Now I am entering Procedure Module1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Give a value for y: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scanf("%f", &amp;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%0.3\n", y/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Leaving Module1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oid module2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loat z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Now I am entering Procedure Module2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module1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Give a value for z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scanf("%f", &amp;z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%0.3\n", z*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Leaving Module2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Now I am starting the program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module2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2135160" cy="1255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300720" y="2565360"/>
            <a:ext cx="26226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788000" y="5084640"/>
            <a:ext cx="4140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003640" y="5156280"/>
            <a:ext cx="1094040" cy="128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84720" y="5156280"/>
            <a:ext cx="919440" cy="1081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093080" y="5156280"/>
            <a:ext cx="67284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48888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8439120" y="5084640"/>
            <a:ext cx="306360" cy="360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68360" y="549360"/>
            <a:ext cx="676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function =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leg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ef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transportável (copiar partes do progra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uma vez com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upa tempo e o source está proteg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m ou com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com input: parâmet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m ou com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r o tipo de informação a retor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 'return' para return um va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 output?  -&gt;  tipo 'void' (vaz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chamar uma 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declaração antes do seu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-pass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main()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é uma função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comecerá 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modul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7635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9955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retorno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781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valor retornado</a:t>
            </a:r>
            <a:br>
              <a:rPr sz="1800"/>
            </a:b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347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060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parâmet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put val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924280"/>
            <a:ext cx="4535280" cy="158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3716280"/>
            <a:ext cx="45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2924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3139920"/>
            <a:ext cx="50292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3860640"/>
            <a:ext cx="50292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3139920"/>
            <a:ext cx="50328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3860640"/>
            <a:ext cx="50328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07664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407664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6160" y="407664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355920"/>
            <a:ext cx="358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2708280"/>
            <a:ext cx="1008000" cy="12952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492280"/>
            <a:ext cx="1295280" cy="5032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2131920"/>
            <a:ext cx="1368360" cy="368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4843440"/>
            <a:ext cx="360036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á para definir coisas no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ularidade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is leg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is transport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is efficient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- distribuir tar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modul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7635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9955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retorno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781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valor retornado</a:t>
            </a:r>
            <a:br>
              <a:rPr sz="1800"/>
            </a:b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9280" y="2347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2060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parâmet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put val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2924280"/>
            <a:ext cx="4535280" cy="158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3716280"/>
            <a:ext cx="45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2924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3139920"/>
            <a:ext cx="115092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bo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3860640"/>
            <a:ext cx="115092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a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3860640"/>
            <a:ext cx="115272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q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5080" y="407664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1440" y="4076640"/>
            <a:ext cx="35892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407664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3355920"/>
            <a:ext cx="3585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869000"/>
            <a:ext cx="360036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á para definir coisas no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ularidade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is leg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is transport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is ef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141720"/>
            <a:ext cx="115092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907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2781360"/>
            <a:ext cx="35290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uncname(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270828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979640" y="242064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0560" y="1989000"/>
            <a:ext cx="310968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 da informação a retor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907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781360"/>
            <a:ext cx="35290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uncname(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cção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cção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turn 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270828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979640" y="242064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0560" y="1989000"/>
            <a:ext cx="310968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 da informação a retor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3716280"/>
            <a:ext cx="1440000" cy="57636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0400" y="3376440"/>
            <a:ext cx="2831040" cy="1191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das instrucções d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r uma espcificaçã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lor a retornar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3860640"/>
            <a:ext cx="1944720" cy="1447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907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2781360"/>
            <a:ext cx="35290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uncname(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instruçã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2708280"/>
            <a:ext cx="720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979640" y="242064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000" y="1989000"/>
            <a:ext cx="484704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so não retornar nada, o tipo é “void” (vaz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0" y="907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2781360"/>
            <a:ext cx="35290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uncname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instruçã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708280"/>
            <a:ext cx="720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356000" y="2349360"/>
            <a:ext cx="64764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3840" y="1413000"/>
            <a:ext cx="3454200" cy="91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s parâmetros entre parêntesis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 (com parâmetros)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óxima a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907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2781360"/>
            <a:ext cx="35290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funcnam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instruçã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2674800"/>
            <a:ext cx="100800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067280" y="2349360"/>
            <a:ext cx="64764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16920" y="1628640"/>
            <a:ext cx="252612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 (nome) 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ão. (regra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907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781360"/>
            <a:ext cx="35290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uncname(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nt i, j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strução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instruçã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068640"/>
            <a:ext cx="1584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11640" y="2492280"/>
            <a:ext cx="64764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18000" y="2060640"/>
            <a:ext cx="280368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r variáveis (loc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1-08T21:15:56Z</dcterms:modified>
  <cp:revision>366</cp:revision>
  <dc:subject/>
  <dc:title>Slide 1</dc:title>
</cp:coreProperties>
</file>