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F16-8EFE-4AF2-BE6D-3D4B42B4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CF2-621A-40FD-B5D8-0E6260BD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8E1-EF16-464E-9A66-CF25FBE4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E31-DB1F-4A31-B977-CD47EA8D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0FD-26CC-47DD-B020-A27AB066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5F0-1ACE-4548-BC7F-55CD501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FB4-3673-4313-B059-7706E11C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CB9-4F15-499C-B66B-688859B0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A8C-76F4-4B06-9BC6-1462F27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7B9-4B54-4323-A074-14BF636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D1C-6926-4962-BD89-EC7D3EE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8E2-AA80-4187-B9F2-36AABF5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10C-A476-4107-8DE4-F2B268E1D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397400" cy="5950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9: Ciclos 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95640" y="2205000"/>
            <a:ext cx="0" cy="20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. expressões no bloco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5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907920"/>
            <a:ext cx="3529080" cy="733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j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j; i&lt;=2*j+1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"Ola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2957760" cy="3470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65080" y="4292640"/>
            <a:ext cx="323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iclo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2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&lt;= expres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95640" y="2492280"/>
            <a:ext cx="0" cy="20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. expressões no bloco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5080" y="4292640"/>
            <a:ext cx="323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iclo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2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&lt;= expres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5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720" y="907920"/>
            <a:ext cx="3529080" cy="1372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j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j; i&lt;=2*j+1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"Ola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j =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2957760" cy="3470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13440" y="2781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aninh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81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or ciclos dentro de outr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56360" y="476280"/>
            <a:ext cx="2411280" cy="220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6836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198900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06064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2492280"/>
            <a:ext cx="1584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35280" y="206028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2205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2781360"/>
            <a:ext cx="21603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99564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2492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5084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5084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148000" y="5300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4869000"/>
            <a:ext cx="0" cy="50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48000" y="537372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4653000"/>
            <a:ext cx="5760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24360" y="4653000"/>
            <a:ext cx="0" cy="7920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48360" y="5444640"/>
            <a:ext cx="576000" cy="18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4581360"/>
            <a:ext cx="4032360" cy="946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1; i&lt;=4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j=1; j&lt;=2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k=1; k&lt;=2; k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“%d %d %d\n“, i, j, k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aninhamento). Reciclagem de variáveis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981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or ciclos dentro de outr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476280"/>
            <a:ext cx="2411280" cy="2208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41128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227664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41964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98900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06064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492280"/>
            <a:ext cx="302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076720" y="206028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20500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2781360"/>
            <a:ext cx="367344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0872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2492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2276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71636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198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465300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3080" y="465300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508360" y="486900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5084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3080" y="5084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508360" y="5300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414828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9080" y="4148280"/>
            <a:ext cx="0" cy="129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508360" y="544500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720" y="3932280"/>
            <a:ext cx="5760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3932280"/>
            <a:ext cx="0" cy="15858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508720" y="5516640"/>
            <a:ext cx="576000" cy="144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2854440"/>
            <a:ext cx="1619280" cy="3987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3860640"/>
            <a:ext cx="4681440" cy="179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1; i&lt;=2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j=1; j&lt;=2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k=1; k&lt;=2; k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“%d %d %d\n“, i, j, k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k=1; k&lt;=2; k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“%d %d %d\n“, i, j, k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 dow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1840" y="4292640"/>
            <a:ext cx="323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4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&gt;= qu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subtrai 1 d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920" y="350028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 instruçã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41497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2720" y="907920"/>
            <a:ext cx="352908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4; i&gt;=1; i--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“%d Ola\n“, i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08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32360" y="1557360"/>
            <a:ext cx="0" cy="37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loop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: para repetir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276640"/>
            <a:ext cx="2089080" cy="2304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00360" y="3357720"/>
            <a:ext cx="144360" cy="14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844360" y="3357720"/>
            <a:ext cx="142920" cy="14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213000"/>
            <a:ext cx="1800000" cy="4320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9440" y="514296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931640" y="514476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9440" y="306648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31640" y="306828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9440" y="1771560"/>
            <a:ext cx="1429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31640" y="177300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iclo </a:t>
            </a: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ara repetir coisas numa maneira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342880" cy="2048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01160" y="3003480"/>
            <a:ext cx="40212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startI; testC; stepI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stru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40831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a instrução exactamente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m-start+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0680" y="1484280"/>
            <a:ext cx="4225680" cy="495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9228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iclo </a:t>
            </a: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ara repetir coisas numa maneira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4156200"/>
            <a:ext cx="40212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startI; testC; stepI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stru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2354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s instruções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structio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ep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té condiçã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est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95640" y="21337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720" y="907920"/>
            <a:ext cx="352908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1; i&lt;5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"Ola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1840" y="4568760"/>
            <a:ext cx="323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enor qu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920" y="299736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s instruç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581360"/>
            <a:ext cx="352728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36464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3004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95640" y="21337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720" y="907920"/>
            <a:ext cx="3529080" cy="1159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1; i&lt;5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"Ola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"Bom dia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1840" y="4568760"/>
            <a:ext cx="323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enor qu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920" y="299736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s instruç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l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4581360"/>
            <a:ext cx="3527280" cy="2040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Bom di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Bom di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Bom di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Bom 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6464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3004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155880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7240" y="5013360"/>
            <a:ext cx="312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enor qu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é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920" y="242244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 instruçã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('Ol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zero (0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2720" y="3863880"/>
            <a:ext cx="3527640" cy="1448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307188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08720" y="476280"/>
            <a:ext cx="3130560" cy="3673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48360" y="1052640"/>
            <a:ext cx="1081080" cy="358560"/>
          </a:xfrm>
          <a:custGeom>
            <a:avLst/>
            <a:gdLst/>
            <a:ahLst/>
            <a:rect l="l" t="t" r="r" b="b"/>
            <a:pathLst>
              <a:path w="590" h="181">
                <a:moveTo>
                  <a:pt x="0" y="0"/>
                </a:moveTo>
                <a:cubicBezTo>
                  <a:pt x="42" y="53"/>
                  <a:pt x="84" y="106"/>
                  <a:pt x="182" y="136"/>
                </a:cubicBezTo>
                <a:cubicBezTo>
                  <a:pt x="280" y="166"/>
                  <a:pt x="435" y="173"/>
                  <a:pt x="590" y="18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2720" y="907920"/>
            <a:ext cx="352908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1; i&lt;1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"Ola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300480" cy="3871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5640" y="1989000"/>
            <a:ext cx="0" cy="237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, usar variável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5440" y="4292640"/>
            <a:ext cx="317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enor qu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852640"/>
            <a:ext cx="1152360" cy="503280"/>
          </a:xfrm>
          <a:prstGeom prst="rect">
            <a:avLst/>
          </a:prstGeom>
          <a:solidFill>
            <a:srgbClr val="00ff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1413000"/>
            <a:ext cx="2879640" cy="12240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2720" y="907920"/>
            <a:ext cx="352908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1; i&lt;5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“%d Ola\n“, i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2720" y="907920"/>
            <a:ext cx="3529080" cy="1159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for (i=1; i&lt;=4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printf("Ola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i++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138480" cy="3682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95640" y="2349360"/>
            <a:ext cx="0" cy="237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, mal uso da variável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5440" y="4292640"/>
            <a:ext cx="317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&lt;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falsa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2720" y="4941720"/>
            <a:ext cx="352764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3284640"/>
            <a:ext cx="1152720" cy="503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628640"/>
            <a:ext cx="2519640" cy="100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1413000"/>
            <a:ext cx="144360" cy="36036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2205000"/>
            <a:ext cx="152640" cy="863640"/>
          </a:xfrm>
          <a:custGeom>
            <a:avLst/>
            <a:gdLst>
              <a:gd name="textAreaLeft" fmla="*/ 97560 w 152640"/>
              <a:gd name="textAreaRight" fmla="*/ 153000 w 152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950080"/>
            <a:ext cx="424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 mexe com a variável de contro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0-31T09:59:21Z</dcterms:modified>
  <cp:revision>302</cp:revision>
  <dc:subject/>
  <dc:title>Slide 1</dc:title>
</cp:coreProperties>
</file>