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2E4-C40C-45B9-A3BF-BC9AD1FB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E10-474E-4C10-997A-1359FA7A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E37-97C8-4E45-B71A-16603A92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CAA-7B0C-4CBB-8662-9EA5591B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8B3-62AE-44AC-AAA2-FF61DE8B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D511-86E6-4C02-8EB9-5ACC8B0C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7CA-F95D-4E9E-867C-560968A2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829-F6BE-4F1D-AB02-AA6B0A6D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69D-6E03-43BF-9D0F-7B9A4058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AE2-44FE-42CF-AE15-6480FEEF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8D2-0CD2-4ECF-9E27-DB17BF21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C356-A828-47B1-A868-7F7570F6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679F-0C98-4462-BC2F-490674F79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692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21: Fich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5715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diference entr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(...)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(f,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4920" y="981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6360" y="62373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87280" y="3716280"/>
          <a:ext cx="5832720" cy="25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3716280"/>
                    <a:ext cx="5832720" cy="25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187280" y="1139760"/>
          <a:ext cx="5618160" cy="243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1139760"/>
                    <a:ext cx="561816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1280" y="765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Quinto pas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Fe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2060640"/>
            <a:ext cx="45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filehand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2781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ilehandl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uma variável do tip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645000"/>
            <a:ext cx="4753080" cy="1067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ssign(f, ‘myfile.txt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write(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WriteLn(f, r:0: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Close(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5300640"/>
            <a:ext cx="5761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Não fechar um ficheiro (aberto para escrever) pode perder inform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482840" cy="1533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308720" y="6381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21_1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um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76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unicação com ficheiros sempre consiste dos seguites pa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58920" y="1557360"/>
          <a:ext cx="6670800" cy="462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557360"/>
                    <a:ext cx="667080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unções Út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47640" y="765000"/>
            <a:ext cx="45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filehand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341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ilehandl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uma variável do tip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5013360"/>
            <a:ext cx="4753080" cy="1554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ssign(f, ‘myfile.txt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set(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(f, 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until EoF(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Close(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91772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OL (end-of-line) Uma função de PASCAL que retorna TRUE caso está a ler no fim da l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2787480"/>
            <a:ext cx="45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filehand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638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ilehandl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uma variável do tip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9402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OF (end-of-file) Uma função de PASCAL que retorna TRUE caso está a ler no fim do fich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5013360"/>
            <a:ext cx="4753080" cy="1554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ssign(f, ‘myfile.txt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set(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while NOT EoF(f)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(f, 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Close(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515772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1468440"/>
            <a:ext cx="4753080" cy="3744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OGRAM WithFileOutPu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ar f: tex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s: strin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i: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WriteLn('Nome do Ficheiro:'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ssign(f, 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write(f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or i := 1 to 10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WriteLn(f, i, ' Ola'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Close(f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468440"/>
            <a:ext cx="2592360" cy="580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Nome do Ficheir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TES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0360" y="2692440"/>
            <a:ext cx="2592360" cy="2527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1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2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3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4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5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6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7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8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9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10 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1108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ódigo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1108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ecrã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3414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ficheiro TEST.T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15280" y="64911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21_2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9640" y="1181160"/>
            <a:ext cx="4753080" cy="5204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OGRAM WithFileInPu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ar f: tex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c: cha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s: strin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i: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WriteLn('Nome do Ficheiro:'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ssign(f, 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set(f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While NOT Eof(f)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(* le um caractere: *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(f, c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(* mostra no ecran: *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Write(c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Close(f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0" y="3286080"/>
            <a:ext cx="2592360" cy="17974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Nome do Ficheir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TES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1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2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3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4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5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1197000"/>
            <a:ext cx="2592360" cy="1310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1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2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3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4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00"/>
                </a:solidFill>
                <a:latin typeface="Courier New"/>
              </a:rPr>
              <a:t>5 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8208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ódigo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2925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ecrã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62064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teúdo do ficheiro TEST.TXT antes de co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15280" y="64911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21_3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cheiros do tipo AS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515772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r e escrever ficheiros do tipo AS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465280" cy="227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19280" y="1413000"/>
            <a:ext cx="280836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andos relacionados com fich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84560"/>
            <a:ext cx="4572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d, ReadL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, WriteL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ol,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1280" y="620640"/>
            <a:ext cx="734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imeiro pas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declarar uma variável que vai guardar as informações do ficheiro, tal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o nome do fich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o estado do ficheiro (fechado, aberto para ler, aberto para escre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a posição de leitura/escri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3141720"/>
            <a:ext cx="45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ilehandl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4005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handle: o nome da variável (não do fichei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xt: o tipo da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5084640"/>
            <a:ext cx="4753080" cy="580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ar f: t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ar myfile: tex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1280" y="765000"/>
            <a:ext cx="734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Segundo pas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specificar o nome do ficheiro a abr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run-tim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na altura de correr o progra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2133720"/>
            <a:ext cx="45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filehandle, 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314172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ilehandl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uma variável do tip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um string que contem o nome do ficheiro. constante ou variá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4437000"/>
            <a:ext cx="4752720" cy="1310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ssign(f, ‘myfile.txt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writeln(‘nome do ficheiro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ssign(f, 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6093000"/>
            <a:ext cx="69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sto ainda não abre o fichei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eset / Re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765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Terceiro pas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brir o ficheiro para ler ou esc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2060640"/>
            <a:ext cx="45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filehand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37162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ilehandl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uma variável do tip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4724280"/>
            <a:ext cx="4753080" cy="1310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ssign(f, ‘myfile.txt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set(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ssign(f, 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write(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2557440"/>
            <a:ext cx="45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wri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filehand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83280" y="1773360"/>
            <a:ext cx="1297080" cy="647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3280" y="2565360"/>
            <a:ext cx="1297080" cy="64764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sc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1280" y="765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Quarto pas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2060640"/>
            <a:ext cx="45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filehandle, ..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342900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ilehandl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uma variável do tip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 lista de variáveis a 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7640" y="4724280"/>
            <a:ext cx="4753080" cy="824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ssign(f, ‘myfile.txt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set(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f, 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43640" y="692280"/>
            <a:ext cx="1297080" cy="647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2557440"/>
            <a:ext cx="45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filehandle, ..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diference entr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ead(...)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ead(f,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19280" y="3862440"/>
            <a:ext cx="4319640" cy="2230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4863960" cy="2052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4920" y="981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36360" y="62373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3880" cy="404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1280" y="765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Quarto pas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sc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2060640"/>
            <a:ext cx="45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filehandle, ..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342900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ilehandl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uma variável do tip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 lista de informações a esc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4724280"/>
            <a:ext cx="4753080" cy="824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ssign(f, ‘myfile.txt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write(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WriteLn(f, r:0: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2557440"/>
            <a:ext cx="45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filehandle, ..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04000" y="907920"/>
            <a:ext cx="1297080" cy="64800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sc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5-03T12:39:08Z</dcterms:modified>
  <cp:revision>655</cp:revision>
  <dc:subject/>
  <dc:title>Slide 1</dc:title>
</cp:coreProperties>
</file>