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AE6-820C-4BE6-8FF7-88E21563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2DD-61D4-451D-9EB3-D20F241F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CE4-786D-4F6C-85F2-0DC78954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15C-33FE-482E-AE71-E9B0B2C6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1E4-8157-429C-803A-BA6DE974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E40-892E-4D92-B11B-C6D09F57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EDF-F0CC-413B-8849-E63ED467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707-9F38-4858-8E63-DEE8F9AA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FAD-9C9B-417D-A45F-D848D0CE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B74-182B-48E8-898B-570AA301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59E-4E83-4A4E-A1A6-BD9309E6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D53-3516-4403-B9CE-A93CE2F1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7E10-9491-4564-AD0B-66460C41C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5: Vari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veis 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80360" cy="2511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71640" y="609300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*potholes: buracos na r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303640" cy="2106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48360" y="3546360"/>
            <a:ext cx="3619440" cy="2986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48000" y="836640"/>
            <a:ext cx="5327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Para armazenar informação (aula 3, unidades de informa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variável é semelhante a uma caix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localiza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nteúd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3789360"/>
            <a:ext cx="4464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istem vários tipos de informação (aula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ários tipos de caix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ários tipos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422100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303640" cy="21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48360" y="3546360"/>
            <a:ext cx="3619440" cy="2986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48000" y="836640"/>
            <a:ext cx="5327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Para armazenar informação (aula 3, unidades de informa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variável é semelhante a uma caix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localiza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nteúd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789360"/>
            <a:ext cx="4464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istem vários tipos de informação (aula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ários tipos de caix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ários tipos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2339640" y="2133720"/>
            <a:ext cx="1079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22100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579400">
            <a:off x="1476360" y="1844640"/>
            <a:ext cx="100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2205000"/>
            <a:ext cx="648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2133720"/>
            <a:ext cx="1440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1280" y="2637000"/>
            <a:ext cx="865080" cy="107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59280" y="2852640"/>
            <a:ext cx="1584360" cy="36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ndereç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2133720"/>
            <a:ext cx="1224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32720" y="2637000"/>
            <a:ext cx="5032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720" y="2924280"/>
            <a:ext cx="1584360" cy="36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l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70828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3068640"/>
            <a:ext cx="1655640" cy="431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dentificad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2205000"/>
            <a:ext cx="64764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427640" y="1989000"/>
            <a:ext cx="730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4360" y="1557360"/>
            <a:ext cx="2160360" cy="431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 de informaçã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907920"/>
            <a:ext cx="712944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Boolea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erdade ou 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Inteiro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longin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úmeros inteir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tável: 1, 2, 3 etc. Têm uma ordem 3 &gt; 2, etc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só 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Floating poin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xtende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é possivel con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.1415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45E23  (2.45 x 10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: baixa precisão, até extended: alta pr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Text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'Benfica o glorioso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'c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13  (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pontadore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oint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ontam a endereços especificos da mem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812000" cy="240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27840" y="4545000"/>
            <a:ext cx="60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Inteiro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longin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úmeros inteir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tável: 1, 2, 3 etc. Têm uma ordem 3 &gt; 2, etc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só 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907920"/>
            <a:ext cx="712944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Boolea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erdade ou 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Inteiro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longin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úmeros inteir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tável: 1, 2, 3 etc. Têm uma ordem 3 &gt; 2, etc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só 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Floating poin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xtende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é possivel con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.1415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45E23  (2.45 x 10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: baixa precisão, até extended: alta pr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Text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'Benfica o glorioso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'c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13  (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pontadore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oint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ontam a endereços especificos da mem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503800">
            <a:off x="1042920" y="162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56000" y="1052640"/>
          <a:ext cx="5467320" cy="4033800"/>
        </p:xfrm>
        <a:graphic>
          <a:graphicData uri="http://schemas.openxmlformats.org/drawingml/2006/table">
            <a:tbl>
              <a:tblPr/>
              <a:tblGrid>
                <a:gridCol w="1187280"/>
                <a:gridCol w="3054600"/>
                <a:gridCol w="122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4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man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o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E/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.. 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2768 .. 32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.. 65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147483648 .. 2147483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E-39 .. 1.7E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E-324 .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1.7E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en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4E-4932 .. 1.1E4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 rot="20622000">
            <a:off x="1043280" y="256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5400">
            <a:off x="1116000" y="37159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533200">
            <a:off x="1116000" y="47239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900000" y="3213000"/>
            <a:ext cx="165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900000" y="4365720"/>
            <a:ext cx="165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900000" y="5086440"/>
            <a:ext cx="165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900000" y="1773360"/>
            <a:ext cx="165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900000" y="1413000"/>
            <a:ext cx="165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91628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5589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* Notação científica: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5.0E-34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= 5.0 x 10</a:t>
            </a:r>
            <a:r>
              <a:rPr b="0" lang="pt-PT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PT" sz="1800" spc="-1" strike="noStrike" baseline="30000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1280" y="1413000"/>
            <a:ext cx="3672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ffffff"/>
                </a:solidFill>
                <a:latin typeface="Arial"/>
              </a:rPr>
              <a:t>VAR nome: tipo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83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criar uma variável?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1413000"/>
            <a:ext cx="3672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ffffff"/>
                </a:solidFill>
                <a:latin typeface="Arial"/>
              </a:rPr>
              <a:t>VAR nome: tipo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1341360"/>
            <a:ext cx="1295640" cy="71928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55640" y="2060640"/>
            <a:ext cx="215640" cy="576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2565360"/>
            <a:ext cx="2160720" cy="936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lavra reservad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83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criar uma variável?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19640" y="1413000"/>
            <a:ext cx="1439640" cy="71892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066920" y="2133720"/>
            <a:ext cx="73080" cy="71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2852640"/>
            <a:ext cx="1655640" cy="432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dentificad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6360" y="1413000"/>
            <a:ext cx="1295640" cy="71892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0000" y="2133720"/>
            <a:ext cx="216000" cy="790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2924280"/>
            <a:ext cx="180036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” (integer,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1413000"/>
            <a:ext cx="3672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ffffff"/>
                </a:solidFill>
                <a:latin typeface="Arial"/>
              </a:rPr>
              <a:t>VAR nome: tipo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83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criar uma variável?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2349360"/>
            <a:ext cx="6121440" cy="2300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PROGRAM DeclareVariab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VAR a: real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  i: integer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VAR x, y, z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writeln(‘x=’,x, ‘y=‘, y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1413000"/>
            <a:ext cx="3672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ffffff"/>
                </a:solidFill>
                <a:latin typeface="Arial"/>
              </a:rPr>
              <a:t>VAR nome: tipo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83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criar uma variável?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2349360"/>
            <a:ext cx="6121440" cy="2300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PROGRAM DeclareVariab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VAR a: real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  i: integer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VAR x, y, z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writeln(‘x=’,x, ‘y=‘, y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4653000"/>
            <a:ext cx="612144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x=3.4e33 y=-5.6e-32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5373720"/>
            <a:ext cx="44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 reserve espaço na mem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ribue um nome a este espaç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atribue um valor ao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32000" y="5129280"/>
            <a:ext cx="14619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ula 5: Variáveis 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655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s instruções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s instruções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it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2249640" cy="2830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19640" y="1125360"/>
            <a:ext cx="48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ara mostrar result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, números, valor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3141720"/>
            <a:ext cx="6121440" cy="1334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PROGRAM WriteLnExamp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writeln(‘Today is a very nice day’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2249640" cy="2830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19640" y="1125360"/>
            <a:ext cx="48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ara mostrar result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, números, valor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3141720"/>
            <a:ext cx="6121440" cy="1334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PROGRAM WriteLnExamp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writeln(‘Today is a very nice day’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2997360"/>
            <a:ext cx="230472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2349360"/>
            <a:ext cx="24480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dentificador (nome do progra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24360" y="2852640"/>
            <a:ext cx="3603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4076640"/>
            <a:ext cx="79200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1640" y="4581360"/>
            <a:ext cx="165564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m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4508640"/>
            <a:ext cx="50328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2997360"/>
            <a:ext cx="144144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76360" y="2492280"/>
            <a:ext cx="226692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íci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555640" y="2852640"/>
            <a:ext cx="144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0720" y="3789360"/>
            <a:ext cx="431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4869000"/>
            <a:ext cx="165564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nalizada com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451640" y="4221000"/>
            <a:ext cx="43344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87640" y="3716280"/>
            <a:ext cx="496908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581360"/>
            <a:ext cx="165564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única instr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763640" y="4005360"/>
            <a:ext cx="115272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229360"/>
            <a:ext cx="165564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i mudar o estado do 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s instruções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it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2249640" cy="283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19640" y="1125360"/>
            <a:ext cx="48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ara mostrar result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, números, valor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3141720"/>
            <a:ext cx="6121440" cy="1334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PROGRAM WriteLnExamp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writeln(‘Today is a very nice day’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65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pois compilação e executação o ecrã mo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5300640"/>
            <a:ext cx="6121440" cy="785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oday is a very nic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s instruções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it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2249640" cy="2830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19640" y="1125360"/>
            <a:ext cx="48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ara mostrar result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, números, valor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141720"/>
            <a:ext cx="6121440" cy="1334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PROGRAM WriteLnExamp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writeln(‘Today is a very nice day’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65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pois compilação e executação o ecrã mo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5300640"/>
            <a:ext cx="6121440" cy="785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oday is a very nic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5734080"/>
            <a:ext cx="64764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6207120"/>
            <a:ext cx="2448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nto do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476360" y="6237000"/>
            <a:ext cx="79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s instruções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it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s instruções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it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19280" y="981000"/>
            <a:ext cx="6121440" cy="1334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PROGRAM WriteLnExamp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ffff00"/>
                </a:solidFill>
                <a:latin typeface="Courier New"/>
              </a:rPr>
              <a:t>writeln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(‘Today is a very nice day’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2349360"/>
            <a:ext cx="6121440" cy="785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oday is a very nic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3513240"/>
            <a:ext cx="6121440" cy="1334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PROGRAM WriteLnExamp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ffff00"/>
                </a:solidFill>
                <a:latin typeface="Courier New"/>
              </a:rPr>
              <a:t>write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(‘Today is a very nice day’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4881600"/>
            <a:ext cx="612144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oday is a very nice day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759240" y="1408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939600" y="252396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759240" y="40028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939600" y="49003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s instruções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it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981000"/>
            <a:ext cx="6121440" cy="1608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PROGRAM WriteLnExamp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ffff00"/>
                </a:solidFill>
                <a:latin typeface="Courier New"/>
              </a:rPr>
              <a:t>writeln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(‘Today is a very nice day’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ffff00"/>
                </a:solidFill>
                <a:latin typeface="Courier New"/>
              </a:rPr>
              <a:t>writeln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(‘Or maybe not’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2637000"/>
            <a:ext cx="6121440" cy="916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oday is a very nice day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Or maybe not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4083120"/>
            <a:ext cx="6121440" cy="1608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PROGRAM WriteLnExamp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ffff00"/>
                </a:solidFill>
                <a:latin typeface="Courier New"/>
              </a:rPr>
              <a:t>write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(‘Today is a very nice day’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ffff00"/>
                </a:solidFill>
                <a:latin typeface="Courier New"/>
              </a:rPr>
              <a:t>write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(‘Or maybe not’);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5726160"/>
            <a:ext cx="612144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oday is a very nice dayOr maybe not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303640" cy="210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48360" y="3546360"/>
            <a:ext cx="3619440" cy="2986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348000" y="836640"/>
            <a:ext cx="532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: Para armazenar informação (aula 3, unidades de informa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variável é semelhante a uma c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3789360"/>
            <a:ext cx="4464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istem vários tipos de informação (aula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ários tipos de caix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ários tipos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771280" y="213372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5280" y="422100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3-01T14:32:48Z</dcterms:modified>
  <cp:revision>136</cp:revision>
  <dc:subject/>
  <dc:title>Slide 1</dc:title>
</cp:coreProperties>
</file>