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63B-BD87-4EA8-A946-5F602988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B87C-6FF9-457D-842F-066CB194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49F-1F75-4168-8863-0C055F0B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3BF-0833-4B7F-AB3A-0F0967A1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8F7-5855-4FE9-A24A-6053BF44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0468-CAC7-4975-B33D-790A8CC7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A3A-6B53-49A2-98E5-0A9DFBAB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EB4-68B4-44C2-835F-3558E980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580-B87F-44DD-B347-416732F5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C75-4101-42A3-919F-8C441285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882-B48B-4074-A77F-1768F7C5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FE5-46BC-48F6-9EB0-6186E600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BC89-E01B-4566-8273-A8F4DBA2C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6920" y="9079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7: Mate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1600" y="907920"/>
            <a:ext cx="45766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temática nomencl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2205000"/>
            <a:ext cx="612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d := a + b - 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2349360"/>
            <a:ext cx="36036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3564000" y="2708280"/>
            <a:ext cx="7128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3427560"/>
            <a:ext cx="122400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80000" y="2276640"/>
            <a:ext cx="36036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067280" y="2636640"/>
            <a:ext cx="217440" cy="43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4720" y="2997360"/>
            <a:ext cx="122400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40360" y="2205000"/>
            <a:ext cx="129528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858920" y="1916280"/>
            <a:ext cx="289080" cy="288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3640" y="1557360"/>
            <a:ext cx="122400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44118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ndo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dor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4920" y="44118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a50021"/>
                </a:solidFill>
                <a:latin typeface="Courier New"/>
              </a:rPr>
              <a:t>a</a:t>
            </a:r>
            <a:br>
              <a:rPr sz="1800"/>
            </a:br>
            <a:r>
              <a:rPr b="0" lang="pt-PT" sz="1800" spc="-1" strike="noStrike">
                <a:solidFill>
                  <a:srgbClr val="a50021"/>
                </a:solidFill>
                <a:latin typeface="Courier New"/>
              </a:rPr>
              <a:t>+</a:t>
            </a:r>
            <a:br>
              <a:rPr sz="1800"/>
            </a:br>
            <a:r>
              <a:rPr b="0" lang="pt-PT" sz="1800" spc="-1" strike="noStrike">
                <a:solidFill>
                  <a:srgbClr val="a50021"/>
                </a:solidFill>
                <a:latin typeface="Courier New"/>
              </a:rPr>
              <a:t>a+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temática nomencl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2205000"/>
            <a:ext cx="612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d := a + b - 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2349360"/>
            <a:ext cx="36036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3564000" y="2708280"/>
            <a:ext cx="7128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427560"/>
            <a:ext cx="122400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0000" y="2276640"/>
            <a:ext cx="36036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4067280" y="2636640"/>
            <a:ext cx="217440" cy="43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2997360"/>
            <a:ext cx="122400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2205000"/>
            <a:ext cx="129528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858920" y="1916280"/>
            <a:ext cx="289080" cy="288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1557360"/>
            <a:ext cx="122400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3640" y="2133720"/>
            <a:ext cx="2592360" cy="647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924000" y="1557360"/>
            <a:ext cx="144360" cy="576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1197000"/>
            <a:ext cx="144000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pre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44118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ndo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dor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ção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pres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4920" y="44118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a50021"/>
                </a:solidFill>
                <a:latin typeface="Courier New"/>
              </a:rPr>
              <a:t>a</a:t>
            </a:r>
            <a:br>
              <a:rPr sz="1800"/>
            </a:br>
            <a:r>
              <a:rPr b="0" lang="pt-PT" sz="1800" spc="-1" strike="noStrike">
                <a:solidFill>
                  <a:srgbClr val="a50021"/>
                </a:solidFill>
                <a:latin typeface="Courier New"/>
              </a:rPr>
              <a:t>+</a:t>
            </a:r>
            <a:br>
              <a:rPr sz="1800"/>
            </a:br>
            <a:r>
              <a:rPr b="0" lang="pt-PT" sz="1800" spc="-1" strike="noStrike">
                <a:solidFill>
                  <a:srgbClr val="a50021"/>
                </a:solidFill>
                <a:latin typeface="Courier New"/>
              </a:rPr>
              <a:t>a+b</a:t>
            </a:r>
            <a:br>
              <a:rPr sz="1800"/>
            </a:br>
            <a:r>
              <a:rPr b="0" lang="pt-PT" sz="1800" spc="-1" strike="noStrike">
                <a:solidFill>
                  <a:srgbClr val="a50021"/>
                </a:solidFill>
                <a:latin typeface="Courier New"/>
              </a:rPr>
              <a:t>a+b-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temática nomencl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5280" y="2205000"/>
            <a:ext cx="612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d := a + b - 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2349360"/>
            <a:ext cx="36036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564000" y="2708280"/>
            <a:ext cx="7128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427560"/>
            <a:ext cx="122400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2276640"/>
            <a:ext cx="36036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067280" y="2636640"/>
            <a:ext cx="217440" cy="43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2997360"/>
            <a:ext cx="122400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2205000"/>
            <a:ext cx="129528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858920" y="1916280"/>
            <a:ext cx="289080" cy="288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1557360"/>
            <a:ext cx="122400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133720"/>
            <a:ext cx="2592360" cy="647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924000" y="1557360"/>
            <a:ext cx="144360" cy="576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0" y="1197000"/>
            <a:ext cx="144000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pre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205000"/>
            <a:ext cx="4032360" cy="574560"/>
          </a:xfrm>
          <a:prstGeom prst="ellipse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981080" y="2708280"/>
            <a:ext cx="503280" cy="433440"/>
          </a:xfrm>
          <a:prstGeom prst="line">
            <a:avLst/>
          </a:prstGeom>
          <a:ln w="255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3141720"/>
            <a:ext cx="1224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441180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ndo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dor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eração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pressão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strução:                                 atribuir o valor d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expressão à variável </a:t>
            </a:r>
            <a:r>
              <a:rPr b="0" lang="pt-PT" sz="1800" spc="-1" strike="noStrike">
                <a:solidFill>
                  <a:srgbClr val="a50021"/>
                </a:solidFill>
                <a:latin typeface="Courier New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441180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a50021"/>
                </a:solidFill>
                <a:latin typeface="Courier New"/>
              </a:rPr>
              <a:t>a</a:t>
            </a:r>
            <a:br>
              <a:rPr sz="1800"/>
            </a:br>
            <a:r>
              <a:rPr b="0" lang="pt-PT" sz="1800" spc="-1" strike="noStrike">
                <a:solidFill>
                  <a:srgbClr val="a50021"/>
                </a:solidFill>
                <a:latin typeface="Courier New"/>
              </a:rPr>
              <a:t>+</a:t>
            </a:r>
            <a:br>
              <a:rPr sz="1800"/>
            </a:br>
            <a:r>
              <a:rPr b="0" lang="pt-PT" sz="1800" spc="-1" strike="noStrike">
                <a:solidFill>
                  <a:srgbClr val="a50021"/>
                </a:solidFill>
                <a:latin typeface="Courier New"/>
              </a:rPr>
              <a:t>a+b</a:t>
            </a:r>
            <a:br>
              <a:rPr sz="1800"/>
            </a:br>
            <a:r>
              <a:rPr b="0" lang="pt-PT" sz="1800" spc="-1" strike="noStrike">
                <a:solidFill>
                  <a:srgbClr val="a50021"/>
                </a:solidFill>
                <a:latin typeface="Courier New"/>
              </a:rPr>
              <a:t>a+b-c</a:t>
            </a:r>
            <a:br>
              <a:rPr sz="1800"/>
            </a:br>
            <a:r>
              <a:rPr b="0" lang="pt-PT" sz="1800" spc="-1" strike="noStrike">
                <a:solidFill>
                  <a:srgbClr val="a50021"/>
                </a:solidFill>
                <a:latin typeface="Courier New"/>
              </a:rPr>
              <a:t>d := a+b-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temática int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836640"/>
            <a:ext cx="66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Expressõe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básicas com dois operandos, </a:t>
            </a:r>
            <a:r>
              <a:rPr b="1" lang="pt-PT" sz="1800" spc="-1" strike="noStrike">
                <a:solidFill>
                  <a:srgbClr val="a50021"/>
                </a:solidFill>
                <a:latin typeface="Arial"/>
              </a:rPr>
              <a:t>inteiro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771640" y="1628640"/>
          <a:ext cx="3705480" cy="2287800"/>
        </p:xfrm>
        <a:graphic>
          <a:graphicData uri="http://schemas.openxmlformats.org/drawingml/2006/table">
            <a:tbl>
              <a:tblPr/>
              <a:tblGrid>
                <a:gridCol w="1086120"/>
                <a:gridCol w="1562040"/>
                <a:gridCol w="1057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</a:t>
                      </a: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mp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icio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tr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itpli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i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580000" y="3141720"/>
                <a:ext cx="343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432320" y="3340080"/>
                <a:ext cx="2793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11360" y="4149720"/>
                <a:ext cx="13114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temática int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836640"/>
            <a:ext cx="66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Expressõe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básicas com dois operandos, </a:t>
            </a:r>
            <a:r>
              <a:rPr b="1" lang="pt-PT" sz="1800" spc="-1" strike="noStrike">
                <a:solidFill>
                  <a:srgbClr val="a50021"/>
                </a:solidFill>
                <a:latin typeface="Arial"/>
              </a:rPr>
              <a:t>inteiro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771640" y="1628640"/>
          <a:ext cx="3705480" cy="2287800"/>
        </p:xfrm>
        <a:graphic>
          <a:graphicData uri="http://schemas.openxmlformats.org/drawingml/2006/table">
            <a:tbl>
              <a:tblPr/>
              <a:tblGrid>
                <a:gridCol w="1086120"/>
                <a:gridCol w="1562040"/>
                <a:gridCol w="1057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</a:t>
                      </a: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mp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icio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tr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itpli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i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580000" y="3141720"/>
                <a:ext cx="343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432320" y="3340080"/>
                <a:ext cx="2793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340000" y="4149720"/>
                <a:ext cx="16556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3203640" y="5445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7 Div 3 = 2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7 Mod 3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4437000"/>
            <a:ext cx="576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4941720"/>
            <a:ext cx="1223640" cy="57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4437000"/>
            <a:ext cx="1296720" cy="1368360"/>
          </a:xfrm>
          <a:custGeom>
            <a:avLst/>
            <a:gdLst/>
            <a:ahLst/>
            <a:rect l="l" t="t" r="r" b="b"/>
            <a:pathLst>
              <a:path w="862" h="862">
                <a:moveTo>
                  <a:pt x="0" y="0"/>
                </a:moveTo>
                <a:cubicBezTo>
                  <a:pt x="340" y="132"/>
                  <a:pt x="680" y="264"/>
                  <a:pt x="771" y="408"/>
                </a:cubicBezTo>
                <a:cubicBezTo>
                  <a:pt x="862" y="552"/>
                  <a:pt x="703" y="707"/>
                  <a:pt x="544" y="86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4149720"/>
            <a:ext cx="576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temática. prior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981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l como na matemática, os operators têm prior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1844640"/>
            <a:ext cx="331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/    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pt-PT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43280" y="1628640"/>
            <a:ext cx="1368360" cy="2448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7280" y="1773360"/>
            <a:ext cx="107928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64000" y="2205000"/>
            <a:ext cx="1224000" cy="368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1916280"/>
            <a:ext cx="1224000" cy="368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im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3500280"/>
            <a:ext cx="647640" cy="649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3429000"/>
            <a:ext cx="1224000" cy="368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458136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+ 7 * 3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* 8 + 1 =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* (8 + 1)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m caso de dúvidas: use paré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692280"/>
            <a:ext cx="8569080" cy="3987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SimpleCalculations;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, y, sum, diff, divis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Give the value of the first variable x:'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adLn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Give the value of the second variable y:'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adLn(y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um := x +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The sum of ', x:0:4, ' and ', y:0:4, ' is '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um:0:4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diff := x -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The difference between ', x:0:4, ' and '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:0:4, ' is ', diff:0:4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divis := x /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x:0:4, ' divided by ', y:0:4, ' is ', divis:0:4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4797360"/>
            <a:ext cx="8569080" cy="1797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Give the value of the first variable x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i="1" lang="en-US" sz="1600" spc="-1" strike="noStrike">
                <a:solidFill>
                  <a:srgbClr val="ffff00"/>
                </a:solidFill>
                <a:latin typeface="Courier New"/>
              </a:rPr>
              <a:t>3.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Give the value of the second variable y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i="1" lang="en-US" sz="1600" spc="-1" strike="noStrike">
                <a:solidFill>
                  <a:srgbClr val="ffff00"/>
                </a:solidFill>
                <a:latin typeface="Courier New"/>
              </a:rPr>
              <a:t>1.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um of 3.4000 and 1.8000 is 5.2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difference between 3.4000 and 1.8000 is 1.6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3.4000 divided by 1.8000 is 1.888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692280"/>
            <a:ext cx="8569080" cy="4231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IntegerCalcula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, y, modd, divv: integ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Give the value of the first variable x:'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adLn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Give the value of the second variable y:'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adLn(y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um := x +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The sum of ', x, ' and ', y, ' is ', sum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diff := x -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The difference between ', x, ' and ', y, ' is '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diff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divv := x Div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odd := x Mod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x,' divided by ', y, ' is ', divv, ' plus ', modd,'/',y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5054760"/>
            <a:ext cx="8569080" cy="1797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Give the value of the first variable x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i="1" lang="en-US" sz="1600" spc="-1" strike="noStrike">
                <a:solidFill>
                  <a:srgbClr val="ffff00"/>
                </a:solidFill>
                <a:latin typeface="Courier New"/>
              </a:rPr>
              <a:t>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Give the value of the second variable y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i="1" lang="en-US" sz="1600" spc="-1" strike="noStrike">
                <a:solidFill>
                  <a:srgbClr val="ffff00"/>
                </a:solidFill>
                <a:latin typeface="Courier New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um of 13 and 5 is 1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difference between 13 and 5 is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13 divided by 5 is 2 plus 3/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ul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: Mate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981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Escape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88000" y="3068640"/>
            <a:ext cx="3600360" cy="120276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d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2511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7080" y="1432080"/>
            <a:ext cx="414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entrar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ontrolar o programa (‘Esc’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ar dados com o tecl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ad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d(variable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rectamento guardado nas variáve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5157720"/>
            <a:ext cx="417672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Read(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Read(a, b, 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292720" y="4149720"/>
            <a:ext cx="3321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1301760"/>
            <a:ext cx="6121440" cy="2848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ROGRAM ReadExamp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VAR n1, n2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WriteLn('Please enter two number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        separated by a space')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Read(n1)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Read(n2)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WriteLn('n1 = ', n1 ,'    n2 = ', n2)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e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254480"/>
            <a:ext cx="6121440" cy="11912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lease, enter two numbers separated by a space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Courier New"/>
              </a:rPr>
              <a:t>128 31&lt;return&gt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1 = 128  n2 = 3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ead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1301760"/>
            <a:ext cx="6121440" cy="2848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ROGRAM ReadlnExamp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VAR n1, n2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WriteLn('Please enter two number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        separated by a space')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ReadLn(n1)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ReadLn(n2)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WriteLn('n1 = ', n1 ,'    n2 = ', n2)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e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4254480"/>
            <a:ext cx="6121440" cy="1465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lease, enter two numbers separated by a space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Courier New"/>
              </a:rPr>
              <a:t>128 31&lt;return&gt;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Courier New"/>
              </a:rPr>
              <a:t>19&lt;return&gt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1 = 128  n2 = 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92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adL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õe do lado o resto do texto até o fim da l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ead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1301760"/>
            <a:ext cx="6121440" cy="2848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ROGRAM ReadlnExamp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VAR n1, n2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WriteLn('Please enter two number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        separated by a space')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ReadLn(n1)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ReadLn(n2)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WriteLn('n1 = ', n1 ,'    n2 = ', n2)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e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03280" y="4254480"/>
            <a:ext cx="6121440" cy="1465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lease, enter two numbers separated by a space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Courier New"/>
              </a:rPr>
              <a:t>128 31&lt;return&gt;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Courier New"/>
              </a:rPr>
              <a:t>19&lt;return&gt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1 = 128  n2 = 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692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adL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õe do lado o resto do texto até o fim da l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ead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1301760"/>
            <a:ext cx="6121440" cy="2848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ROGRAM ReadlnExamp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VAR n1, n2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WriteLn('Please enter two number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        separated by a space')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ReadLn(n1)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ReadLn(n2)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WriteLn('n1 = ', n1 ,'    n2 = ', n2)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e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4254480"/>
            <a:ext cx="6121440" cy="1465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lease, enter two numbers separated by a space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Courier New"/>
              </a:rPr>
              <a:t>128 31&lt;return&gt;</a:t>
            </a:r>
            <a:br>
              <a:rPr sz="1800"/>
            </a:br>
            <a:r>
              <a:rPr b="0" i="1" lang="en-US" sz="1800" spc="-1" strike="noStrike">
                <a:solidFill>
                  <a:srgbClr val="ffff00"/>
                </a:solidFill>
                <a:latin typeface="Courier New"/>
              </a:rPr>
              <a:t>19&lt;return&gt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1 = 128  n2 = 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692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adL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õe do lado o resto do texto até o fim da l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4724280"/>
            <a:ext cx="431640" cy="505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268360" y="5300280"/>
            <a:ext cx="43200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59500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lor ign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temática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836640"/>
            <a:ext cx="66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Expressõe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básicas com dois operandos, </a:t>
            </a:r>
            <a:r>
              <a:rPr b="1" i="1" lang="pt-PT" sz="1800" spc="-1" strike="noStrike">
                <a:solidFill>
                  <a:srgbClr val="a50021"/>
                </a:solidFill>
                <a:latin typeface="Arial"/>
              </a:rPr>
              <a:t>floating poin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771640" y="1628640"/>
          <a:ext cx="3705120" cy="2104920"/>
        </p:xfrm>
        <a:graphic>
          <a:graphicData uri="http://schemas.openxmlformats.org/drawingml/2006/table">
            <a:tbl>
              <a:tblPr/>
              <a:tblGrid>
                <a:gridCol w="1085760"/>
                <a:gridCol w="1562040"/>
                <a:gridCol w="1057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</a:t>
                      </a: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mp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icio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tr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itpli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i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580000" y="3141720"/>
                <a:ext cx="343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826920" y="5229360"/>
            <a:ext cx="756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operador fica entre os dois operandos. Notação 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infi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comparar a notação 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postfi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calculadoras HP e linguagens tal como FORTH e PostScript [impressoras]): “a b +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4149720"/>
            <a:ext cx="61214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 := a + b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c := a / b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temática nomencl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2205000"/>
            <a:ext cx="612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d := a + b - 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3-07T22:43:14Z</dcterms:modified>
  <cp:revision>200</cp:revision>
  <dc:subject/>
  <dc:title>Slide 1</dc:title>
</cp:coreProperties>
</file>