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266-5660-447C-AF74-C115A543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F54-000F-4A3F-8FAE-CE791840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32A-F622-4DA7-8EC6-C9FABE29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0BF-4DB3-4686-A02A-E1D73FB9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EE0-1007-4BAA-852B-6D88722B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885-E8A8-4B70-A062-7D5A2C8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B3F-E5EC-46CF-BB87-F93CEE4B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3C6-6E41-4C57-A882-7DEFB95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17D-5DE9-464A-B2C4-48450A4C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F05-041C-434F-B037-8CF18BA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1A2-35A9-4E96-81EA-5CDC454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C5E-C7FD-46A5-9ADD-CFAC123C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11F-0038-48B7-932D-77A5854A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v-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 d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413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 Div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1413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7080" y="1413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/2 = 1 +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7668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 M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7668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13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3 Div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21319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4861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3 Mo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2486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2125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/5 = 2 +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06864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divisível por 3? Será que é posível determinar com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/ou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6920" y="3716280"/>
            <a:ext cx="168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0 Div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Div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Div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 Div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4 Div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 Div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6 Div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Div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13040" y="3716280"/>
            <a:ext cx="168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0 Mod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Mod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Mod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3 Mod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4 Mod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 Mod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6 Mod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Mod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867280" y="4005360"/>
            <a:ext cx="144720" cy="9363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 com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187280" y="981000"/>
          <a:ext cx="20397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41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3708360" y="1125360"/>
            <a:ext cx="1655640" cy="7855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≡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0 ≡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187280" y="2492280"/>
          <a:ext cx="19479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6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187280" y="3933720"/>
          <a:ext cx="203184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33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OR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547640" y="5516640"/>
          <a:ext cx="1298880" cy="823680"/>
        </p:xfrm>
        <a:graphic>
          <a:graphicData uri="http://schemas.openxmlformats.org/drawingml/2006/table">
            <a:tbl>
              <a:tblPr/>
              <a:tblGrid>
                <a:gridCol w="649440"/>
                <a:gridCol w="6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3564000" y="2637000"/>
            <a:ext cx="558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: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9 OR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 = 1*32 + 1*16 + 0*8 + 0*4 + 0*2 + 1*1 = 11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= 0*32 + 1*16 + 1*8 + 0*4 + 0*2 + 0*1 = 011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9 = 11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4 = 01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9 OR 24 = 11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001 = 1*32 + 1*16 + 1*8 + 0*4 + 0*2 + 1*1 =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00720" y="4581360"/>
            <a:ext cx="1511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45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. 1 OR 0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73920" y="4784760"/>
            <a:ext cx="1162080" cy="323640"/>
          </a:xfrm>
          <a:custGeom>
            <a:avLst/>
            <a:gdLst/>
            <a:ahLst/>
            <a:rect l="l" t="t" r="r" b="b"/>
            <a:pathLst>
              <a:path w="732" h="204">
                <a:moveTo>
                  <a:pt x="732" y="99"/>
                </a:moveTo>
                <a:cubicBezTo>
                  <a:pt x="520" y="151"/>
                  <a:pt x="309" y="204"/>
                  <a:pt x="188" y="189"/>
                </a:cubicBezTo>
                <a:cubicBezTo>
                  <a:pt x="67" y="174"/>
                  <a:pt x="0" y="0"/>
                  <a:pt x="7" y="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ase ..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9079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 programa que mostra ao aluno quais as disciplinas a fazer dependente do ano da matric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628640"/>
            <a:ext cx="6192720" cy="520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Year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ano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From what year are you?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ReadLn(ano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if (ano=1) t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primeiro ano: MAT-1, CALC-1'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if (ano=2) t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segundo ano: INF, LIN-ALG'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if (ano=3) t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terceiro ano: ELEC, FYS'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if (ano=4) t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quarto ano: QUI, MAT-2'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if (ano=5) t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quinto ano: PROJECTO'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&gt;5: AINDA NAO ACABOU?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900000">
            <a:off x="1476720" y="3860280"/>
            <a:ext cx="432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Compl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ase ..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05520" y="981000"/>
            <a:ext cx="3472560" cy="2014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express</a:t>
            </a:r>
            <a:r>
              <a:rPr b="0" i="1" lang="pt-PT" sz="1800" spc="-1" strike="noStrike">
                <a:solidFill>
                  <a:srgbClr val="ffffff"/>
                </a:solidFill>
                <a:latin typeface="Courier New"/>
              </a:rPr>
              <a:t>ão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value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value2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2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value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instruction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50760" y="3824280"/>
            <a:ext cx="73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express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value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value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mesmo tipo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ntáve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im: byte, integer, char, etc.. Não: string, rea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ase ..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572000" y="450828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3564000" y="3860640"/>
            <a:ext cx="100800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565440" y="314136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572000" y="1700280"/>
            <a:ext cx="0" cy="100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24360" y="4941720"/>
            <a:ext cx="136836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1989000"/>
            <a:ext cx="208908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3440" y="3284640"/>
            <a:ext cx="165564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564000" y="2708280"/>
            <a:ext cx="100800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72000" y="3860640"/>
            <a:ext cx="936720" cy="64800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508720" y="314136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88000" y="3284640"/>
            <a:ext cx="165564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708280"/>
            <a:ext cx="936720" cy="43344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1690560" y="3860640"/>
            <a:ext cx="288144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692360" y="314136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3284640"/>
            <a:ext cx="165600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492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al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690560" y="2708280"/>
            <a:ext cx="281016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2144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al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572000" y="3860640"/>
            <a:ext cx="280980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81800" y="314136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61080" y="3284640"/>
            <a:ext cx="165600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2708280"/>
            <a:ext cx="280980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alu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4836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valu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ase ..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47640" y="1341360"/>
            <a:ext cx="6193080" cy="3503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Year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ano: inte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From what year are you?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ReadLn(ano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Case ano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1: writeln('primeiro ano: MAT-1, CALC-1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2: writeln('segundo ano: INF, LIN-ALG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3: writeln('terceiro ano: ELEC, FYS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4: writeln('quarto ano: QUI, MAT-2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5: writeln('quinto ano: PROJECTO'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lse writeln('&gt;5: AINDA NAO ACABOU?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6360" y="5084640"/>
            <a:ext cx="1365120" cy="1819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332000" y="6453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6600"/>
                </a:solidFill>
                <a:latin typeface="Courier New"/>
              </a:rPr>
              <a:t>Case .. of</a:t>
            </a:r>
            <a:r>
              <a:rPr b="0" lang="pt-PT" sz="1800" spc="-1" strike="noStrike">
                <a:solidFill>
                  <a:srgbClr val="006600"/>
                </a:solidFill>
                <a:latin typeface="Arial"/>
              </a:rPr>
              <a:t>: bifurcação múlti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894960" y="3141720"/>
            <a:ext cx="746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Boole (1815-1864):          O pai da 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mathematician. His work "The mathematical analysis of logi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47) established the basis of  modern mathematical logic, and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 can be used in designing comp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's system is essentially two-valued. This can be symbol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or   1            "binary representation. 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 or FALSE     "truth representation. PASCA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V   or  5 V           "TTL electronic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pC  or  1 pC          "the charge in a condensat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mentary memory unit in  (dynamic) RA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971640" y="2276280"/>
            <a:ext cx="2592360" cy="865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v-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7993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divisível por 3? Será que é posível determinar com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/ou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49120" y="3716280"/>
            <a:ext cx="168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Div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Div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Div 3 = 0</a:t>
            </a:r>
            <a:br>
              <a:rPr sz="1800"/>
            </a:b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Div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4 Div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 Div 3 = 1</a:t>
            </a:r>
            <a:br>
              <a:rPr sz="1800"/>
            </a:b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Div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Div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09840" y="3716280"/>
            <a:ext cx="168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Mod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 Mod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2 Mod 3 = 2</a:t>
            </a:r>
            <a:br>
              <a:rPr sz="1800"/>
            </a:b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Mod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4 Mod 3 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 Mod 3 = 2</a:t>
            </a:r>
            <a:br>
              <a:rPr sz="1800"/>
            </a:br>
            <a:r>
              <a:rPr b="1" lang="pt-PT" sz="18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Mod 3 = 0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Mod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10240" y="372888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10240" y="455436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10240" y="5372280"/>
            <a:ext cx="2872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18240" y="3860640"/>
            <a:ext cx="2160720" cy="916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 Mod 3 = 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é divisível po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97520" y="3933720"/>
            <a:ext cx="649440" cy="142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897520" y="4292280"/>
            <a:ext cx="6494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897520" y="4581000"/>
            <a:ext cx="64944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268280"/>
            <a:ext cx="0" cy="19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25892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47640" y="301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736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1932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1128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0036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8764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76720" y="303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64000" y="303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040" y="284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55276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226368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4320" y="19764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7560" y="16891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560" y="140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508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284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3284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1680" y="30560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3120" y="277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48040" y="278136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278136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8200" y="24782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3120" y="24796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24796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220500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70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421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133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84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55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1413000"/>
            <a:ext cx="122400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Div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141720"/>
            <a:ext cx="576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47640" y="2852280"/>
            <a:ext cx="287640" cy="289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2852640"/>
            <a:ext cx="576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13080" y="2563920"/>
            <a:ext cx="287280" cy="288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76720" y="2276640"/>
            <a:ext cx="287280" cy="288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2565360"/>
            <a:ext cx="576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268280"/>
            <a:ext cx="0" cy="19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21964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508720" y="301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8808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08004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37236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66108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948360" y="302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237440" y="303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524720" y="303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4760" y="284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55276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22636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75040" y="19764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78280" y="16891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4000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58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308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944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308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61080" y="306864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0440" y="277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2400" y="24922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0384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08760" y="278136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24922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6892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3840" y="277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5800" y="24796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3440" y="3068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70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2421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2133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184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155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1413000"/>
            <a:ext cx="129564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Mo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932360" y="2565000"/>
            <a:ext cx="57636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96000" y="2565000"/>
            <a:ext cx="57636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565360"/>
            <a:ext cx="28728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732720" y="2565360"/>
            <a:ext cx="503280" cy="504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7440" y="2565360"/>
            <a:ext cx="28728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2565360"/>
            <a:ext cx="287280" cy="576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227664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91628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1628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421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2421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3284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3284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99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299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/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2600280"/>
            <a:ext cx="934920" cy="973080"/>
          </a:xfrm>
          <a:custGeom>
            <a:avLst/>
            <a:gdLst/>
            <a:ahLst/>
            <a:rect l="l" t="t" r="r" b="b"/>
            <a:pathLst>
              <a:path w="589" h="613">
                <a:moveTo>
                  <a:pt x="0" y="613"/>
                </a:moveTo>
                <a:cubicBezTo>
                  <a:pt x="109" y="374"/>
                  <a:pt x="219" y="136"/>
                  <a:pt x="317" y="68"/>
                </a:cubicBezTo>
                <a:cubicBezTo>
                  <a:pt x="415" y="0"/>
                  <a:pt x="502" y="102"/>
                  <a:pt x="589" y="2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v-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765000"/>
            <a:ext cx="561636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 Mod m = 0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é divisível por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0320" y="1628640"/>
            <a:ext cx="53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determinar se um númer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ar ou imp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349360"/>
            <a:ext cx="8353440" cy="301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DetermineParImp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n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Give a number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(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n Mod 2 = 0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O numero n e par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O numero n e impar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566100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terminar se um 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úmer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primo ....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.... aulas 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9: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684680" cy="5950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76720" y="33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Shakespeare 1564-16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5084640"/>
            <a:ext cx="39607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=b) OR (NOT (2=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: Para combinar cond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00360" y="1700280"/>
                <a:ext cx="2376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124000" y="27813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4005360"/>
            <a:ext cx="28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26920" y="3068640"/>
            <a:ext cx="2594160" cy="1728720"/>
          </a:xfrm>
          <a:custGeom>
            <a:avLst/>
            <a:gdLst/>
            <a:ahLst/>
            <a:rect l="l" t="t" r="r" b="b"/>
            <a:pathLst>
              <a:path w="952" h="1277">
                <a:moveTo>
                  <a:pt x="0" y="1232"/>
                </a:moveTo>
                <a:cubicBezTo>
                  <a:pt x="170" y="616"/>
                  <a:pt x="340" y="0"/>
                  <a:pt x="499" y="7"/>
                </a:cubicBezTo>
                <a:cubicBezTo>
                  <a:pt x="658" y="14"/>
                  <a:pt x="869" y="1073"/>
                  <a:pt x="952" y="127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319040" y="3928680"/>
            <a:ext cx="129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758960" y="39117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71760" y="39117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886120" y="3920760"/>
            <a:ext cx="126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35400" y="39117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925560" y="39117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4149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6680" y="2781360"/>
            <a:ext cx="38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é pos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ível calcular quand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n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rv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4005000"/>
            <a:ext cx="27352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640480" y="3941280"/>
            <a:ext cx="126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080040" y="3924360"/>
            <a:ext cx="1296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92840" y="39243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207200" y="3933360"/>
            <a:ext cx="126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656480" y="39243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246640" y="3924360"/>
            <a:ext cx="126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036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93080" y="4162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4162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432480" y="3920760"/>
            <a:ext cx="126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1590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51640" y="3801960"/>
            <a:ext cx="1582560" cy="21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486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e      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: Para combinar cond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27280" y="162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e      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2205000"/>
            <a:ext cx="8353440" cy="82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x&lt;2) then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if (x&gt;-2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Error!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3789360"/>
            <a:ext cx="8353440" cy="580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(x&lt;2) AND (x&gt;-2)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Error!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4941720"/>
            <a:ext cx="79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ondição3 := condição1 AND condiçã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verdade cas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ondição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ondição2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mbas são ver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9079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177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nfica campeão? 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número de pontos de Benfica é maior que qualquer outro club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número de jogos =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624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equemate em xadrez? 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O rei está em xequ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O rei não consegue mover sem continuar estar em xe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50468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ou admitido ao exame de IC? 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Assisti a mais que 7 aulas prática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Entreguei um trabalho com nota maior que 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Truth Tabl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tabelas de ver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87280" y="981000"/>
          <a:ext cx="20397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41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3708360" y="1700280"/>
            <a:ext cx="50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D: verdade cas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mbas ver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87280" y="2492280"/>
          <a:ext cx="194796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6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3708360" y="2990880"/>
            <a:ext cx="50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R: verdade cas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er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3933720"/>
          <a:ext cx="2031840" cy="137304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  <a:gridCol w="733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OR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710160" y="4359240"/>
            <a:ext cx="50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OR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R): verdade cas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erdade mas não a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47640" y="5516640"/>
          <a:ext cx="1298520" cy="823680"/>
        </p:xfrm>
        <a:graphic>
          <a:graphicData uri="http://schemas.openxmlformats.org/drawingml/2006/table">
            <a:tbl>
              <a:tblPr/>
              <a:tblGrid>
                <a:gridCol w="649440"/>
                <a:gridCol w="649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3708360" y="5667480"/>
            <a:ext cx="50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: o inverso do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20640"/>
            <a:ext cx="8353440" cy="283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a := 1;</a:t>
            </a:r>
            <a:br>
              <a:rPr sz="1600"/>
            </a:b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b := -2;</a:t>
            </a:r>
            <a:br>
              <a:rPr sz="1600"/>
            </a:b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c := 3;</a:t>
            </a:r>
            <a:br>
              <a:rPr sz="1600"/>
            </a:b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d := 3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if (a&gt;0) then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writeln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'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')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else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writeln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')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537372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573264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609300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645336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24360" y="357336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4360" y="393228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429264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465300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4360" y="5013360"/>
            <a:ext cx="17272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ER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537372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OT (a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573264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NOT (a&gt;0)) OR 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609300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2=b) OR (NOT (2=b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645336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NOT (c&gt;0)) XOR (d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357336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a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93228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429264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a&gt;0) AND 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465300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a&gt;0) OR 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5013360"/>
            <a:ext cx="30243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a&gt;0) XOR (b&gt;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4724280"/>
            <a:ext cx="266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o be or not to be. That is the questi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he answer, my friend, is 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88000" y="57340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16T13:43:45Z</dcterms:modified>
  <cp:revision>274</cp:revision>
  <dc:subject/>
  <dc:title>Slide 1</dc:title>
</cp:coreProperties>
</file>