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F20-C37E-4A5A-934D-06371501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649-295D-4591-8864-36A095C0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5C3-2FB2-4758-B6AF-E0982237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60C-6C5F-401B-9D65-470EC7E0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332-A70B-4633-A264-E9C410A4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B39-52D6-4826-A3E3-E1233556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198-DBF0-45E3-9EAC-4BFEA21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204-7694-4DE8-90C0-4A6D37E7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CC4-FAF5-44E0-96BC-A9B8D844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D10-7FE4-4847-B0D6-A51FF206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958-C9BA-4C5E-AC5E-EA11E3C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481-6566-4D59-B772-5FAAF1A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194-6788-4031-A98C-146ECD26B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907920"/>
            <a:ext cx="446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4: Como escrever programas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tear as pesso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314880" cy="5184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5950080"/>
            <a:ext cx="287964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omem 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estrutu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56360" y="4581360"/>
            <a:ext cx="2201760" cy="186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71640" y="692280"/>
            <a:ext cx="7056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gras de escrever programas organi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programas de forma se fosse para os seus cole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se nomes significativos para os identif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se ind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sa uma instrução por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para blocos com linhas bra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ra uma guia da linguagem com as funçõ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ão usa estruturas como goto. (não escreva código esparguet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ntes de começar programar pen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d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773360"/>
            <a:ext cx="770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GRAM Myprogram;begin writeln("Hello world!");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637000"/>
            <a:ext cx="756144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GRAM MyProgra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g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  writeln("Hello world!"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70320" y="4797360"/>
            <a:ext cx="46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) Use ind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) Usa uma instrução por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) Separa blocos com linhas bra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907920"/>
            <a:ext cx="8640720" cy="136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2421000"/>
            <a:ext cx="3384360" cy="388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7280" y="1699560"/>
            <a:ext cx="86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} [ ] ( ) - = + / ? &lt; &gt; . , ; : ' " ! @ # $ % ^ &amp; * ~ ` \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1052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racteres reserva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319760" y="-54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2565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is palavras “reservad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0920" y="3357720"/>
            <a:ext cx="1140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ntege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al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92280"/>
            <a:ext cx="9144000" cy="576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lavras reserv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957240"/>
          <a:ext cx="1600200" cy="49435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</a:tblGrid>
              <a:tr h="49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50920" y="907920"/>
          <a:ext cx="2657520" cy="5106960"/>
        </p:xfrm>
        <a:graphic>
          <a:graphicData uri="http://schemas.openxmlformats.org/drawingml/2006/table">
            <a:tbl>
              <a:tblPr/>
              <a:tblGrid>
                <a:gridCol w="1008000"/>
                <a:gridCol w="16495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olean algebra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.. 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 and const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tru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.. 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dures and fun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76720" y="907920"/>
          <a:ext cx="2941560" cy="4924440"/>
        </p:xfrm>
        <a:graphic>
          <a:graphicData uri="http://schemas.openxmlformats.org/drawingml/2006/table">
            <a:tbl>
              <a:tblPr/>
              <a:tblGrid>
                <a:gridCol w="1184400"/>
                <a:gridCol w="1757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.. 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er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br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in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olean 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.. 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olean 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c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d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dures and fucn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588000" y="907920"/>
          <a:ext cx="2305080" cy="4924440"/>
        </p:xfrm>
        <a:graphic>
          <a:graphicData uri="http://schemas.openxmlformats.org/drawingml/2006/table">
            <a:tbl>
              <a:tblPr/>
              <a:tblGrid>
                <a:gridCol w="880920"/>
                <a:gridCol w="1424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.. 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t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olean 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79280" y="198900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443700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1125360"/>
            <a:ext cx="863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4: Introdução ao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628640"/>
            <a:ext cx="7056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igla francesa par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ra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liqué à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ion et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pil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omatique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ur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inguagem de programação de alto nível (“quarta geração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senhado pelo Niklaus Wirth (Zürich) em 1960 com objectivo de ensinar programação. Ainda largamente usado como tal nas universidades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dores profissionais, agora, usam C ou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7082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14172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542960" cy="211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08720" y="587700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iklaus W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501336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rth também inventou Algol W, Modula, Modula-2, and Obe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laise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1698480" cy="223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981000"/>
            <a:ext cx="63356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aise Pascal (1623-166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ósofo e matemático Françês. Contribuiu para o desenvolvimento na área de hidráulica, cálculo e teoria matemática de probabil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sua invenção mais famosa foi, provavelmente, o "Triângulo de Pascal"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da número é a soma dos dois números imediatamte em cima de si, tal como ilustra a fig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urier New"/>
              </a:rPr>
              <a:t>            </a:t>
            </a:r>
            <a:r>
              <a:rPr b="1" i="1" lang="en-US" sz="24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Courier New"/>
              </a:rPr>
              <a:t>     1 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Courier New"/>
              </a:rPr>
              <a:t>     1 2 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Courier New"/>
              </a:rPr>
              <a:t>    1 3 3 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Courier New"/>
              </a:rPr>
              <a:t>   1 4 6 4 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rodução ao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836640"/>
            <a:ext cx="7488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grama de PASCAL é uma sequência de instruções e por isso é um exemplo de uma linguagem de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Programação Imperativa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compare com linguagens de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 Programação Declarativa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SQ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CAL é quase inglês. Compare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1001110001101010001010001100101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(‘Hello World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CAL é uma linguagem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compilad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m contrasto com linguagens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interpretada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tal como BASIC. Interpretação significa compilar linha-a-lin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291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a50021"/>
                </a:solidFill>
                <a:latin typeface="Arial"/>
              </a:rPr>
              <a:t>Linguagem da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34225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a50021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56360" y="3573360"/>
            <a:ext cx="2592360" cy="2448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716280"/>
            <a:ext cx="2016000" cy="208908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486900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rodução ao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836640"/>
            <a:ext cx="74880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grama de PASCAL é uma sequência de instru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CAL é quase inglês. Compare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110011100011010100010100011001011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(‘Hello World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OGRAM Title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statement1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statement2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   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statemenN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3860640"/>
            <a:ext cx="1584360" cy="1873440"/>
          </a:xfrm>
          <a:prstGeom prst="rect">
            <a:avLst/>
          </a:prstGeom>
          <a:solidFill>
            <a:srgbClr val="ff99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789360"/>
            <a:ext cx="432000" cy="2016000"/>
          </a:xfrm>
          <a:custGeom>
            <a:avLst/>
            <a:gdLst>
              <a:gd name="textAreaLeft" fmla="*/ 0 w 432000"/>
              <a:gd name="textAreaRight" fmla="*/ 155880 w 432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4797360"/>
            <a:ext cx="4316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4720" y="3500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001110001101010001010001100101100011010100010100011001011100011010100010100011001011000110101000101001000101000110010111000110101000101001010001100101110001101010001010111001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3571920"/>
            <a:ext cx="288720" cy="2521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6237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a50021"/>
                </a:solidFill>
                <a:latin typeface="Arial"/>
              </a:rPr>
              <a:t>program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623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a50021"/>
                </a:solidFill>
                <a:latin typeface="Arial"/>
              </a:rPr>
              <a:t>t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623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a50021"/>
                </a:solidFill>
                <a:latin typeface="Arial"/>
              </a:rPr>
              <a:t>program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692280"/>
            <a:ext cx="2590920" cy="237636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4: Introdução ao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836640"/>
            <a:ext cx="799308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OGRAM Title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Instruction1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Instruction2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     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InstructionN;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da programa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eça por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o titulo do programa (não é necessário em 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m (os nossos) instruções entr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da instrução é finalizada com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ponto final é só usado no fim do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notar: PASCAL não destinga maiúsculas e minúsculas;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ão todos igu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907920"/>
            <a:ext cx="8136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OGRAM Tit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 exemplo de u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identificador) que serve para nomear um objecto. Outros exemplos de objectos são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Variávei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Constante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Procediment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907920"/>
            <a:ext cx="2087640" cy="36036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907920"/>
            <a:ext cx="813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OGRAM Tit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 exemplo de u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identificador) que serve para nomear um objecto. Outros exemplos de objectos são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Variávei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Constante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Procediment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Fu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gras para identifi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716280"/>
            <a:ext cx="3095640" cy="2168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eça por uma letra a..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pois: letras, dígitos e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ão é sensível às maiúsculas e minúscula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3716280"/>
            <a:ext cx="3095640" cy="216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paç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racteres reservados (%, &amp;, @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lavras reservadas (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6093000"/>
            <a:ext cx="8064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viso: Escolhe os nomes bem (tamanho e n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907920"/>
            <a:ext cx="2087640" cy="36036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1700280"/>
            <a:ext cx="6696000" cy="216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onomedoalunodauniversidadedoalgarvecomprimeiramatriculaem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5240" y="17002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masiado cu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52680" y="35733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masiado lo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4653000"/>
            <a:ext cx="712944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alculoSomaNumeros(x: real, y: real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amel cas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alculo_soma_numeros(x: real, y: real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underscor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3-01T14:11:19Z</dcterms:modified>
  <cp:revision>104</cp:revision>
  <dc:subject/>
  <dc:title>Slide 1</dc:title>
</cp:coreProperties>
</file>