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C929-38E7-4A5B-A872-A10BB86C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7B58-75E8-4492-BE92-D1B085DB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BD8-E4F5-400E-A3AC-72AC6273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9C7D-1F11-4B0D-99FB-62DBC1CC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18F6-46E5-456E-A4AB-4B3FD323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DA0-78B0-4215-AE35-D9B4B2BF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2BC-02CA-4330-B0A7-C2602B88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CB52-E635-4D37-80C0-29CC724A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775-744A-4F82-BAE7-C18E125D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C846-5459-49EB-8C64-484FB97D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C83-17F3-4C85-AE1D-3EB15E57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628-2D96-4FFD-B408-10DFA563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D1EE-BAD1-4929-BCC8-74A7062CB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71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ção à Compu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6920" y="9079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10: Ciclos 1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3974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Nesting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aninh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981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Nesting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por ciclos dentro de outros cic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56360" y="476280"/>
            <a:ext cx="2411280" cy="2208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68360" y="206064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68360" y="2276640"/>
            <a:ext cx="1008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276720" y="206064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198900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50920" y="2060640"/>
            <a:ext cx="0" cy="431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0920" y="2492280"/>
            <a:ext cx="1584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635280" y="2060280"/>
            <a:ext cx="0" cy="431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48000" y="22050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2060640"/>
            <a:ext cx="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2781360"/>
            <a:ext cx="216036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995640" y="2060640"/>
            <a:ext cx="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08360" y="24922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3429000"/>
            <a:ext cx="3529080" cy="2225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OGRAM ForLoopExample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Var i: intege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for i := 1 to 4 do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for j := 1 to 2 do</a:t>
            </a:r>
            <a:br>
              <a:rPr sz="1400"/>
            </a:b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      for k := 1 to 3 do</a:t>
            </a:r>
            <a:br>
              <a:rPr sz="1400"/>
            </a:b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        writeln(i,j,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5084640"/>
            <a:ext cx="14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508464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148000" y="5300640"/>
            <a:ext cx="14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4869000"/>
            <a:ext cx="360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4869000"/>
            <a:ext cx="0" cy="504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148000" y="5373720"/>
            <a:ext cx="360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8360" y="4653000"/>
            <a:ext cx="576000" cy="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24360" y="4653000"/>
            <a:ext cx="0" cy="79200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48360" y="5444640"/>
            <a:ext cx="576000" cy="180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Nesting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aninhamento). Reciclagem de variáveis de contr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981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Nesting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por ciclos dentro de outros cic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56360" y="476280"/>
            <a:ext cx="2411280" cy="2208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411280" y="206064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2276640"/>
            <a:ext cx="1008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419640" y="206064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198900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50920" y="2060640"/>
            <a:ext cx="0" cy="431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0920" y="2492280"/>
            <a:ext cx="3025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076720" y="2060280"/>
            <a:ext cx="0" cy="431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220500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35280" y="2060640"/>
            <a:ext cx="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2781360"/>
            <a:ext cx="367344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508720" y="2060640"/>
            <a:ext cx="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9640" y="24922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3429000"/>
            <a:ext cx="4681440" cy="3290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OGRAM ForLoopExample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Var i: intege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for i := 1 to 2 do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for j := 1 to 2 do</a:t>
            </a:r>
            <a:br>
              <a:rPr sz="1400"/>
            </a:b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      begin</a:t>
            </a:r>
            <a:br>
              <a:rPr sz="1400"/>
            </a:b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        for k := 1 to 2 do</a:t>
            </a:r>
            <a:br>
              <a:rPr sz="1400"/>
            </a:b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          writeln(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'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i=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'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,i,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'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 j=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'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,j,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'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 k=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'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,k);</a:t>
            </a:r>
            <a:br>
              <a:rPr sz="1400"/>
            </a:b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        for k := 1 to 2 do</a:t>
            </a:r>
            <a:br>
              <a:rPr sz="1400"/>
            </a:b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          writeln(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'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i=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'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,i,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'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 j=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'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,j,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'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 k=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'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,k); </a:t>
            </a:r>
            <a:br>
              <a:rPr sz="1400"/>
            </a:b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      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08360" y="206064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08360" y="227664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716360" y="206064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19890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48360" y="5300640"/>
            <a:ext cx="14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92720" y="530064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148000" y="5516640"/>
            <a:ext cx="14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48360" y="5661000"/>
            <a:ext cx="14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92720" y="566100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148000" y="5877000"/>
            <a:ext cx="14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4869000"/>
            <a:ext cx="360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08720" y="4869000"/>
            <a:ext cx="0" cy="1296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148000" y="6165720"/>
            <a:ext cx="360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4653000"/>
            <a:ext cx="576000" cy="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4360" y="4653000"/>
            <a:ext cx="0" cy="158580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148360" y="6237360"/>
            <a:ext cx="576000" cy="144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88000" y="2854440"/>
            <a:ext cx="1619280" cy="3987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1 j=1 k=1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1 j=1 k=2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1 j=1 k=1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1 j=1 k=2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1 j=2 k=1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1 j=2 k=2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1 j=2 k=1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1 j=2 k=2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2 j=1 k=1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2 j=1 k=2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2 j=1 k=1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2 j=1 k=2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2 j=2 k=1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2 j=2 k=2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2 j=2 k=1</a:t>
            </a:r>
            <a:br>
              <a:rPr sz="1600"/>
            </a:br>
            <a:r>
              <a:rPr b="0" lang="pl-PL" sz="1600" spc="-1" strike="noStrike">
                <a:solidFill>
                  <a:srgbClr val="ffff00"/>
                </a:solidFill>
                <a:latin typeface="Courier New"/>
              </a:rPr>
              <a:t>i=2 j=2 k=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195640" y="2637000"/>
            <a:ext cx="0" cy="79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clos 1: for dow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2720" y="907920"/>
            <a:ext cx="3529080" cy="1798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OGRAM ForLoopExample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Var i: intege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for i := 4 downto 1 d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i, 'Ola'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6160" y="4292640"/>
            <a:ext cx="35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grama faz o segu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) atribui 4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) verifica se i é menor qu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) caso verdade: SAI do CICL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) executa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riteLn('Ola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) subtrai 1 d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) volta para o passo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920" y="3500280"/>
            <a:ext cx="46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 executar a instrução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riteLn('Ola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4 - 1) + 1 ve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2720" y="4941720"/>
            <a:ext cx="3527640" cy="1067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4 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3 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2 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1 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5640" y="4149720"/>
            <a:ext cx="0" cy="79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364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724360" y="620640"/>
            <a:ext cx="29718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32360" y="1557360"/>
            <a:ext cx="0" cy="374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c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907920"/>
            <a:ext cx="7993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clos (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loop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: para repetir instru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2276640"/>
            <a:ext cx="2089080" cy="2304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700360" y="3357720"/>
            <a:ext cx="144360" cy="142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844360" y="3357720"/>
            <a:ext cx="142920" cy="142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213000"/>
            <a:ext cx="1800000" cy="43200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stru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89440" y="5142960"/>
            <a:ext cx="142920" cy="144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931640" y="5144760"/>
            <a:ext cx="142920" cy="142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89440" y="3066480"/>
            <a:ext cx="142920" cy="144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931640" y="3068280"/>
            <a:ext cx="142920" cy="142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9440" y="1771560"/>
            <a:ext cx="142920" cy="14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931640" y="1773000"/>
            <a:ext cx="142920" cy="142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clos 1: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907920"/>
            <a:ext cx="7993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ciclo </a:t>
            </a:r>
            <a:r>
              <a:rPr b="1" lang="pt-PT" sz="1800" spc="-1" strike="noStrike">
                <a:solidFill>
                  <a:srgbClr val="ff0000"/>
                </a:solidFill>
                <a:latin typeface="Courier New"/>
              </a:rPr>
              <a:t>for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para repetir coisas numa maneira </a:t>
            </a: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cont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2342880" cy="2048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00440" y="3003480"/>
            <a:ext cx="44326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variabl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=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o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fim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instructio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408312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i executar a instrução exactamente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im-start+1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ve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95640" y="2637000"/>
            <a:ext cx="0" cy="79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clos 1: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08720" y="692280"/>
            <a:ext cx="2801880" cy="328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2720" y="907920"/>
            <a:ext cx="3529080" cy="1798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OGRAM ForLoopExample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Var i: intege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for i := 1 to 4 d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'Ola'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6160" y="4292640"/>
            <a:ext cx="35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grama faz o segu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) atribui 1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) verifica se i é maior qu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) caso verdade: SAI do CICL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) executa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riteLn('Ola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) adiciona 1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) volta para o passo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920" y="3500280"/>
            <a:ext cx="46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 executar a instrução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riteLn('Ola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4 - 1) + 1 ve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2720" y="4941720"/>
            <a:ext cx="3527640" cy="1067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149720"/>
            <a:ext cx="0" cy="79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95640" y="2637000"/>
            <a:ext cx="0" cy="79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clos 1: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2720" y="907920"/>
            <a:ext cx="3529080" cy="1798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OGRAM ForLoopExample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Var i: intege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for i := 1 to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0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d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'Ola'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5800" y="4292640"/>
            <a:ext cx="316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grama faz o segu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) atribui 1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) verifica se i é maior qu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) é verdade: SAI do CICL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6920" y="3500280"/>
            <a:ext cx="46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 executar a instrução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riteLn('Ola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zero (0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ve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2720" y="4941720"/>
            <a:ext cx="3527640" cy="1448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4149720"/>
            <a:ext cx="0" cy="79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0364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508720" y="690480"/>
            <a:ext cx="2795400" cy="3279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659640" y="1125360"/>
            <a:ext cx="1081080" cy="358920"/>
          </a:xfrm>
          <a:custGeom>
            <a:avLst/>
            <a:gdLst/>
            <a:ahLst/>
            <a:rect l="l" t="t" r="r" b="b"/>
            <a:pathLst>
              <a:path w="590" h="181">
                <a:moveTo>
                  <a:pt x="0" y="0"/>
                </a:moveTo>
                <a:cubicBezTo>
                  <a:pt x="42" y="53"/>
                  <a:pt x="84" y="106"/>
                  <a:pt x="182" y="136"/>
                </a:cubicBezTo>
                <a:cubicBezTo>
                  <a:pt x="280" y="166"/>
                  <a:pt x="435" y="173"/>
                  <a:pt x="590" y="181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95640" y="3284640"/>
            <a:ext cx="0" cy="1657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clos 1: for, juntar instru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508720" y="692280"/>
            <a:ext cx="2801880" cy="3282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12720" y="907920"/>
            <a:ext cx="3529080" cy="243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OGRAM ForLoopExample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Var i: intege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for i := 1 to 4 do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begi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('Ola');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 Write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‘ mundo');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6160" y="4292640"/>
            <a:ext cx="35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grama faz o segu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) atribui 1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) verifica se i é maior qu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) caso verdade: SAI do CICL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) executa instru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) adiciona 1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) volta para o passo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2720" y="4941720"/>
            <a:ext cx="3527640" cy="1067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Ola mundo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Ola mundo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Ola mundo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Ola m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95640" y="2565360"/>
            <a:ext cx="0" cy="2376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clos 1: for, usar variável de contr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508720" y="692280"/>
            <a:ext cx="2801880" cy="3282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12720" y="907920"/>
            <a:ext cx="3529080" cy="1798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OGRAM ForLoopExample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Var i: intege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for i := 1 to 4 do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WriteLn(i, ' Ola');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6160" y="4292640"/>
            <a:ext cx="35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grama faz o segu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) atribui 1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) verifica se i é maior qu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) caso verdade: SAI do CICL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) executa instru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) adiciona 1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) volta para o passo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2720" y="4941720"/>
            <a:ext cx="3527640" cy="1067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1 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2 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3 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4 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0364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3429000"/>
            <a:ext cx="1152360" cy="503280"/>
          </a:xfrm>
          <a:prstGeom prst="rect">
            <a:avLst/>
          </a:prstGeom>
          <a:solidFill>
            <a:srgbClr val="00ff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3640" y="2349360"/>
            <a:ext cx="2663640" cy="28764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95640" y="2565360"/>
            <a:ext cx="0" cy="2376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clos 1: for, mal uso da variável de contr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2720" y="907920"/>
            <a:ext cx="3529080" cy="2864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OGRAM ForLoopExample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Var i: intege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for i := 1 to 4 do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WriteLn(i, ' Ola'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i := i + 1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l-PL" sz="1400" spc="-1" strike="noStrike">
                <a:solidFill>
                  <a:srgbClr val="ffff00"/>
                </a:solidFill>
                <a:latin typeface="Courier New"/>
              </a:rPr>
              <a:t>end;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66160" y="4292640"/>
            <a:ext cx="35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grama faz o segu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) atribui 1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) verifica se i é maior qu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) caso verdade: SAI do CICL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) executa instru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) adiciona 1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) volta para o passo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720" y="4941720"/>
            <a:ext cx="352764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1 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3 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0000" y="3716280"/>
            <a:ext cx="1152360" cy="503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508720" y="692280"/>
            <a:ext cx="2795400" cy="3279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>
            <a:off x="3492360" y="2637000"/>
            <a:ext cx="2159280" cy="33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2492280"/>
            <a:ext cx="144360" cy="360360"/>
          </a:xfrm>
          <a:custGeom>
            <a:avLst/>
            <a:gdLst>
              <a:gd name="textAreaLeft" fmla="*/ 0 w 144360"/>
              <a:gd name="textAreaRight" fmla="*/ 52200 w 14436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2205000"/>
            <a:ext cx="152640" cy="863640"/>
          </a:xfrm>
          <a:custGeom>
            <a:avLst/>
            <a:gdLst>
              <a:gd name="textAreaLeft" fmla="*/ 97560 w 152640"/>
              <a:gd name="textAreaRight" fmla="*/ 153000 w 15264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5950080"/>
            <a:ext cx="4248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ão mexe com a variável de control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95640" y="2852640"/>
            <a:ext cx="0" cy="2089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clos 1: for. expressões no bloco de contr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2720" y="907920"/>
            <a:ext cx="3529080" cy="2012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OGRAM ForLoopExample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Var I, j: intege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j := 2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for i :=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j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to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2*j+1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d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i, ' Ola'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6160" y="4292640"/>
            <a:ext cx="35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iclo faz o segu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) atribui 2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) verifica se i é maior qu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) caso verdade: SAI do CICL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) executa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riteLn('Ola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) adiciona 1 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) volta para o passo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2720" y="4941720"/>
            <a:ext cx="3527640" cy="1067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2 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3 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4 Ola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5 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3640" y="404640"/>
            <a:ext cx="0" cy="645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08720" y="690480"/>
            <a:ext cx="27954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03-16T14:12:20Z</dcterms:modified>
  <cp:revision>294</cp:revision>
  <dc:subject/>
  <dc:title>Slide 1</dc:title>
</cp:coreProperties>
</file>