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7E2-4CD5-4AD4-B1E0-1A6665D1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139-4FAA-4425-B410-EF5F3153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473-A9FC-45FF-B39E-88D122F6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F11-6D5C-4029-8EA4-BECFC840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7ED-96BA-4866-8D51-B4FFE7D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75C-D1A2-4937-9DAE-F5402D8F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5BA-5943-4D71-A28B-928ACEBA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8D8-C267-4A1E-AA40-56A08916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BB6-62B7-4116-82D1-D5E2011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345-18D3-4761-8E5F-D1E5155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EF5-5B74-478A-B864-2610145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D3E-09D1-400B-B7B7-C57FEF3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EF46-17A3-45FA-88D2-FDAEC33E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5: Vari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veis e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594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626400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ButErr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,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Square(r: real)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localr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calr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uare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:= 4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:= Square(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rograma a seguir identifique os objectos globais e loc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6640" cy="114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6520" y="33177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573360"/>
            <a:ext cx="288000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58972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08652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reutilisabilidade da função será per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3213000"/>
            <a:ext cx="2519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rror: “unknown identif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globais e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 caso de objectos globais e locais com o mesmo nom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1728720" cy="155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5636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08360" y="2708280"/>
            <a:ext cx="1873440" cy="719280"/>
          </a:xfrm>
          <a:prstGeom prst="leftRightArrow">
            <a:avLst>
              <a:gd name="adj1" fmla="val 50000"/>
              <a:gd name="adj2" fmla="val 51851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1773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32000" y="2133360"/>
            <a:ext cx="1727280" cy="18716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276640"/>
            <a:ext cx="1368720" cy="172872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1844640"/>
            <a:ext cx="2592360" cy="252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0" y="5294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rá usado o objecto mais próximo: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579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óbvio que é desaconselhável a reutilização de n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2262240"/>
            <a:ext cx="431928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PassBy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(* global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p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 := p*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sqr = ', p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2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x = ',x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x = ',x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5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9380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672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4144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4144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672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9800" y="692280"/>
            <a:ext cx="288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816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765000"/>
            <a:ext cx="38876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gem por va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nova caixa (variável) é criada e o valor da chamada é copiada lá d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notar que existem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ua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riáveis distintas,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que podem ter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valore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21000"/>
            <a:ext cx="7189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55640" y="184428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924280"/>
            <a:ext cx="719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340000" y="1844280"/>
            <a:ext cx="7192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8400" y="62064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380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3154320"/>
            <a:ext cx="3348000" cy="82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r = 4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4091040"/>
            <a:ext cx="38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variável usada na chamada não mudou de valor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chamada apenas temos de fornecer um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valo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Podemos usar qualquer expressão na chamada do procedimento: variáveis, constantes, funçõ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3920" y="2262240"/>
            <a:ext cx="460836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PassBy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(* global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p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 := p*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sqr = ', p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2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x = ',x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x = ',x:0: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5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76500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gem por referê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e apenas uma caix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Mudar o valor de uma variável também muda, simultaneamente, o valor da outra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s variáveis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são ig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48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421000"/>
            <a:ext cx="7189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55640" y="184428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2924280"/>
            <a:ext cx="7189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16000" y="1844640"/>
            <a:ext cx="216072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3154320"/>
            <a:ext cx="3348000" cy="82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2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r = 4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=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4091040"/>
            <a:ext cx="3816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variável usada na chamada mudou de valor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a chamada temos de fornecer uma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caix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O procedimento apenas pode ser chamada com uma vari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61498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cificar passagem por referência é feito pela palavra “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Va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” em frente da declaração do parâme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54440" y="2890800"/>
            <a:ext cx="64908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3429000"/>
            <a:ext cx="2736720" cy="280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63640" y="1916280"/>
            <a:ext cx="3168720" cy="17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5373720"/>
            <a:ext cx="24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aração passagem por referênica e passagem por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1562040" cy="1609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32000" y="4046400"/>
            <a:ext cx="3314520" cy="1543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47080" y="141912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referê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necer uma c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7240" y="383076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necer um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284640"/>
            <a:ext cx="792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 e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268280"/>
            <a:ext cx="712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Âmbito das variáve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- global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-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gem por valor” vs. “passagem por referênc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glob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ode ser usado em todo 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39607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1809720" cy="197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6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global pode ser referenciada no código principal (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em todos os procedimentos do programa (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29080" y="31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global pode ser referenciada no código principal (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e em todos os procedimentos do programa (</a:t>
            </a:r>
            <a:r>
              <a:rPr b="1" lang="pt-PT" sz="1800" spc="-1" strike="noStrike">
                <a:solidFill>
                  <a:srgbClr val="6600cc"/>
                </a:solidFill>
                <a:latin typeface="Arial"/>
              </a:rPr>
              <a:t>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28960" y="981000"/>
            <a:ext cx="1041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cc"/>
                </a:solidFill>
                <a:latin typeface="Arial"/>
              </a:rPr>
              <a:t>obj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809720" cy="19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3524400" cy="3524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objecto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ode ser usado em apenas parte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508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variável local apenas pode ser usado dentro do procedimento (</a:t>
            </a: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 onde foi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5052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jecto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832120" cy="412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200000">
            <a:off x="6336360" y="3537720"/>
            <a:ext cx="37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M.C. Escher, pintor holandê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76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dentro para fora consegue-se ve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ud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76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 fora para dentro não se consegue ver nad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65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estas pessoas conseguem ver o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5734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.. nos não conseguimos ver dentro da 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92280"/>
            <a:ext cx="4032360" cy="583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692280"/>
            <a:ext cx="4032360" cy="583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1942920" cy="20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4076640"/>
            <a:ext cx="7201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941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ansportablidade dos procedi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43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a ter acesso às variáveis globais, usa parâ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ne-pass comp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180972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4221000"/>
            <a:ext cx="741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e outros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ne-pas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compiladores):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ó pode usar uma variável (constante/function/procedure) 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depoi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a sua decla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Unknown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28640"/>
            <a:ext cx="626400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,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Square(r: real)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localr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calr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uare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4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rograma a seguir identifique os objectos globais e loc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844640"/>
            <a:ext cx="792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276640"/>
            <a:ext cx="792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2565360"/>
            <a:ext cx="1008360" cy="43200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516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ta o objecto (function)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Pode ser chamada em qualquer parte do programa (incluído a função própria) e, por isso, é um objecto glob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16240"/>
            <a:ext cx="1008360" cy="43164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628640"/>
            <a:ext cx="626400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,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UNCTION Square(r: real)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localr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localr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quare := local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4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rograma a seguir identifique os objectos globais e loc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956720" y="148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863640" cy="77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04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33cc33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2421000"/>
            <a:ext cx="0" cy="28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3213000"/>
            <a:ext cx="107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3213000"/>
            <a:ext cx="10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loc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1595520" cy="164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6520" y="3317760"/>
            <a:ext cx="431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3573360"/>
            <a:ext cx="3095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589720"/>
            <a:ext cx="720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vita usar variáveis globais nos proc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11T10:00:55Z</dcterms:modified>
  <cp:revision>451</cp:revision>
  <dc:subject/>
  <dc:title>Slide 1</dc:title>
</cp:coreProperties>
</file>