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2FCB-8490-4A84-9CC8-33AFDDECF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EAB5-1937-4BD5-8709-0D5274A4E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ABDB-746B-47FA-86B0-BCC63E870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4416-A773-4CFD-A2D4-FFA1D2AF7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86EC-E960-4994-AEE5-146361B28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38A4-C59F-4D4A-B318-EBB888C00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DB82-23FC-4F1A-8755-5D03701BE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B0E8-60F9-4A0D-A8DE-574C80616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79E1-2D56-4E3D-B4B6-D6B459B38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77B8-A5AF-497C-A295-1FB0B5292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3501-1C4A-433E-8CA1-62563490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BD5A-F190-44F8-9801-750B8415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9851D-295E-467B-86D6-4715EE5E0C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971640" y="18900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rodu</a:t>
            </a: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ção à Comput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60897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50920" y="5778360"/>
            <a:ext cx="1657080" cy="1079640"/>
          </a:xfrm>
          <a:prstGeom prst="rect">
            <a:avLst/>
          </a:prstGeom>
          <a:solidFill>
            <a:srgbClr val="ffffff"/>
          </a:solidFill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MAR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067280" y="907920"/>
            <a:ext cx="4537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la 8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ul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: Ramos e raiz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43280" y="2133720"/>
            <a:ext cx="3600720" cy="1059840"/>
          </a:xfrm>
          <a:prstGeom prst="rect">
            <a:avLst/>
          </a:prstGeom>
          <a:solidFill>
            <a:srgbClr val="ffff99">
              <a:alpha val="71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ecisões / bifurcações / ramifica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.. then .. 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95280" y="2133720"/>
            <a:ext cx="3328920" cy="3384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26920" y="692280"/>
            <a:ext cx="74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Execução condicion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43280" y="4076640"/>
            <a:ext cx="3600720" cy="1465560"/>
          </a:xfrm>
          <a:prstGeom prst="rect">
            <a:avLst/>
          </a:prstGeom>
          <a:solidFill>
            <a:srgbClr val="ffff99">
              <a:alpha val="71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 programa que calcula o raíz de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deve parar ou avisar quando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é menor que z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 flipV="1">
            <a:off x="2843280" y="5300640"/>
            <a:ext cx="0" cy="11527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1547280" y="4652640"/>
            <a:ext cx="1295640" cy="6476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547640" y="3789360"/>
            <a:ext cx="0" cy="7920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843280" y="4652640"/>
            <a:ext cx="1368360" cy="6476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211640" y="2852640"/>
            <a:ext cx="0" cy="17287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ul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: Ramos e raiz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83560" y="4581360"/>
            <a:ext cx="1984320" cy="2016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826920" y="692280"/>
            <a:ext cx="74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Execução condicion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42920" y="981000"/>
            <a:ext cx="3600360" cy="1465560"/>
          </a:xfrm>
          <a:prstGeom prst="rect">
            <a:avLst/>
          </a:prstGeom>
          <a:solidFill>
            <a:srgbClr val="ffff99">
              <a:alpha val="71000"/>
            </a:srgbClr>
          </a:solidFill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 programa que calcula o raíz de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deve parar ou avisar quando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é menor que z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95640" y="5734080"/>
            <a:ext cx="1368360" cy="43164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ler núm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3357720"/>
            <a:ext cx="2089080" cy="43164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ostrar resul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64000" y="4221000"/>
            <a:ext cx="1368360" cy="43200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alcular ra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5640" y="4221000"/>
            <a:ext cx="1655640" cy="43200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screver ‘erro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35640" y="59500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mo uma árv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515772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332000" y="515772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f .. then 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68360" y="981000"/>
            <a:ext cx="482616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ffff"/>
                </a:solidFill>
                <a:latin typeface="Courier New"/>
              </a:rPr>
              <a:t>if </a:t>
            </a:r>
            <a:r>
              <a:rPr b="0" lang="pt-PT" sz="3600" spc="-1" strike="noStrike">
                <a:solidFill>
                  <a:srgbClr val="ffffff"/>
                </a:solidFill>
                <a:latin typeface="Courier New"/>
              </a:rPr>
              <a:t>condição</a:t>
            </a:r>
            <a:r>
              <a:rPr b="1" lang="pt-PT" sz="3600" spc="-1" strike="noStrike">
                <a:solidFill>
                  <a:srgbClr val="ffffff"/>
                </a:solidFill>
                <a:latin typeface="Courier New"/>
              </a:rPr>
              <a:t> then</a:t>
            </a:r>
            <a:br>
              <a:rPr sz="3600"/>
            </a:br>
            <a:r>
              <a:rPr b="1" lang="pt-PT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pt-PT" sz="3600" spc="-1" strike="noStrike">
                <a:solidFill>
                  <a:srgbClr val="ffffff"/>
                </a:solidFill>
                <a:latin typeface="Courier New"/>
              </a:rPr>
              <a:t>instrução</a:t>
            </a:r>
            <a:r>
              <a:rPr b="1" lang="pt-PT" sz="3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88000" y="3716280"/>
            <a:ext cx="40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Vai executar </a:t>
            </a:r>
            <a:r>
              <a:rPr b="0" lang="pt-PT" sz="1800" spc="-1" strike="noStrike">
                <a:solidFill>
                  <a:srgbClr val="ff0000"/>
                </a:solidFill>
                <a:latin typeface="Courier New"/>
              </a:rPr>
              <a:t>instrução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só se </a:t>
            </a:r>
            <a:r>
              <a:rPr b="0" lang="pt-PT" sz="1800" spc="-1" strike="noStrike">
                <a:solidFill>
                  <a:srgbClr val="ff0000"/>
                </a:solidFill>
                <a:latin typeface="Courier New"/>
              </a:rPr>
              <a:t>condição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é verdade. Senão, vai saltar a instrução e continuar com os resto do progra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843280" y="5300640"/>
            <a:ext cx="0" cy="11527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1547280" y="4652640"/>
            <a:ext cx="1295640" cy="6476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547640" y="3933720"/>
            <a:ext cx="0" cy="7192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843280" y="2492280"/>
            <a:ext cx="0" cy="31687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95640" y="5734080"/>
            <a:ext cx="1368360" cy="43164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ndi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835280" y="2781360"/>
            <a:ext cx="2089080" cy="43164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Resto do 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55640" y="4076640"/>
            <a:ext cx="1655640" cy="43200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stru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15772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35280" y="5157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1547280" y="3500280"/>
            <a:ext cx="1295640" cy="4334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emplos de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if .. then 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03280" y="1413000"/>
            <a:ext cx="612144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if (x&lt;0) then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writeln(‘x is smaller than zero!’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03280" y="4908600"/>
            <a:ext cx="2808360" cy="6426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x is negative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program contin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03280" y="2532240"/>
            <a:ext cx="6121440" cy="188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if (x&lt;0) then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begin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  y := -x;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  writeln(‘x is negative’);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writeln(‘program continues’);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716360" y="4908600"/>
            <a:ext cx="2806920" cy="368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program contin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3280" y="454824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x &gt;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88000" y="45482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ndi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90792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condição é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qualquer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expressão que retorna um valor do tipo bool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32000" y="1773360"/>
            <a:ext cx="6121440" cy="2025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PROGRAM CheckBoolea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Var b: boolea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begin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if b then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  writeln(‘Boolean b is TRUE’);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5640" y="4005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Normalmente: comparaçõ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58920" y="4653000"/>
            <a:ext cx="136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(x=y)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(x&lt;&gt;y)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(x&lt;y)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(x&gt;y)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(x&lt;=y)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(x&gt;=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56000" y="4653000"/>
            <a:ext cx="396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igual a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?</a:t>
            </a:r>
            <a:br>
              <a:rPr sz="1800"/>
            </a:b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diferente ?</a:t>
            </a:r>
            <a:br>
              <a:rPr sz="1800"/>
            </a:b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menor que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800"/>
            </a:b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maior que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?</a:t>
            </a:r>
            <a:br>
              <a:rPr sz="1800"/>
            </a:b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menor que ou igual a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?</a:t>
            </a:r>
            <a:br>
              <a:rPr sz="1800"/>
            </a:b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maior que ou igual a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f .. then .. 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620640"/>
            <a:ext cx="4825800" cy="2288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ffff"/>
                </a:solidFill>
                <a:latin typeface="Courier New"/>
              </a:rPr>
              <a:t>if </a:t>
            </a:r>
            <a:r>
              <a:rPr b="0" lang="pt-PT" sz="3600" spc="-1" strike="noStrike">
                <a:solidFill>
                  <a:srgbClr val="ffffff"/>
                </a:solidFill>
                <a:latin typeface="Courier New"/>
              </a:rPr>
              <a:t>condição</a:t>
            </a:r>
            <a:r>
              <a:rPr b="1" lang="pt-PT" sz="3600" spc="-1" strike="noStrike">
                <a:solidFill>
                  <a:srgbClr val="ffffff"/>
                </a:solidFill>
                <a:latin typeface="Courier New"/>
              </a:rPr>
              <a:t> then</a:t>
            </a:r>
            <a:br>
              <a:rPr sz="3600"/>
            </a:br>
            <a:r>
              <a:rPr b="1" lang="pt-PT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pt-PT" sz="3600" spc="-1" strike="noStrike">
                <a:solidFill>
                  <a:srgbClr val="ffffff"/>
                </a:solidFill>
                <a:latin typeface="Courier New"/>
              </a:rPr>
              <a:t>instruçãoA</a:t>
            </a:r>
            <a:br>
              <a:rPr sz="3600"/>
            </a:br>
            <a:r>
              <a:rPr b="1" lang="pt-PT" sz="3600" spc="-1" strike="noStrike">
                <a:solidFill>
                  <a:srgbClr val="ffffff"/>
                </a:solidFill>
                <a:latin typeface="Courier New"/>
              </a:rPr>
              <a:t>else</a:t>
            </a:r>
            <a:br>
              <a:rPr sz="3600"/>
            </a:br>
            <a:r>
              <a:rPr b="1" lang="pt-PT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pt-PT" sz="3600" spc="-1" strike="noStrike">
                <a:solidFill>
                  <a:srgbClr val="ffffff"/>
                </a:solidFill>
                <a:latin typeface="Courier New"/>
              </a:rPr>
              <a:t>instruçãoB</a:t>
            </a:r>
            <a:r>
              <a:rPr b="1" lang="pt-PT" sz="3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9640" y="414972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Vai executar </a:t>
            </a:r>
            <a:r>
              <a:rPr b="0" lang="pt-PT" sz="1800" spc="-1" strike="noStrike">
                <a:solidFill>
                  <a:srgbClr val="ff0000"/>
                </a:solidFill>
                <a:latin typeface="Courier New"/>
              </a:rPr>
              <a:t>instruçãoA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ff0000"/>
                </a:solidFill>
                <a:latin typeface="Courier New"/>
              </a:rPr>
              <a:t>instruçãoB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, dependente do valor da </a:t>
            </a:r>
            <a:r>
              <a:rPr b="0" lang="pt-PT" sz="1800" spc="-1" strike="noStrike">
                <a:solidFill>
                  <a:srgbClr val="ff0000"/>
                </a:solidFill>
                <a:latin typeface="Courier New"/>
              </a:rPr>
              <a:t>condição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6804000" y="5445000"/>
            <a:ext cx="0" cy="11527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5796000" y="4797000"/>
            <a:ext cx="1008000" cy="6476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797440" y="4078080"/>
            <a:ext cx="0" cy="7189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804000" y="2637000"/>
            <a:ext cx="0" cy="10080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56360" y="5878440"/>
            <a:ext cx="1368360" cy="43200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ndi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6000" y="2925720"/>
            <a:ext cx="2089080" cy="43200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Resto do 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005440" y="4221000"/>
            <a:ext cx="1655640" cy="43200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struçã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80360" y="501336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false</a:t>
            </a:r>
            <a:br>
              <a:rPr sz="1800"/>
            </a:b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(el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580000" y="501336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true</a:t>
            </a:r>
            <a:br>
              <a:rPr sz="1800"/>
            </a:b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(th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5796000" y="3645000"/>
            <a:ext cx="1008000" cy="4334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6804000" y="4797000"/>
            <a:ext cx="936720" cy="6476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740720" y="4078080"/>
            <a:ext cx="0" cy="7189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20000" y="4221000"/>
            <a:ext cx="1655640" cy="43200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struçã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04000" y="3645000"/>
            <a:ext cx="936720" cy="4334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f .. then .. 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620640"/>
            <a:ext cx="4825800" cy="2288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ffff"/>
                </a:solidFill>
                <a:latin typeface="Courier New"/>
              </a:rPr>
              <a:t>if </a:t>
            </a:r>
            <a:r>
              <a:rPr b="0" lang="pt-PT" sz="3600" spc="-1" strike="noStrike">
                <a:solidFill>
                  <a:srgbClr val="ffffff"/>
                </a:solidFill>
                <a:latin typeface="Courier New"/>
              </a:rPr>
              <a:t>condição</a:t>
            </a:r>
            <a:r>
              <a:rPr b="1" lang="pt-PT" sz="3600" spc="-1" strike="noStrike">
                <a:solidFill>
                  <a:srgbClr val="ffffff"/>
                </a:solidFill>
                <a:latin typeface="Courier New"/>
              </a:rPr>
              <a:t> then</a:t>
            </a:r>
            <a:br>
              <a:rPr sz="3600"/>
            </a:br>
            <a:r>
              <a:rPr b="1" lang="pt-PT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pt-PT" sz="3600" spc="-1" strike="noStrike">
                <a:solidFill>
                  <a:srgbClr val="ffffff"/>
                </a:solidFill>
                <a:latin typeface="Courier New"/>
              </a:rPr>
              <a:t>instruçãoA</a:t>
            </a:r>
            <a:br>
              <a:rPr sz="3600"/>
            </a:br>
            <a:r>
              <a:rPr b="1" lang="pt-PT" sz="3600" spc="-1" strike="noStrike">
                <a:solidFill>
                  <a:srgbClr val="ffffff"/>
                </a:solidFill>
                <a:latin typeface="Courier New"/>
              </a:rPr>
              <a:t>else</a:t>
            </a:r>
            <a:br>
              <a:rPr sz="3600"/>
            </a:br>
            <a:r>
              <a:rPr b="1" lang="pt-PT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pt-PT" sz="3600" spc="-1" strike="noStrike">
                <a:solidFill>
                  <a:srgbClr val="ffffff"/>
                </a:solidFill>
                <a:latin typeface="Courier New"/>
              </a:rPr>
              <a:t>instruçãoB</a:t>
            </a:r>
            <a:r>
              <a:rPr b="1" lang="pt-PT" sz="3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414972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Vai executar </a:t>
            </a:r>
            <a:r>
              <a:rPr b="0" lang="pt-PT" sz="1800" spc="-1" strike="noStrike">
                <a:solidFill>
                  <a:srgbClr val="ff0000"/>
                </a:solidFill>
                <a:latin typeface="Courier New"/>
              </a:rPr>
              <a:t>instruçãoA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ff0000"/>
                </a:solidFill>
                <a:latin typeface="Courier New"/>
              </a:rPr>
              <a:t>instruçãoB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, dependente do valor da </a:t>
            </a:r>
            <a:r>
              <a:rPr b="0" lang="pt-PT" sz="1800" spc="-1" strike="noStrike">
                <a:solidFill>
                  <a:srgbClr val="ff0000"/>
                </a:solidFill>
                <a:latin typeface="Courier New"/>
              </a:rPr>
              <a:t>condição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6804000" y="5445000"/>
            <a:ext cx="0" cy="11527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5796000" y="4797000"/>
            <a:ext cx="1008000" cy="6476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797440" y="4078080"/>
            <a:ext cx="0" cy="7189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804000" y="2637000"/>
            <a:ext cx="0" cy="10080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56360" y="5878440"/>
            <a:ext cx="1368360" cy="43200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ndi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796000" y="2925720"/>
            <a:ext cx="2089080" cy="43200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Resto do 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05440" y="4221000"/>
            <a:ext cx="1655640" cy="43200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struçã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380360" y="501336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false</a:t>
            </a:r>
            <a:br>
              <a:rPr sz="1800"/>
            </a:b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(el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80000" y="501336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true</a:t>
            </a:r>
            <a:br>
              <a:rPr sz="1800"/>
            </a:b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(th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5796000" y="3645000"/>
            <a:ext cx="1008000" cy="4334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804000" y="4797000"/>
            <a:ext cx="936720" cy="6476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7740720" y="4078080"/>
            <a:ext cx="0" cy="7189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020000" y="4221000"/>
            <a:ext cx="1655640" cy="43200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struçã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04000" y="3645000"/>
            <a:ext cx="936720" cy="4334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35280" y="1125360"/>
            <a:ext cx="720720" cy="790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56000" y="1184400"/>
            <a:ext cx="2232000" cy="228600"/>
          </a:xfrm>
          <a:custGeom>
            <a:avLst/>
            <a:gdLst/>
            <a:ahLst/>
            <a:rect l="l" t="t" r="r" b="b"/>
            <a:pathLst>
              <a:path w="1406" h="144">
                <a:moveTo>
                  <a:pt x="1406" y="144"/>
                </a:moveTo>
                <a:cubicBezTo>
                  <a:pt x="1092" y="80"/>
                  <a:pt x="778" y="16"/>
                  <a:pt x="544" y="8"/>
                </a:cubicBezTo>
                <a:cubicBezTo>
                  <a:pt x="310" y="0"/>
                  <a:pt x="38" y="84"/>
                  <a:pt x="0" y="99"/>
                </a:cubicBezTo>
              </a:path>
            </a:pathLst>
          </a:custGeom>
          <a:noFill/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88000" y="12682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não há ; aqu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emplo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if .. then .. else 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5280" y="747720"/>
            <a:ext cx="8353440" cy="4231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PROGRAM SquareRoo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Var x: rea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root: rea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ln('Give a number'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readln(x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if (x&lt;0)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ln('Negative numbers are not allowed!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root := Sqrt(x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ln('The square-root of ', x:0:4, ' is ', root:0:4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ln('Have a nice day'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5280" y="5067360"/>
            <a:ext cx="4103640" cy="13107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Give a number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i="1" lang="en-US" sz="1600" spc="-1" strike="noStrike">
                <a:solidFill>
                  <a:srgbClr val="ffff00"/>
                </a:solidFill>
                <a:latin typeface="Courier New"/>
              </a:rPr>
              <a:t>3.68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The square-root of 2.68 is 1.9183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Have a nice 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43280" y="5067360"/>
            <a:ext cx="4104000" cy="13107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Give a number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-</a:t>
            </a:r>
            <a:r>
              <a:rPr b="0" i="1" lang="en-US" sz="1600" spc="-1" strike="noStrike">
                <a:solidFill>
                  <a:srgbClr val="ffff00"/>
                </a:solidFill>
                <a:latin typeface="Courier New"/>
              </a:rPr>
              <a:t>3.68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Negative numbers are not allowed!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Have a nice 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6T10:27:03Z</dcterms:created>
  <dc:creator>Peter Stallinga</dc:creator>
  <dc:description/>
  <dc:language>en-US</dc:language>
  <cp:lastModifiedBy>Peter Stallinga</cp:lastModifiedBy>
  <dcterms:modified xsi:type="dcterms:W3CDTF">2005-03-09T12:58:17Z</dcterms:modified>
  <cp:revision>224</cp:revision>
  <dc:subject/>
  <dc:title>Slide 1</dc:title>
</cp:coreProperties>
</file>