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F4F-3DFD-4AA2-A99F-09C5B22B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BB9-96AA-43D1-9FCD-AAD086CD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18A-0F7E-467C-8572-8D6CC3B7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824-DB67-4FFC-A241-73686FE9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0F9-6F31-4847-8F79-BC4201E6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528-3DC2-44BA-BAAF-0D909E98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DED-11DB-4365-B37C-F4E38BC2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6EC-4927-4A15-9C6F-00C52B8B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DB8-1293-416F-A13B-D2541C26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10C-639E-42DF-8715-F43D7B6B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6BE-FDCD-4C5B-8175-B32F6E84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07A-EAF4-42E3-8727-85CEFF7B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F870-BDEC-4560-8903-994C87B11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692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14: Funções matem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36716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po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1125360"/>
            <a:ext cx="648000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xp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30304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torna o expoente do argumento, base constante de Neper,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1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de x: real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retornado: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4613400"/>
            <a:ext cx="6408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Exp(1.0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2.71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432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33840" y="2060640"/>
            <a:ext cx="1079640" cy="5032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620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348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2133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4360" y="2133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po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1125360"/>
            <a:ext cx="648000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Ln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19280" y="303048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inverso do Exp( )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de x: real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retornado: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2000" y="4613400"/>
            <a:ext cx="6408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Ln(2.0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0.69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432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33840" y="2060640"/>
            <a:ext cx="1079640" cy="5032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620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348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2133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2133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po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692280"/>
            <a:ext cx="6624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Nota: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NÂO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existe </a:t>
            </a:r>
            <a:r>
              <a:rPr b="0" i="1" lang="pt-PT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pt-PT" sz="1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t-PT" sz="1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t-PT" sz="1800" spc="-1" strike="noStrike">
                <a:solidFill>
                  <a:srgbClr val="ffffff"/>
                </a:solidFill>
                <a:latin typeface="Times New Roman"/>
              </a:rPr>
              <a:t>Log(</a:t>
            </a:r>
            <a:r>
              <a:rPr b="0" i="1" lang="pt-PT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) em PASCAL, 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60280" y="1557360"/>
            <a:ext cx="4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pt-PT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3200" y="328464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31600" y="1628640"/>
            <a:ext cx="25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=  Exp(Ln(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pt-PT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22600" y="2349360"/>
            <a:ext cx="27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= Exp(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Ln(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70480" y="3357720"/>
            <a:ext cx="22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pt-PT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PT" sz="3200" spc="-1" strike="noStrike" baseline="30000">
                <a:solidFill>
                  <a:srgbClr val="000000"/>
                </a:solidFill>
                <a:latin typeface="Times New Roman"/>
              </a:rPr>
              <a:t>Ln(</a:t>
            </a:r>
            <a:r>
              <a:rPr b="0" i="1" lang="pt-PT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PT" sz="32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30520" y="393372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= Ln(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PT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0880" y="4653000"/>
            <a:ext cx="29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= Ln(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) / </a:t>
            </a:r>
            <a:r>
              <a:rPr b="0" i="1" lang="pt-PT" sz="3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23680" y="544500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= Ln(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) / Ln(</a:t>
            </a: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1484280"/>
            <a:ext cx="719280" cy="144360"/>
          </a:xfrm>
          <a:custGeom>
            <a:avLst/>
            <a:gdLst/>
            <a:ahLst/>
            <a:rect l="l" t="t" r="r" b="b"/>
            <a:pathLst>
              <a:path w="453" h="91">
                <a:moveTo>
                  <a:pt x="0" y="91"/>
                </a:moveTo>
                <a:cubicBezTo>
                  <a:pt x="75" y="45"/>
                  <a:pt x="151" y="0"/>
                  <a:pt x="226" y="0"/>
                </a:cubicBezTo>
                <a:cubicBezTo>
                  <a:pt x="301" y="0"/>
                  <a:pt x="377" y="45"/>
                  <a:pt x="453" y="9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6360" y="119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 = Exp(Ln(</a:t>
            </a:r>
            <a:r>
              <a:rPr b="0" i="1" lang="pt-PT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21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Ln(</a:t>
            </a:r>
            <a:r>
              <a:rPr b="0" i="1" lang="pt-PT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pt-PT" sz="18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0" i="1" lang="pt-PT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Ln(</a:t>
            </a:r>
            <a:r>
              <a:rPr b="0" i="1" lang="pt-PT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1989000"/>
            <a:ext cx="228600" cy="648000"/>
          </a:xfrm>
          <a:custGeom>
            <a:avLst/>
            <a:gdLst/>
            <a:ahLst/>
            <a:rect l="l" t="t" r="r" b="b"/>
            <a:pathLst>
              <a:path w="144" h="408">
                <a:moveTo>
                  <a:pt x="0" y="0"/>
                </a:moveTo>
                <a:cubicBezTo>
                  <a:pt x="64" y="79"/>
                  <a:pt x="128" y="159"/>
                  <a:pt x="136" y="227"/>
                </a:cubicBezTo>
                <a:cubicBezTo>
                  <a:pt x="144" y="295"/>
                  <a:pt x="95" y="351"/>
                  <a:pt x="46" y="40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284640"/>
            <a:ext cx="719280" cy="144360"/>
          </a:xfrm>
          <a:custGeom>
            <a:avLst/>
            <a:gdLst/>
            <a:ahLst/>
            <a:rect l="l" t="t" r="r" b="b"/>
            <a:pathLst>
              <a:path w="453" h="91">
                <a:moveTo>
                  <a:pt x="0" y="91"/>
                </a:moveTo>
                <a:cubicBezTo>
                  <a:pt x="75" y="45"/>
                  <a:pt x="151" y="0"/>
                  <a:pt x="226" y="0"/>
                </a:cubicBezTo>
                <a:cubicBezTo>
                  <a:pt x="301" y="0"/>
                  <a:pt x="377" y="45"/>
                  <a:pt x="453" y="9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2997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 = Exp(Ln(</a:t>
            </a:r>
            <a:r>
              <a:rPr b="0" i="1" lang="pt-PT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3716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Log(</a:t>
            </a:r>
            <a:r>
              <a:rPr b="0" i="1" lang="pt-PT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pt-PT" sz="18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0" i="1" lang="pt-PT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Log(</a:t>
            </a:r>
            <a:r>
              <a:rPr b="0" i="1" lang="pt-PT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3645000"/>
            <a:ext cx="552600" cy="576000"/>
          </a:xfrm>
          <a:custGeom>
            <a:avLst/>
            <a:gdLst/>
            <a:ahLst/>
            <a:rect l="l" t="t" r="r" b="b"/>
            <a:pathLst>
              <a:path w="348" h="363">
                <a:moveTo>
                  <a:pt x="0" y="0"/>
                </a:moveTo>
                <a:cubicBezTo>
                  <a:pt x="144" y="83"/>
                  <a:pt x="288" y="167"/>
                  <a:pt x="318" y="227"/>
                </a:cubicBezTo>
                <a:cubicBezTo>
                  <a:pt x="348" y="287"/>
                  <a:pt x="265" y="325"/>
                  <a:pt x="182" y="3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4797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Log(</a:t>
            </a:r>
            <a:r>
              <a:rPr b="0" i="1" lang="pt-PT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) = 1/</a:t>
            </a:r>
            <a:r>
              <a:rPr b="0" i="1" lang="pt-PT" sz="1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Log(</a:t>
            </a:r>
            <a:r>
              <a:rPr b="0" i="1" lang="pt-PT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4437000"/>
            <a:ext cx="311040" cy="504720"/>
          </a:xfrm>
          <a:custGeom>
            <a:avLst/>
            <a:gdLst/>
            <a:ahLst/>
            <a:rect l="l" t="t" r="r" b="b"/>
            <a:pathLst>
              <a:path w="196" h="318">
                <a:moveTo>
                  <a:pt x="0" y="0"/>
                </a:moveTo>
                <a:cubicBezTo>
                  <a:pt x="83" y="87"/>
                  <a:pt x="166" y="174"/>
                  <a:pt x="181" y="227"/>
                </a:cubicBezTo>
                <a:cubicBezTo>
                  <a:pt x="196" y="280"/>
                  <a:pt x="143" y="299"/>
                  <a:pt x="91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08720" y="5589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 baseline="30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Log(</a:t>
            </a:r>
            <a:r>
              <a:rPr b="0" i="1" lang="pt-PT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) = Ln(</a:t>
            </a:r>
            <a:r>
              <a:rPr b="0" i="1" lang="pt-PT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t-PT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9640" y="5157720"/>
            <a:ext cx="252360" cy="576360"/>
          </a:xfrm>
          <a:custGeom>
            <a:avLst/>
            <a:gdLst/>
            <a:ahLst/>
            <a:rect l="l" t="t" r="r" b="b"/>
            <a:pathLst>
              <a:path w="159" h="363">
                <a:moveTo>
                  <a:pt x="136" y="0"/>
                </a:moveTo>
                <a:cubicBezTo>
                  <a:pt x="147" y="106"/>
                  <a:pt x="159" y="212"/>
                  <a:pt x="136" y="272"/>
                </a:cubicBezTo>
                <a:cubicBezTo>
                  <a:pt x="113" y="332"/>
                  <a:pt x="56" y="347"/>
                  <a:pt x="0" y="3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edond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1125360"/>
            <a:ext cx="648000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ound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303048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torna o inteiro mais próximo do argument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de x: real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retornado: long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4613400"/>
            <a:ext cx="64087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ound(-3.4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-3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ound(8.9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9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ound(3.5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4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ound(2.5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32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33840" y="2060640"/>
            <a:ext cx="1079640" cy="5032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348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2133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2133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long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4_1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544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(erro em PAS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059280" y="5444640"/>
            <a:ext cx="43308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32000" y="5516640"/>
            <a:ext cx="432000" cy="28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452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edond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1125360"/>
            <a:ext cx="648000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Frac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9280" y="303048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torna a parte do número após a vírgul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de x: real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retornado: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4613400"/>
            <a:ext cx="640872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Frac(-3.4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-0.4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Frac(8.99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0.99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Frac(8.001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0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432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33840" y="2060640"/>
            <a:ext cx="1079640" cy="5032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620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1348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67280" y="2133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64360" y="2133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4_1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edond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2000" y="1125360"/>
            <a:ext cx="648000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Int(x) / Trunc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30304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torna a parte do número antas da vírgula (arrendondamento “para baixo”)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de x: real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retornado: real(int) / longint(trun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0" y="4613400"/>
            <a:ext cx="6408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nt(-3.4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-3.0000     Trunc(-3.4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-3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nt(8.99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8.0000      Trunc(8.99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32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33840" y="2060640"/>
            <a:ext cx="1079640" cy="5032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/Tru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8620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1348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2133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4360" y="2133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 / long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4_1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úmeros aleató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936720" cy="741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780000" y="5084640"/>
            <a:ext cx="4608360" cy="14115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16000" y="1052640"/>
            <a:ext cx="6912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32080" y="2205000"/>
            <a:ext cx="1504800" cy="1511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971640" y="4653000"/>
            <a:ext cx="1725480" cy="1488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132000" y="227664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aimento nuclear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imulações Monte Carl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Jo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4140360" y="3645000"/>
            <a:ext cx="1871640" cy="1144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6156360" y="2205000"/>
            <a:ext cx="2592360" cy="1123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187280" y="1052640"/>
            <a:ext cx="6769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úmeros aleatórios. Para simular processos aleatórios (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úmeros aleató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1125360"/>
            <a:ext cx="648000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30304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torna um número entre 0 e 0.9999999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retornado: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4613400"/>
            <a:ext cx="6408720" cy="78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andom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0.3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andom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0.98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432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33840" y="2060640"/>
            <a:ext cx="1079640" cy="5032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1348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4360" y="2133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8620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67280" y="2133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intei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úmeros aleató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1125360"/>
            <a:ext cx="648000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andom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19280" y="30304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torna um número entre 0 e x-1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retornado: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4613400"/>
            <a:ext cx="6408720" cy="78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andom(10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andom(100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24360" y="432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33840" y="2060640"/>
            <a:ext cx="1079640" cy="5032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1348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2133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4_2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03280" y="5589720"/>
            <a:ext cx="612144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ada vez que o programa corre gera a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esm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érie dos números. Para evitar isto podemos usar o procedimento Rand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úmeros aleató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1125360"/>
            <a:ext cx="648000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andom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9280" y="30304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Randomiz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o gerador dos números aleató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4613400"/>
            <a:ext cx="6408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andomiz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andom = 0.98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24360" y="432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33840" y="2060640"/>
            <a:ext cx="1225800" cy="5032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and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4_2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32000" y="4653000"/>
            <a:ext cx="6408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andomiz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andom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0.33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ões matem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88000" y="4292640"/>
            <a:ext cx="1943280" cy="1790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835280" y="4221000"/>
            <a:ext cx="1666800" cy="166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564000" y="2997360"/>
            <a:ext cx="2647800" cy="50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900000" y="1341360"/>
            <a:ext cx="2448000" cy="1755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804000" y="112536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16720" y="616572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funções trigonométr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278136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funções trigonométr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360" y="364500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equações difer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292428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precessos aleató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6021360"/>
            <a:ext cx="20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precessos aleatórios - equações difer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úmeros aleató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32000" y="1125360"/>
            <a:ext cx="648000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andS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19280" y="30304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variável que especifica a série dos números aleató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32000" y="4613400"/>
            <a:ext cx="6408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andSeed := 10871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andom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0.5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432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3840" y="2060640"/>
            <a:ext cx="1225800" cy="5032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and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4_1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8620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51280" y="2133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úmeros aleató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459640" cy="2973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68360" y="55897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cc"/>
                </a:solidFill>
                <a:latin typeface="Arial"/>
              </a:rPr>
              <a:t>os números aleatórios do nosso computador não são aleatórios. Nunca serião usados para, por exemplo, o Totol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ões matem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836640"/>
            <a:ext cx="324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c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q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q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2560" y="134136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4560" y="1557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rigonome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2560" y="2370240"/>
            <a:ext cx="144720" cy="1346040"/>
          </a:xfrm>
          <a:custGeom>
            <a:avLst/>
            <a:gdLst>
              <a:gd name="textAreaLeft" fmla="*/ 0 w 144720"/>
              <a:gd name="textAreaRight" fmla="*/ 52200 w 144720"/>
              <a:gd name="textAreaTop" fmla="*/ 34920 h 1346040"/>
              <a:gd name="textAreaBottom" fmla="*/ 1311120 h 134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4560" y="2852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po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3789360"/>
            <a:ext cx="142920" cy="330120"/>
          </a:xfrm>
          <a:custGeom>
            <a:avLst/>
            <a:gdLst>
              <a:gd name="textAreaLeft" fmla="*/ 0 w 142920"/>
              <a:gd name="textAreaRight" fmla="*/ 51480 w 142920"/>
              <a:gd name="textAreaTop" fmla="*/ 8280 h 330120"/>
              <a:gd name="textAreaBottom" fmla="*/ 32184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54560" y="3716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m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22560" y="4221000"/>
            <a:ext cx="144720" cy="1368720"/>
          </a:xfrm>
          <a:custGeom>
            <a:avLst/>
            <a:gdLst>
              <a:gd name="textAreaLeft" fmla="*/ 0 w 144720"/>
              <a:gd name="textAreaRight" fmla="*/ 5220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4560" y="472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redond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2560" y="5661000"/>
            <a:ext cx="144720" cy="647640"/>
          </a:xfrm>
          <a:custGeom>
            <a:avLst/>
            <a:gdLst>
              <a:gd name="textAreaLeft" fmla="*/ 0 w 144720"/>
              <a:gd name="textAreaRight" fmla="*/ 5220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4560" y="587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úmeros aleató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0560" y="2349360"/>
            <a:ext cx="208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0560" y="3817800"/>
            <a:ext cx="208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0560" y="4149720"/>
            <a:ext cx="208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0560" y="5632560"/>
            <a:ext cx="208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0560" y="6381720"/>
            <a:ext cx="208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0560" y="1239840"/>
            <a:ext cx="208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0560" y="851040"/>
            <a:ext cx="208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765000"/>
            <a:ext cx="360360" cy="561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871560"/>
            <a:ext cx="142920" cy="330120"/>
          </a:xfrm>
          <a:custGeom>
            <a:avLst/>
            <a:gdLst>
              <a:gd name="textAreaLeft" fmla="*/ 0 w 142920"/>
              <a:gd name="textAreaRight" fmla="*/ 51480 w 142920"/>
              <a:gd name="textAreaTop" fmla="*/ 8280 h 330120"/>
              <a:gd name="textAreaBottom" fmla="*/ 32184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4560" y="7984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bso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bso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1125360"/>
            <a:ext cx="648000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Abs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303048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torna o valor absoluto do argument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de x: real ou inteir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retornado: igual ao tipo do 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4613400"/>
            <a:ext cx="6408720" cy="120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Abs(-3.4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Abs(8.9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8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Abs(-1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32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3840" y="2060640"/>
            <a:ext cx="1079640" cy="5032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620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348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206064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br>
              <a:rPr sz="1400"/>
            </a:b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intei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206064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br>
              <a:rPr sz="1400"/>
            </a:b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intei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m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1125360"/>
            <a:ext cx="648000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Odd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19280" y="30304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torna TRUE caso o argumento impar, FALSE caso contrári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de x: inteir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retornado: 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4613400"/>
            <a:ext cx="6408720" cy="78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Odd(3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Odd(2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432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33840" y="2060640"/>
            <a:ext cx="1079640" cy="5032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8620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348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2133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intei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4360" y="2133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bool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573408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(x)”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igual a “((x MOD 2)=1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rigonomé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1125360"/>
            <a:ext cx="648000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30304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nstante com valor 3.1415926535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4613400"/>
            <a:ext cx="6408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x := 2.0*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432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3840" y="2060640"/>
            <a:ext cx="1079640" cy="5032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348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4360" y="2133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rigonomé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1125360"/>
            <a:ext cx="648000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Sin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9280" y="303048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torna o Seno do argumento (x: radianos)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de x: real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retornado: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4613400"/>
            <a:ext cx="6408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in(Pi/4.0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0.70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432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3840" y="2060640"/>
            <a:ext cx="1079640" cy="5032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8620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348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2133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2133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rigonomé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1125360"/>
            <a:ext cx="648000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s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303048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torna o Coseno do argumento (x: radianos)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de x: real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retornado: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4613400"/>
            <a:ext cx="6408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Cos(Pi/4.0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0.70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432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33840" y="2060640"/>
            <a:ext cx="1079640" cy="5032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620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348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2133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2133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rigonomé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1125360"/>
            <a:ext cx="648000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ArcTan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303048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torna o inverso Tangente do argument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de x: real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retornado: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4613400"/>
            <a:ext cx="6408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ArcTan(1.0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0.7854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32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3840" y="2060640"/>
            <a:ext cx="1079640" cy="5032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c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620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13480" y="227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2133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2133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5445000"/>
            <a:ext cx="6624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Nota: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NÂO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existe Tan(x), ArcSin(x) ou ArcCos(x)</a:t>
            </a:r>
            <a:br>
              <a:rPr sz="1800"/>
            </a:b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Podem ser escritos em termos de Sin, Cos e ArcTan.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Como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4-06T20:30:20Z</dcterms:modified>
  <cp:revision>410</cp:revision>
  <dc:subject/>
  <dc:title>Slide 1</dc:title>
</cp:coreProperties>
</file>