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467-EE4D-4368-B0F5-3A9F8F8B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8143-6B69-49F2-9D5D-6B21B51E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4442-E1B6-4298-A0F0-1197D4BD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37A-1BCF-4843-977F-6B6FE6DD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7DE-8765-41C0-AB8D-32CB08F2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2C1-C286-4385-8306-3157C1FD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D7C-5C1A-4D97-9B42-8192419A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DE8-C08A-41D1-9A6D-62084D18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ECC-8FE5-407E-8726-AE8FA69E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89A2-AF15-4B8E-8EEB-BAFD8F98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ACD-B2F7-4214-9615-43BE99B6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9BF-9C99-460E-8385-4BE32EDC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9CA7-A4FB-4345-96F4-B14E89479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6920" y="907920"/>
            <a:ext cx="4537080" cy="78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13: Program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ção modula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imento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5226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Square(r: rea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y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('The suare of ',r:0: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 :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 is ',y:0:1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162864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276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Square(r: rea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y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('The suare of ',r:0: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 :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 is ',y:0:1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32720" y="1628640"/>
            <a:ext cx="223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2478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1989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69056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69056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584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34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Square(r: rea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y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('The suare of ',r:0: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 :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 is ',y:0:1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32720" y="162864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: atribuir 4 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69056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69056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584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34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56000" y="2708280"/>
            <a:ext cx="792000" cy="2233440"/>
          </a:xfrm>
          <a:prstGeom prst="line">
            <a:avLst/>
          </a:prstGeom>
          <a:ln w="2556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95640" y="4941720"/>
            <a:ext cx="647640" cy="50328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32000" y="2205000"/>
            <a:ext cx="648000" cy="50328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5892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71640" y="306360"/>
            <a:ext cx="430200" cy="31608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4292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2478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64000" y="1989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Square(r: rea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y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('The suare of ',r:0: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 :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 is ',y:0:1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32720" y="1628640"/>
            <a:ext cx="22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: atribuir 4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: cria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69056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69056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8584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34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5257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5892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70352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35116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351160" y="1152000"/>
            <a:ext cx="14292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46440" y="57636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9408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4644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03520" y="86364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Square(r: rea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y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('The suare of ',r:0: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 :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 is ',y:0:1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732720" y="1628640"/>
            <a:ext cx="223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: atribuir 4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: criar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8: mostrar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69056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69056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8584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334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997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5892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4292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70352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35116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351160" y="1152000"/>
            <a:ext cx="14292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46440" y="57636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408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4644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03520" y="86364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5877000"/>
            <a:ext cx="23050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urier New"/>
              </a:rPr>
              <a:t>The square of 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Square(r: rea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y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('The suare of ',r:0: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 :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 is ',y:0:1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32720" y="1628640"/>
            <a:ext cx="241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: atribuir 4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: criar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8: mostr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9: calcular expre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69056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69056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8584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334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2702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5892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70352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35116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351160" y="1152000"/>
            <a:ext cx="14292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46440" y="57636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49408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644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03520" y="86364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3357720"/>
            <a:ext cx="1224000" cy="33732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bbe0e3"/>
                </a:solidFill>
                <a:latin typeface="Courier New"/>
              </a:rPr>
              <a:t>4*4 =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76280" y="3273480"/>
            <a:ext cx="576360" cy="360360"/>
          </a:xfrm>
          <a:prstGeom prst="ellipse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Square(r: rea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y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('The suare of ',r:0: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 :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 is ',y:0:1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732720" y="1628640"/>
            <a:ext cx="241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: atribuir 4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: criar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8: mostrar 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calcular expressã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0: atribuir 16 a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69056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69056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8584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334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27024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5892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4292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70352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35116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351160" y="1152000"/>
            <a:ext cx="14292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46440" y="57636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9408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4644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83528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19280" y="306360"/>
            <a:ext cx="430200" cy="31608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03520" y="86364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25892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Square(r: rea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y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('The suare of ',r:0: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 :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 is ',y:0:1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732720" y="1628640"/>
            <a:ext cx="241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: atribuir 4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: criar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8: mostrar 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calcular expressã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0: atribuir 16 a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1: calcula expressã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e atribuir 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69056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69056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8584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334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500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170352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35116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2351160" y="1152000"/>
            <a:ext cx="14292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46440" y="57636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9408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4644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83528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703520" y="86364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71640" y="306360"/>
            <a:ext cx="430200" cy="31608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58920" y="692280"/>
            <a:ext cx="288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187280" y="62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04292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Square(r: rea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y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('The suare of ',r:0: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 :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 is ',y:0:1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32720" y="1628640"/>
            <a:ext cx="241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: atribuir 4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: criar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8: mostrar 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calcular expressã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0: atribuir 16 a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1: calcula expressã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e atribuir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2: mostra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69056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69056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18584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348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716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70352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35116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351160" y="1152000"/>
            <a:ext cx="14292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46440" y="57636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9408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4644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83528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703520" y="86364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87280" y="62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4292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627280" y="5877000"/>
            <a:ext cx="10810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urier New"/>
              </a:rPr>
              <a:t>is 1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Square(r: rea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y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('The suare of ',r:0: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 :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 is ',y:0:1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32720" y="1628640"/>
            <a:ext cx="241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: atribuir 4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: criar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8: mostrar 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calcular expressã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0: atribuir 16 a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1: calcula expressã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e atribuir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2: mostrar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3: acabar proc. 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voltar ao pr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55640" y="5013360"/>
            <a:ext cx="2232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55600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em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69056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169056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8584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3716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351160" y="57636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351160" y="1152000"/>
            <a:ext cx="14292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846440" y="57636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408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846440" y="576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83528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703520" y="86364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187280" y="62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49528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476280"/>
            <a:ext cx="1584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modula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268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odulos são pequenos programas dentro do programa. “Procedimentos e Funçõ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50028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m retorno</a:t>
            </a:r>
            <a:br>
              <a:rPr sz="1800"/>
            </a:b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2861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 valor retornado</a:t>
            </a:r>
            <a:br>
              <a:rPr sz="1800"/>
            </a:b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2852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m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256536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 parâmetro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input val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3429000"/>
            <a:ext cx="4535280" cy="1584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4221000"/>
            <a:ext cx="45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3429000"/>
            <a:ext cx="0" cy="15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3645000"/>
            <a:ext cx="502920" cy="43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4365720"/>
            <a:ext cx="502920" cy="43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3645000"/>
            <a:ext cx="503280" cy="43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4720" y="4365720"/>
            <a:ext cx="503280" cy="43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4581360"/>
            <a:ext cx="3585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4581360"/>
            <a:ext cx="3585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6160" y="4581360"/>
            <a:ext cx="3585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3860640"/>
            <a:ext cx="3589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3284640"/>
            <a:ext cx="1008360" cy="1079280"/>
          </a:xfrm>
          <a:prstGeom prst="ellipse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211280" y="5157720"/>
            <a:ext cx="289080" cy="71928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5877000"/>
            <a:ext cx="1368360" cy="36828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4005360"/>
            <a:ext cx="1008360" cy="1079280"/>
          </a:xfrm>
          <a:prstGeom prst="ellipse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64000" y="4005360"/>
            <a:ext cx="1008000" cy="1079280"/>
          </a:xfrm>
          <a:prstGeom prst="ellipse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508720" y="5084280"/>
            <a:ext cx="576000" cy="79236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148360" y="4076280"/>
            <a:ext cx="718920" cy="180036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Square(r: rea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y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('The suare of ',r:0: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 :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 is ',y:0:1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732720" y="1628640"/>
            <a:ext cx="241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: entr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: criar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: atribuir 4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: criar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8: mostrar 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calcular expressã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0: atribuir 16 a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1: calcula expressã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e atribuir a 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2: mostrar y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3: acabar proc. 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voltar ao prog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4: chamar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5640" y="5229360"/>
            <a:ext cx="2016000" cy="287280"/>
          </a:xfrm>
          <a:prstGeom prst="rect">
            <a:avLst/>
          </a:prstGeom>
          <a:noFill/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5157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76480" y="58104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3_1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parâmetros so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95280" y="692280"/>
            <a:ext cx="6553080" cy="5447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NTimes(r: real; n: integer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* Will write n times the real r 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i: integ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 i := 1 to n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r:0:3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Formatted(r: real; n: integer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(* Will write the real r with n decimal cases 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r:0:n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NTimes(3.0, 4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Formatted(5.0, 5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Formatted(5.0, 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427640" y="4365720"/>
            <a:ext cx="4537080" cy="15541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3.00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3.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3.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3.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5.00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5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164360" y="407664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508720" y="1773360"/>
            <a:ext cx="2089080" cy="143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299280" y="1916280"/>
            <a:ext cx="720720" cy="43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867280" y="2022480"/>
            <a:ext cx="432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867280" y="2227320"/>
            <a:ext cx="432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580000" y="1844640"/>
            <a:ext cx="5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r</a:t>
            </a:r>
            <a:br>
              <a:rPr sz="1400"/>
            </a:b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5940360" y="2492280"/>
          <a:ext cx="9432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492280"/>
                    <a:ext cx="943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6588000" y="242100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r, r, ...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88000" y="234936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08720" y="1773360"/>
            <a:ext cx="2089080" cy="143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6968880" y="2398320"/>
            <a:ext cx="173160" cy="792000"/>
          </a:xfrm>
          <a:custGeom>
            <a:avLst/>
            <a:gdLst>
              <a:gd name="textAreaLeft" fmla="*/ 110520 w 173160"/>
              <a:gd name="textAreaRight" fmla="*/ 173520 w 1731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58200" y="285264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n vez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3_2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19280" y="1701720"/>
            <a:ext cx="56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Questão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receber informação de um procedime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556000" y="3141720"/>
            <a:ext cx="2952720" cy="7920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56000" y="3141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imento ‘GeraText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716360" y="3573360"/>
            <a:ext cx="1654200" cy="1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8000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Benfic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690560" y="451008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procedimento que gera textos manda um texto, por exemplo ‘Benfica’, ao códi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03280" y="2421000"/>
            <a:ext cx="5688000" cy="2040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unction FunctionName(parameter_list): type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&lt;variable_list&gt;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st &lt;const_list&gt;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struction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260360" y="1301760"/>
            <a:ext cx="1729080" cy="54288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260360" y="13017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00360" y="1589040"/>
            <a:ext cx="1079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172040" y="2484360"/>
            <a:ext cx="1728720" cy="21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ameter_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58920" y="5516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das instruções deve ser uma especificação d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tornar (senão, o valor a retornar será aleató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60360" y="652320"/>
            <a:ext cx="1729080" cy="54324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260360" y="6523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700360" y="939960"/>
            <a:ext cx="1079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68360" y="1660680"/>
            <a:ext cx="1079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211640" y="1125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ções com e sem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62840" y="2414520"/>
            <a:ext cx="8571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typ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258920" y="479736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clarar o tipo de informação a retor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2781360"/>
            <a:ext cx="1729080" cy="2232000"/>
          </a:xfrm>
          <a:custGeom>
            <a:avLst/>
            <a:gdLst/>
            <a:ahLst/>
            <a:rect l="l" t="t" r="r" b="b"/>
            <a:pathLst>
              <a:path w="1089" h="1497">
                <a:moveTo>
                  <a:pt x="817" y="0"/>
                </a:moveTo>
                <a:cubicBezTo>
                  <a:pt x="953" y="257"/>
                  <a:pt x="1089" y="514"/>
                  <a:pt x="1089" y="726"/>
                </a:cubicBezTo>
                <a:cubicBezTo>
                  <a:pt x="1089" y="938"/>
                  <a:pt x="998" y="1142"/>
                  <a:pt x="817" y="1270"/>
                </a:cubicBezTo>
                <a:cubicBezTo>
                  <a:pt x="636" y="1398"/>
                  <a:pt x="318" y="1447"/>
                  <a:pt x="0" y="1497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03280" y="3871800"/>
            <a:ext cx="5689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FunctionName := val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211640" y="765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função retorna 1 (um)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258920" y="1484280"/>
            <a:ext cx="6264360" cy="1797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FUNCTION Square(r: real)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(* retornara o quadrado do parametro r 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r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Square := 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 de uma fu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254960" y="3716280"/>
            <a:ext cx="668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ar no programa princip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ribuição: </a:t>
            </a:r>
            <a:r>
              <a:rPr b="0" lang="pt-BR" sz="1800" spc="-1" strike="noStrike">
                <a:solidFill>
                  <a:srgbClr val="ff0000"/>
                </a:solidFill>
                <a:latin typeface="Courier New"/>
              </a:rPr>
              <a:t>y := Square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pressão: </a:t>
            </a:r>
            <a:r>
              <a:rPr b="0" lang="pt-BR" sz="1800" spc="-1" strike="noStrike">
                <a:solidFill>
                  <a:srgbClr val="ff0000"/>
                </a:solidFill>
                <a:latin typeface="Courier New"/>
              </a:rPr>
              <a:t>y := 2.0*Square(x)+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ar em outros procedimentos: </a:t>
            </a:r>
            <a:r>
              <a:rPr b="0" lang="pt-BR" sz="1800" spc="-1" strike="noStrike">
                <a:solidFill>
                  <a:srgbClr val="ff0000"/>
                </a:solidFill>
                <a:latin typeface="Courier New"/>
              </a:rPr>
              <a:t>WriteLn(Square(x):0:1));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Courier New"/>
              </a:rPr>
              <a:t>y := Square(Square(Square(3.0)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637080" y="652320"/>
            <a:ext cx="1728720" cy="54324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9564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076720" y="939960"/>
            <a:ext cx="1079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987640" y="981000"/>
            <a:ext cx="1079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98920" y="708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227640" y="692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t-PT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258920" y="1484280"/>
            <a:ext cx="6264360" cy="3744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PROGRAM WithFunc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Var x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FUNCTION Square(r: real)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(* retornara o quadrado do parametro r 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r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Square := 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x := Square(4.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writeln(‘x=‘, x:0: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Writeln(Square(Square(Square(3.0)):0: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emplo de uma fu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37080" y="652320"/>
            <a:ext cx="1728720" cy="54324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99564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076720" y="939960"/>
            <a:ext cx="1079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987640" y="981000"/>
            <a:ext cx="1079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698920" y="708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227640" y="692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t-PT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258920" y="530064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=16.0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656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09080" y="66135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T13_3.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ferença entre matemática e infor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934920" y="3284640"/>
            <a:ext cx="1222560" cy="50472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34920" y="3284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65400" y="3456000"/>
            <a:ext cx="430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03280" y="3355920"/>
            <a:ext cx="43164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669400" y="1647720"/>
            <a:ext cx="59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função de matemática recebe um ou mais valores 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torna um valor, por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689200" y="3219480"/>
            <a:ext cx="608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função de informática (PASCAL) recebe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um ou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is valores e retorna um valor, por exempl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FUNCTION Random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690280" y="4514760"/>
            <a:ext cx="564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função da linguagem C recebe zero, um ou mai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lores e retorna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ou um valor, por exempl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void Clear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15880" cy="144936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503280" y="3500280"/>
            <a:ext cx="43164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03280" y="3645000"/>
            <a:ext cx="43164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934920" y="4581360"/>
            <a:ext cx="1222560" cy="50328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934920" y="4581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65400" y="4753080"/>
            <a:ext cx="4302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03280" y="4653000"/>
            <a:ext cx="43164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03280" y="4797360"/>
            <a:ext cx="43164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3280" y="4941720"/>
            <a:ext cx="43164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867280" y="1989000"/>
                <a:ext cx="2448000" cy="4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547640" y="836640"/>
            <a:ext cx="60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Questão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rque usar procedimentos (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Procedure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Function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4876920" cy="175248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835280" y="4437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ção do programa (mais fácil a ler, mud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35280" y="494172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ixas Negras (distribuir tarefas, copiar partes dos outras progra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1701720"/>
            <a:ext cx="56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Questão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passar informação a um procedime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3357720"/>
            <a:ext cx="2735280" cy="7920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3357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 ‘EscrevaText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00360" y="3789360"/>
            <a:ext cx="1654200" cy="1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0560" y="3573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Benfic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0560" y="451008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procedimento que escreva textos recebe um texto, ‘Benfica’, a ser escrev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8000" y="2644920"/>
            <a:ext cx="5185080" cy="2040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DURE ProcedureName(parametro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&lt;variable_list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st &lt;const_list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struc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3640" y="876240"/>
            <a:ext cx="2232000" cy="79236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3640" y="8762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4000" y="1308240"/>
            <a:ext cx="1079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46760" y="2701800"/>
            <a:ext cx="1224000" cy="21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parame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43280" y="1996920"/>
            <a:ext cx="309708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râmetros a passar a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40360" y="2244600"/>
            <a:ext cx="144360" cy="432000"/>
          </a:xfrm>
          <a:custGeom>
            <a:avLst/>
            <a:gdLst/>
            <a:ahLst/>
            <a:rect l="l" t="t" r="r" b="b"/>
            <a:pathLst>
              <a:path w="91" h="272">
                <a:moveTo>
                  <a:pt x="0" y="0"/>
                </a:moveTo>
                <a:cubicBezTo>
                  <a:pt x="45" y="45"/>
                  <a:pt x="91" y="91"/>
                  <a:pt x="91" y="136"/>
                </a:cubicBezTo>
                <a:cubicBezTo>
                  <a:pt x="91" y="181"/>
                  <a:pt x="45" y="226"/>
                  <a:pt x="0" y="27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4908600"/>
            <a:ext cx="396108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ariáveis normais (locais) a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3468600"/>
            <a:ext cx="1403280" cy="1440000"/>
          </a:xfrm>
          <a:custGeom>
            <a:avLst/>
            <a:gdLst/>
            <a:ahLst/>
            <a:rect l="l" t="t" r="r" b="b"/>
            <a:pathLst>
              <a:path w="884" h="907">
                <a:moveTo>
                  <a:pt x="680" y="907"/>
                </a:moveTo>
                <a:cubicBezTo>
                  <a:pt x="782" y="665"/>
                  <a:pt x="884" y="423"/>
                  <a:pt x="771" y="272"/>
                </a:cubicBezTo>
                <a:cubicBezTo>
                  <a:pt x="658" y="121"/>
                  <a:pt x="329" y="60"/>
                  <a:pt x="0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3108240"/>
            <a:ext cx="266400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&lt;variable_list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st &lt;const_list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5661000"/>
            <a:ext cx="720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r os parâmetros: igual a definir as variáveis. 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OCEDURE ProcName(x: real; s: str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Square(r: rea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y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('The suare of ',r:0: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 :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 is ',y:0:1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765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cedimento pode usar os parâmetros tal como se fossam variáveis norm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35733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dar 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637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strar 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32720" y="314172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ar numa expre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65120" y="3246480"/>
            <a:ext cx="576360" cy="360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08000" y="3357720"/>
            <a:ext cx="4751640" cy="71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8480" y="3500280"/>
            <a:ext cx="576360" cy="360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3716280"/>
            <a:ext cx="5327640" cy="73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2997360"/>
            <a:ext cx="576360" cy="3603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9640" y="422100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ão é necessário inicializar-as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(Porqu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924360" y="2852280"/>
            <a:ext cx="2663640" cy="289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Square(r: rea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y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('The suare of ',r:0: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 :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 is ',y:0:1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765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hamar o procedimento.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Fornecer um val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4979880"/>
            <a:ext cx="626436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59640" y="4437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hamada com valor cons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5084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hamada com vari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4979880"/>
            <a:ext cx="6264360" cy="337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5218200"/>
            <a:ext cx="626436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59640" y="57405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hamada com expre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Square(r: rea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y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('The suare of ',r:0: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 :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 is ',y:0:1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programa em aná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32720" y="162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8200" y="571680"/>
            <a:ext cx="144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7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480" y="47181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306360"/>
            <a:ext cx="430200" cy="316080"/>
          </a:xfrm>
          <a:custGeom>
            <a:avLst/>
            <a:gdLst/>
            <a:ahLst/>
            <a:rect l="l" t="t" r="r" b="b"/>
            <a:pathLst>
              <a:path w="226" h="318">
                <a:moveTo>
                  <a:pt x="0" y="0"/>
                </a:moveTo>
                <a:cubicBezTo>
                  <a:pt x="71" y="64"/>
                  <a:pt x="143" y="129"/>
                  <a:pt x="181" y="182"/>
                </a:cubicBezTo>
                <a:cubicBezTo>
                  <a:pt x="219" y="235"/>
                  <a:pt x="203" y="318"/>
                  <a:pt x="226" y="3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Square(r: rea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y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('The suare of ',r:0: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 :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 is ',y:0:1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5877000"/>
            <a:ext cx="626436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4.0 is 16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The square of 3.0 is 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48360" y="4508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 com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1628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: criar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: atribuir 3 a x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: cham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" y="49528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549360"/>
            <a:ext cx="1008360" cy="79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620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765000"/>
            <a:ext cx="10080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64360" y="83664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62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9528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042920" y="571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042920" y="1147680"/>
            <a:ext cx="14292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8200" y="5716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584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8200" y="57168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85896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557360"/>
            <a:ext cx="6264360" cy="423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arame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Square(r: rea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y: re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('The suare of ',r:0: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y := r*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 := 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 is ',y:0:1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x := 3.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4.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Square(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4-04T15:33:08Z</dcterms:modified>
  <cp:revision>426</cp:revision>
  <dc:subject/>
  <dc:title>Slide 1</dc:title>
</cp:coreProperties>
</file>