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1829-0C0C-4006-B4F0-B0B12A4CB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1384-6198-400F-9FB1-EE7A1179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B2C4-8BAD-4AB6-91B7-97D63B65A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E7BA-B9A7-434D-AB54-51FFECCA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FFE1-FAC1-4997-A66B-FCC524E5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C4E4-A9B1-42A5-9EF7-D666D3FC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1750-701D-4767-B936-6E3E6F53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FB00-1DFB-4EF5-8ABD-9D13E2C2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978B-3747-4AB1-8AE0-562735E6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455F-4604-4030-B791-0D6CF3A9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B43F-8168-4BD0-BF5D-F038F67F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1E9B-C69D-402B-BFDA-64640434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BBC4-B445-4A3F-BC5B-AC84192E1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71640" y="189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</a:t>
            </a: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ção à Comput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06920" y="90792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la 17: Ar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4162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rays múltiplos. ex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59280" y="1268280"/>
            <a:ext cx="5400360" cy="5204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GRAM ShowMatri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matrix: array[1..3, 1..3] of intege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matrix[1, 1] := 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matrix[1, 2] := 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matrix[1, 3] := 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matrix[2, 1] := 2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matrix[2, 2] := 2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matrix[2, 3] := 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matrix[3, 1] := 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matrix[3, 2] := 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matrix[3, 3] := 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or i := 1 to 3 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or j := 1 to 3 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(matrix[i, j],' '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1952640" cy="1905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484360" y="76500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rays. Cuidado com os índ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59280" y="1268280"/>
            <a:ext cx="5400360" cy="3257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GRAM Tes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r: array[1..4]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intege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a: intege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a := 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'a=',a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[5] := 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'a=',a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eadLn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1247760" cy="1290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8360" y="2565360"/>
            <a:ext cx="1619280" cy="3914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780000" y="5013360"/>
            <a:ext cx="3348000" cy="580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a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a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76500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erá o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do seguinte program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9280" y="3500280"/>
            <a:ext cx="237636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43280" y="587700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r[5] := 1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vai sobreescrever o valor de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24000" y="4149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r[5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719000" y="4343400"/>
            <a:ext cx="4316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956720" y="6597720"/>
            <a:ext cx="11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t17_1.p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205000"/>
            <a:ext cx="5400720" cy="27709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N: 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a: array[1..1000] of re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average: re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i: 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eadln(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average :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or i := 1 to N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average := average + a[i]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average := average/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averag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105264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creva um programa que calcula a média de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úm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84360" y="1989000"/>
            <a:ext cx="4176720" cy="3470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2339280" y="1197000"/>
            <a:ext cx="1871640" cy="1008000"/>
          </a:xfrm>
          <a:prstGeom prst="wedgeRoundRectCallout">
            <a:avLst>
              <a:gd name="adj1" fmla="val -53226"/>
              <a:gd name="adj2" fmla="val 86532"/>
              <a:gd name="adj3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urray I understand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1052640"/>
            <a:ext cx="748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array é uma colecção indexada de variáveis do mesmo ti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array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é como um armário com gave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40000" y="2060640"/>
            <a:ext cx="3744720" cy="2808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1640" y="2490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60360" y="276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82680" y="3056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4520" y="4124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5280" y="3683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95280" y="3319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91240" y="5300640"/>
            <a:ext cx="565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.. um array. Cada gaveta conte coisas do mesmo t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rays. Porquê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105264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creva um programa que calcula a média de 10 núm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71640" y="2062080"/>
            <a:ext cx="6769080" cy="4231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a1, a2, a3, a4, a5, a6, a7, a8, a9, a10, media: re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ReadLn(a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ReadLn(a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ReadLn(a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ReadLn(a4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ReadLn(a5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ReadLn(a6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ReadLn(a7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ReadLn(a8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ReadLn(a9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ReadLn(a1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media := (a1+a2+a3+a4+a5+a6+a7+a8+a9+a10)/10.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writeln(‘Media: ‘, medi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3280" y="1557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luç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rays. Porquê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105264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creva um programa que calcula a média de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úm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932040"/>
            <a:ext cx="7777080" cy="55695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Var a01, a02, a03, a04, a05, a06, a07, a08, a09, a1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a11, a12, a13, a14, a15, a16, a17, a18, a19, a2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a21, a22, a23, a24, a25, a26, a27, a28, a29, a3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a31, a32, a33, a34, a35, a36, a37, a38, a39, a4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a41, a42, a43, a44, a45, a46, a47, a48, a49, a5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a51, a52, a53, a54, a55, a56, a57, a58, a59, a6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a61, a62, a63, a64, a65, a66, a67, a68, a69, a7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a71, a72, a73, a74, a75, a76, a77, a78, a79, a8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a81, a82, a83, a84, a85, a86, a87, a88, a89, a9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a91, a92, a93, a94, a95, a96, a97, a98, a99, a10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ReadLn(a01);  ReadLn(a02);  ReadLn(a03);  ReadLn(a04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ReadLn(a05);  ReadLn(a06);  ReadLn(a07);  ReadLn(a08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ReadLn(a09);  ReadLn(a10);  ReadLn(a11);  ReadLn(a12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ReadLn(a13);  ReadLn(a14);  ReadLn(a15);  ReadLn(a16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ReadLn(a17);  ReadLn(a18);  ReadLn(a19);  ReadLn(a20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ReadLn(a21);  ReadLn(a22);  ReadLn(a23);  ReadLn(a24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ReadLn(a25);  ReadLn(a26);  ReadLn(a27);  ReadLn(a28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ReadLn(a29);  ReadLn(a30);  ReadLn(a31);  ReadLn(a32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ReadLn(a33);  ReadLn(a34);  ReadLn(a35);  ReadLn(a36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ReadLn(a37);  ReadLn(a38);  ReadLn(a39);  ReadLn(a40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ReadLn(a41);  ReadLn(a42);  ReadLn(a43);  ReadLn(a44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ReadLn(a45);  ReadLn(a46);  ReadLn(a47);  ReadLn(a48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ReadLn(a49);  ReadLn(a50);  ReadLn(a51);  ReadLn(a52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ReadLn(a53);  ReadLn(a54);  ReadLn(a55);  ReadLn(a56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ReadLn(a57);  ReadLn(a58);  ReadLn(a59);  ReadLn(a60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ReadLn(a61);  ReadLn(a62);  ReadLn(a63);  ReadLn(a64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ReadLn(a65);  ReadLn(a66);  ReadLn(a67);  ReadLn(a68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ReadLn(a69);  ReadLn(a70);  ReadLn(a71);  ReadLn(a72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ReadLn(a73);  ReadLn(a74);  ReadLn(a75);  ReadLn(a76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ReadLn(a77);  ReadLn(a78);  ReadLn(a79);  ReadLn(a80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ReadLn(a81);  ReadLn(a82);  ReadLn(a83);  ReadLn(a84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ReadLn(a85);  ReadLn(a86);  ReadLn(a87);  ReadLn(a88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ReadLn(a89);  ReadLn(a90);  ReadLn(a91);  ReadLn(a92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ReadLn(a93);  ReadLn(a94);  ReadLn(a95);  ReadLn(a96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ReadLn(a97);  ReadLn(a98);  ReadLn(a99);  ReadLn(a100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media := (a01+a02+a03+a04+a05+a06+a07+a08+a09+a10+a11+a12+a13+a14+a15+a16+a17+a18+a19+a20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a21+a22+a23+a24+a25+a26+a27+a28+a29+a30+a31+a32+a33+a34+a35+a36+a37+a38+a39+a40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a41+a42+a43+a44+a45+a46+a47+a48+a49+a50+a51+a52+a53+a54+a55+a56+a57+a58+a59+a60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a61+a62+a63+a64+a65+a66+a67+a68+a69+a70+a71+a72+a73+a74+a75+a76+a77+a78+a79+a80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a81+a82+a83+a84+a85+a86+a87+a88+a89+a90+a91+a92+a93+a94+a95+a96+a97+a98+a99+100)/100.0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writeln(‘Media: ‘, media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rays. Porquê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76500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creva um programa que calcula a média de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100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úm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1640" y="119052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creva um programa que calcula a média de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úmeros (n dado pelo utilizad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1917720"/>
            <a:ext cx="7416720" cy="47178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a1, a2, a3, a4, a5, a6, a7, a8, a9, a10, media: re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n: 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ReadLn(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Case n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1: 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 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ReadLn(a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 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media := a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2: 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 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ReadLn(a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 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ReadLn(a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 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media := (a1+a2)/2.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writeln(‘Media: ‘, medi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rays. Porquê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71640" y="76500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á que é possível fazer isso mais fáci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80000" y="2781360"/>
            <a:ext cx="172872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800" spc="-1" strike="noStrike">
                <a:solidFill>
                  <a:srgbClr val="000000"/>
                </a:solidFill>
                <a:latin typeface="Arial"/>
              </a:rPr>
              <a:t>Arr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vector/matri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rays. Decla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640" y="1557360"/>
            <a:ext cx="7488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r name: array[startindex .. endindex] of typ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2492280"/>
            <a:ext cx="748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indentific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tartindex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ndindex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limites do í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tipo do cada elemento do arr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4149720"/>
            <a:ext cx="6769440" cy="1310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account: array[1..100] of re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prime: array[1..10] of longin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propinas: array[1000..2000] of boolea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rays. U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836640"/>
            <a:ext cx="7488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[index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35280" y="4653000"/>
            <a:ext cx="4934160" cy="8240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account[20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propinas[1055] := 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885960" cy="5105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692360" y="3500280"/>
            <a:ext cx="1079280" cy="1944720"/>
          </a:xfrm>
          <a:custGeom>
            <a:avLst/>
            <a:gdLst/>
            <a:ahLst/>
            <a:rect l="l" t="t" r="r" b="b"/>
            <a:pathLst>
              <a:path w="680" h="1225">
                <a:moveTo>
                  <a:pt x="680" y="0"/>
                </a:moveTo>
                <a:cubicBezTo>
                  <a:pt x="555" y="329"/>
                  <a:pt x="430" y="658"/>
                  <a:pt x="317" y="862"/>
                </a:cubicBezTo>
                <a:cubicBezTo>
                  <a:pt x="204" y="1066"/>
                  <a:pt x="60" y="1172"/>
                  <a:pt x="0" y="1225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68360" y="3284640"/>
            <a:ext cx="15843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rime[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rays múltip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1125360"/>
            <a:ext cx="89280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 name: array[startindex1 .. endindex1, startindex2 .. endindex2] of 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920" y="1700280"/>
            <a:ext cx="9001080" cy="580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name: array[startindex1..endindex1]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array[startindex2..endindex2] of typ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920" y="2635200"/>
            <a:ext cx="9001080" cy="337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name: array[startindex1..endindex1,startindex2..endindex2] of typ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55640" y="3933720"/>
            <a:ext cx="1952640" cy="1905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284720" y="4076640"/>
            <a:ext cx="2952720" cy="337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name[index1, index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84720" y="4821120"/>
            <a:ext cx="2952720" cy="337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name[index1][index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51280" y="2276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92720" y="436572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84360" y="76500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claraç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57336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0:27:03Z</dcterms:created>
  <dc:creator>Peter Stallinga</dc:creator>
  <dc:description/>
  <dc:language>en-US</dc:language>
  <cp:lastModifiedBy>Peter Stallinga</cp:lastModifiedBy>
  <dcterms:modified xsi:type="dcterms:W3CDTF">2005-04-19T11:56:12Z</dcterms:modified>
  <cp:revision>531</cp:revision>
  <dc:subject/>
  <dc:title>Slide 1</dc:title>
</cp:coreProperties>
</file>