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20.wmf" ContentType="image/x-wmf"/>
  <Override PartName="/ppt/media/image3.wmf" ContentType="image/x-wmf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wmf" ContentType="image/x-wmf"/>
  <Override PartName="/ppt/media/image15.wmf" ContentType="image/x-wmf"/>
  <Override PartName="/ppt/media/image1.jpeg" ContentType="image/jpeg"/>
  <Override PartName="/ppt/media/image2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9319-BC6D-481D-9C1F-06582B0AC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76A5-6BCE-40B8-83A1-EB9B717BC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B00B-A488-45B6-A7F1-45EC9022E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4A32-56CB-4AA1-92F3-8581589AA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8EB6-DFA3-4A88-AAC5-AD2DE69DE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DEAC-FE70-4B29-A553-8E68B1DFC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D9BC-DFE8-4233-A067-9DFF95F93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BC19-C6A2-4531-8ECE-5507C479B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754C-DD75-4A6C-817F-F86358CC9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D2C6-28FB-4D7A-A728-E9F9312B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3E96-0ABD-4E41-B002-0BA9D85E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50C7-02E2-4F17-A6A6-EC4D2A78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3C27E-D5F0-4781-9A99-D6AD8F60E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95640" y="1197000"/>
            <a:ext cx="4106880" cy="5318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971640" y="18900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rodu</a:t>
            </a: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ção à Comput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0"/>
            <a:ext cx="47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2411280" y="765000"/>
          <a:ext cx="4467240" cy="505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765000"/>
                    <a:ext cx="4467240" cy="50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ware vs.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1905120" y="1052640"/>
          <a:ext cx="4829040" cy="531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052640"/>
                    <a:ext cx="4829040" cy="53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amadas Físicas e Lóg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484280"/>
            <a:ext cx="9144000" cy="537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1905120" y="1052640"/>
          <a:ext cx="4829040" cy="531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052640"/>
                    <a:ext cx="4829040" cy="53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amadas Físicas e Lóg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133720"/>
            <a:ext cx="914400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1905120" y="1052640"/>
          <a:ext cx="4829040" cy="531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052640"/>
                    <a:ext cx="4829040" cy="53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amadas Físicas e Lóg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2637000"/>
            <a:ext cx="9144000" cy="42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1905120" y="1052640"/>
          <a:ext cx="4829040" cy="531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052640"/>
                    <a:ext cx="4829040" cy="53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amadas Físicas e Lóg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500280"/>
            <a:ext cx="9144000" cy="335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1905120" y="1052640"/>
          <a:ext cx="4829040" cy="531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052640"/>
                    <a:ext cx="4829040" cy="53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amadas Físicas e Lóg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4076640"/>
            <a:ext cx="9144000" cy="278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905120" y="1052640"/>
          <a:ext cx="4829040" cy="531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052640"/>
                    <a:ext cx="4829040" cy="53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amadas Físicas e Lóg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4653000"/>
            <a:ext cx="9144000" cy="220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1905120" y="1052640"/>
          <a:ext cx="4829040" cy="531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052640"/>
                    <a:ext cx="4829040" cy="53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amadas Físicas e Lóg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1905120" y="1052640"/>
          <a:ext cx="4829040" cy="531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052640"/>
                    <a:ext cx="4829040" cy="53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amadas Físicas e Lóg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1905120" y="1052640"/>
          <a:ext cx="4829040" cy="531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052640"/>
                    <a:ext cx="4829040" cy="53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amadas Físicas e Lóg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403280" y="1700280"/>
          <a:ext cx="5724720" cy="302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700280"/>
                    <a:ext cx="5724720" cy="30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ula 2: Introdução aos Comput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ircuitos Integrados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ore’s L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916360" y="907920"/>
            <a:ext cx="2993760" cy="21542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916360" y="3500280"/>
            <a:ext cx="3209760" cy="1390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1619280" y="5445000"/>
          <a:ext cx="5850000" cy="51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19280" y="5445000"/>
                    <a:ext cx="5850000" cy="5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227640" y="198900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ore’s L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ircuitos Integ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916360" y="907920"/>
            <a:ext cx="2993760" cy="21542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2916360" y="3500280"/>
            <a:ext cx="3209760" cy="1390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4" name=""/>
          <p:cNvGraphicFramePr/>
          <p:nvPr/>
        </p:nvGraphicFramePr>
        <p:xfrm>
          <a:off x="1619280" y="5445000"/>
          <a:ext cx="5850000" cy="51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19280" y="5445000"/>
                    <a:ext cx="5850000" cy="5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1898640" y="692280"/>
          <a:ext cx="4989600" cy="589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8640" y="692280"/>
                    <a:ext cx="4989600" cy="58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mpil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283080" y="3521160"/>
            <a:ext cx="19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ro Assemb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32320" y="4365720"/>
            <a:ext cx="21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hine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5148360" y="1628640"/>
          <a:ext cx="2124000" cy="7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1628640"/>
                    <a:ext cx="2124000" cy="7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2916360" y="692280"/>
          <a:ext cx="3949560" cy="564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16360" y="692280"/>
                    <a:ext cx="3949560" cy="56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539640" y="4149720"/>
            <a:ext cx="1897200" cy="20890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6"/>
          <a:stretch/>
        </p:blipFill>
        <p:spPr>
          <a:xfrm>
            <a:off x="2556000" y="1700280"/>
            <a:ext cx="2305080" cy="6951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7"/>
          <a:stretch/>
        </p:blipFill>
        <p:spPr>
          <a:xfrm>
            <a:off x="6516720" y="2276640"/>
            <a:ext cx="2157480" cy="19159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istema Oper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5398920" cy="53992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6303240" y="692280"/>
            <a:ext cx="221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irst Transi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Bell Laboratories 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443640" y="2421000"/>
            <a:ext cx="18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194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1482840" y="549360"/>
          <a:ext cx="6184800" cy="585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2840" y="549360"/>
                    <a:ext cx="6184800" cy="58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6516720" y="4076640"/>
            <a:ext cx="863640" cy="360360"/>
          </a:xfrm>
          <a:prstGeom prst="rect">
            <a:avLst/>
          </a:prstGeom>
          <a:solidFill>
            <a:srgbClr val="ffff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979640" y="4437000"/>
            <a:ext cx="5400720" cy="360360"/>
          </a:xfrm>
          <a:prstGeom prst="rect">
            <a:avLst/>
          </a:prstGeom>
          <a:solidFill>
            <a:srgbClr val="ffff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79640" y="4797360"/>
            <a:ext cx="1440000" cy="360360"/>
          </a:xfrm>
          <a:prstGeom prst="rect">
            <a:avLst/>
          </a:prstGeom>
          <a:solidFill>
            <a:srgbClr val="ffff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187280" y="757080"/>
          <a:ext cx="6480360" cy="610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757080"/>
                    <a:ext cx="6480360" cy="610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619280" y="1125360"/>
            <a:ext cx="2009880" cy="562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" name=""/>
          <p:cNvGraphicFramePr/>
          <p:nvPr/>
        </p:nvGraphicFramePr>
        <p:xfrm>
          <a:off x="5148360" y="1052640"/>
          <a:ext cx="101916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48360" y="1052640"/>
                    <a:ext cx="101916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5508720" y="4437000"/>
          <a:ext cx="615960" cy="647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508720" y="4437000"/>
                    <a:ext cx="6159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1979640" y="4508640"/>
          <a:ext cx="1440000" cy="563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79640" y="4508640"/>
                    <a:ext cx="144000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ipos de comput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916280"/>
            <a:ext cx="9144000" cy="494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1187280" y="757080"/>
          <a:ext cx="6480360" cy="610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757080"/>
                    <a:ext cx="6480360" cy="610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1619280" y="1125360"/>
            <a:ext cx="2009880" cy="562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5148360" y="1052640"/>
          <a:ext cx="101916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48360" y="1052640"/>
                    <a:ext cx="101916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5508720" y="4437000"/>
          <a:ext cx="615960" cy="647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508720" y="4437000"/>
                    <a:ext cx="6159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1979640" y="4508640"/>
          <a:ext cx="1440000" cy="563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79640" y="4508640"/>
                    <a:ext cx="144000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ipos de comput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924280"/>
            <a:ext cx="9144000" cy="39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187280" y="757080"/>
          <a:ext cx="6480360" cy="610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757080"/>
                    <a:ext cx="6480360" cy="610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619280" y="1125360"/>
            <a:ext cx="2009880" cy="562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" name=""/>
          <p:cNvGraphicFramePr/>
          <p:nvPr/>
        </p:nvGraphicFramePr>
        <p:xfrm>
          <a:off x="5148360" y="1052640"/>
          <a:ext cx="101916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48360" y="1052640"/>
                    <a:ext cx="101916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5508720" y="4437000"/>
          <a:ext cx="615960" cy="647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508720" y="4437000"/>
                    <a:ext cx="6159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1979640" y="4508640"/>
          <a:ext cx="1440000" cy="563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79640" y="4508640"/>
                    <a:ext cx="144000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ipos de comput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4076640"/>
            <a:ext cx="9144000" cy="278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1187280" y="757080"/>
          <a:ext cx="6480360" cy="610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757080"/>
                    <a:ext cx="6480360" cy="610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619280" y="1125360"/>
            <a:ext cx="2009880" cy="562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" name=""/>
          <p:cNvGraphicFramePr/>
          <p:nvPr/>
        </p:nvGraphicFramePr>
        <p:xfrm>
          <a:off x="5148360" y="1052640"/>
          <a:ext cx="101916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48360" y="1052640"/>
                    <a:ext cx="101916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5508720" y="4437000"/>
          <a:ext cx="615960" cy="647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508720" y="4437000"/>
                    <a:ext cx="6159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1979640" y="4508640"/>
          <a:ext cx="1440000" cy="563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79640" y="4508640"/>
                    <a:ext cx="144000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ipos de comput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5373720"/>
            <a:ext cx="914400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1187280" y="757080"/>
          <a:ext cx="6480360" cy="610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757080"/>
                    <a:ext cx="6480360" cy="610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619280" y="1125360"/>
            <a:ext cx="2009880" cy="562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5148360" y="1052640"/>
          <a:ext cx="101916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48360" y="1052640"/>
                    <a:ext cx="101916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5508720" y="4437000"/>
          <a:ext cx="615960" cy="647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508720" y="4437000"/>
                    <a:ext cx="6159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1979640" y="4508640"/>
          <a:ext cx="1440000" cy="563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79640" y="4508640"/>
                    <a:ext cx="144000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ipos de comput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1187280" y="757080"/>
          <a:ext cx="6480360" cy="610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757080"/>
                    <a:ext cx="6480360" cy="610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619280" y="1125360"/>
            <a:ext cx="2009880" cy="562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5148360" y="1052640"/>
          <a:ext cx="101916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48360" y="1052640"/>
                    <a:ext cx="101916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5508720" y="4437000"/>
          <a:ext cx="615960" cy="647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508720" y="4437000"/>
                    <a:ext cx="6159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1979640" y="4508640"/>
          <a:ext cx="1440000" cy="563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79640" y="4508640"/>
                    <a:ext cx="144000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ipos de comput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2411280" y="765000"/>
          <a:ext cx="4467240" cy="505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765000"/>
                    <a:ext cx="4467240" cy="50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ware vs.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3141720"/>
            <a:ext cx="9144000" cy="371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6T10:27:03Z</dcterms:created>
  <dc:creator>Peter Stallinga</dc:creator>
  <dc:description/>
  <dc:language>en-US</dc:language>
  <cp:lastModifiedBy>Peter Stallinga</cp:lastModifiedBy>
  <dcterms:modified xsi:type="dcterms:W3CDTF">2005-02-16T11:56:04Z</dcterms:modified>
  <cp:revision>31</cp:revision>
  <dc:subject/>
  <dc:title>Slide 1</dc:title>
</cp:coreProperties>
</file>