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0AFB-CE42-42C6-8523-C59CA874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8BAC-17DD-4A41-B70A-4F1B4483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ABB-F4E6-4AE1-8F5C-C431CCA3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4369-30DD-4980-902C-F23ED3C8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74EC-E3EE-4BD2-9594-A9B5444C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9AD-3AEE-492B-9627-015EB2B5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A043-E978-4E36-AAF2-98788750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199-1E70-4C08-81DC-2666DC52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8A5-97F3-4D38-91FF-EF62194C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23E-1AA8-478C-9EE2-D0D74FEE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81C-6106-4357-81B1-18F41343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0DF8-BBE7-44A5-A888-E55F7503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2EF8-0687-491A-8654-8903C50DE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71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ção à Compu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6920" y="9079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19: Novo t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5640" y="56610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hardware: monitor with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novos tipos. Exemp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765000"/>
            <a:ext cx="5904000" cy="49611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ype date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day, month, year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ype time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hour, minute, second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ype dateandtime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dattime: ti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datdate: d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16720" y="1341360"/>
            <a:ext cx="2303280" cy="3024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16720" y="134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dateand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32720" y="1700280"/>
            <a:ext cx="1942920" cy="1224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32720" y="2997360"/>
            <a:ext cx="1942920" cy="122364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1989000"/>
            <a:ext cx="1440000" cy="28764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48360" y="2278080"/>
            <a:ext cx="144000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48360" y="2565360"/>
            <a:ext cx="144000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48360" y="3284640"/>
            <a:ext cx="158436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48360" y="3573360"/>
            <a:ext cx="158436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3860640"/>
            <a:ext cx="1584360" cy="28764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7040" y="4797360"/>
            <a:ext cx="4161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o declarar uma variável deste tip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395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443640" y="549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no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6600cc"/>
                </a:solidFill>
                <a:latin typeface="Courier New"/>
              </a:rPr>
              <a:t>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298944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dattime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tim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hour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minute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second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16938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datdate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dat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day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month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year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novos tipos. Exemp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765000"/>
            <a:ext cx="5904000" cy="49611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ype date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day, month, year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ype time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hour, minute, second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ype dateandtime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dattime: ti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datdate: d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: datendti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3840" y="5157720"/>
            <a:ext cx="5354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o atribuir um valor a um campo desta variáv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395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516720" y="1341360"/>
            <a:ext cx="2303280" cy="3024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16720" y="1341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:dateand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32720" y="1700280"/>
            <a:ext cx="1942920" cy="1224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2997360"/>
            <a:ext cx="1942920" cy="122364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1989000"/>
            <a:ext cx="1440000" cy="28764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48360" y="2278080"/>
            <a:ext cx="144000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8360" y="2565360"/>
            <a:ext cx="144000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48360" y="3284640"/>
            <a:ext cx="158436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48360" y="3573360"/>
            <a:ext cx="158436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48360" y="3860640"/>
            <a:ext cx="1584360" cy="28764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549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no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6600cc"/>
                </a:solidFill>
                <a:latin typeface="Courier New"/>
              </a:rPr>
              <a:t>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2720" y="298944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dattime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tim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hour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minute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second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32720" y="16938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datdate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dat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day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month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year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novos tipos. Exemp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765000"/>
            <a:ext cx="5904000" cy="49611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ype date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day, month, year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ype time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hour, minute, second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ype dateandtime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dattime: ti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datdate: d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: datendti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.dattime.hour :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16720" y="4292640"/>
            <a:ext cx="2448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x é um record que contem dois cam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campo chama-se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dattim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o que é um record de três camp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destes campos é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395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516720" y="1341360"/>
            <a:ext cx="2303280" cy="3024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16720" y="1341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:dateand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32720" y="1700280"/>
            <a:ext cx="1942920" cy="1224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32720" y="2997360"/>
            <a:ext cx="1942920" cy="122364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48360" y="1989000"/>
            <a:ext cx="1440000" cy="28764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48360" y="2278080"/>
            <a:ext cx="144000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48360" y="2565360"/>
            <a:ext cx="144000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48360" y="3284640"/>
            <a:ext cx="158436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48360" y="3573360"/>
            <a:ext cx="158436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48360" y="3860640"/>
            <a:ext cx="1584360" cy="28764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549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no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6600cc"/>
                </a:solidFill>
                <a:latin typeface="Courier New"/>
              </a:rPr>
              <a:t>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32720" y="298944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dattime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tim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hour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minute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second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32720" y="16938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datdate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dat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day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month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year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novos tipos. sumá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8920" y="981000"/>
            <a:ext cx="69120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Declarar novos tip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truturação d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pecialmente em relação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record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um novo tipo não é igual à declaração de uma variável.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(uma definição de um tipo não gasta a memó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novo tipo é definido em termos de tipos já conhecido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- variáveis básica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- array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- record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- novos t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00" cy="404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50920" y="819000"/>
            <a:ext cx="620640" cy="623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24000" y="4452840"/>
            <a:ext cx="626760" cy="627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324000" y="2530440"/>
            <a:ext cx="623880" cy="620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50920" y="3451320"/>
            <a:ext cx="620640" cy="623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250920" y="1682640"/>
            <a:ext cx="62064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novos t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105264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r novos tipos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5805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. definir novos tipos de caix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95640" y="3716280"/>
            <a:ext cx="1193760" cy="120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51280" y="2060640"/>
            <a:ext cx="1193760" cy="120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940360" y="4079880"/>
            <a:ext cx="1206720" cy="120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835280" y="3784680"/>
            <a:ext cx="1199880" cy="1193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227640" y="2131920"/>
            <a:ext cx="1193760" cy="1200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1476360" y="2276640"/>
            <a:ext cx="119376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novos tipos. Synta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907920"/>
            <a:ext cx="5041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ovotipo = descri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3213000"/>
            <a:ext cx="5759280" cy="33858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Type float =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Type realarray = array[1.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of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Type myrecor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name: str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length: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width: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height: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1484280"/>
            <a:ext cx="669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typ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palavra de PASCAL para indicar que segue um bloco de código com definições de novos ti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novotip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a nossa escolha de nome do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descriçã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a descrição em termos de tipos já conhec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77080" y="3068640"/>
            <a:ext cx="1655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ra quem gosta d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descrição pode ser um arr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u um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643280" y="3284640"/>
            <a:ext cx="2160720" cy="1443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003640" y="3933720"/>
            <a:ext cx="187344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500720" y="4941720"/>
            <a:ext cx="23032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176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novos tipos. Avi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268280"/>
            <a:ext cx="61912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Definir um novo tipo não é igual a declarar uma variá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502080"/>
            <a:ext cx="5759640" cy="1465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Type float =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float := 3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844720" y="2997360"/>
            <a:ext cx="3024360" cy="280800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4720" y="3357720"/>
            <a:ext cx="3240000" cy="237636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1943280" cy="2009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1280" y="615780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um novo tipo é uma especificação ao compilador de um novo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32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novos tipos. Avi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84360" y="1268280"/>
            <a:ext cx="61912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Definir um novo tipo não é igual a declarar uma variá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3933720"/>
            <a:ext cx="5759640" cy="1739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Type float =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00"/>
                </a:solidFill>
                <a:latin typeface="Courier New"/>
              </a:rPr>
              <a:t>Var f: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f := 3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1943280" cy="2009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11280" y="615780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um novo tipo é uma especificação ao compilador de um novo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32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novos tipos. Exemp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907920"/>
            <a:ext cx="504180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ovotipo = descri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nome: novotip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nome := va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2030400"/>
            <a:ext cx="5759640" cy="28371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Type float =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Var f: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f := 3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Type realarray = array[1..10] of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Var ra: realarr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ra[1] := 2.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Var ra: array[1..10] of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ra[1] := 2.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novos tipos. Exemp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907920"/>
            <a:ext cx="504180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ovotipo = descri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 nome: novotip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nome := va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2033640"/>
            <a:ext cx="5761080" cy="2562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Type myrecor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name: str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length: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width: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height: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Var mydata: array[1..100] of myrecor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mydata[23].length := 3.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501336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Qual o tamanho da memória que 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yrecord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ocup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53672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0 (zero) porqu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yrecord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um tipo e não uma vari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57326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Qual o tamanho da memória que 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mydat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ocup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60865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00 x (256 + 6 + 6 + 6) = 274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novos tipos. Exemp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38200"/>
            <a:ext cx="7129440" cy="6177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TypeDefini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ype ra = array[1..6] of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: 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y: array[1..7] of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UNCTION AreEqual(r: ra): boolea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* Nota que o novo tipo pode também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usado para os parametros 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f r[1]=r[2]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AreEqual :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AreEqual :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[1] :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[2] :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AreEqual(x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y[1] :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y[2] :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* A seguinta linha de código não é permitido 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AreEqual(y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393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516720" y="836640"/>
            <a:ext cx="2303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claração de um novo 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492280"/>
            <a:ext cx="2303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parâmetro desta função é do novo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16720" y="1557360"/>
            <a:ext cx="244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claração de uma variável do novo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16720" y="4869000"/>
            <a:ext cx="244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ssar o array à fun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563640" y="5229360"/>
            <a:ext cx="2808360" cy="14436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2123640" y="1483920"/>
            <a:ext cx="4319640" cy="28908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419640" y="2276640"/>
            <a:ext cx="2952720" cy="57600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932360" y="1195560"/>
            <a:ext cx="1440000" cy="144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finir novos tipos. Exemp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765000"/>
            <a:ext cx="5904000" cy="5447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TypeDefini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ype time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hour, minute, second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CEDURE ShowTime(t: ti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* Vai mostrar o tempo no formato h:m.s 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t.hour, ':', t.minute, '.'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.secon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atime: ti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atime.hour := 2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atime.minute := 16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atime.second := 9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ShowTime(ati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16720" y="13413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claração de um novo 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6720" y="221148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parâmetro desta função é do novo tipo. U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32194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ceder aos campos do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40114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claração de uma variável do novo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480384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ceder aos campos do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16720" y="55958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ssar o record à fun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708360" y="5805360"/>
            <a:ext cx="2664000" cy="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708360" y="5229360"/>
            <a:ext cx="2664000" cy="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708360" y="4365720"/>
            <a:ext cx="2664000" cy="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708360" y="3573360"/>
            <a:ext cx="2664000" cy="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995640" y="2637000"/>
            <a:ext cx="2376720" cy="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708360" y="1700280"/>
            <a:ext cx="2664000" cy="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04-26T13:14:59Z</dcterms:modified>
  <cp:revision>590</cp:revision>
  <dc:subject/>
  <dc:title>Slide 1</dc:title>
</cp:coreProperties>
</file>