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081-8E79-4BFD-A578-33EAC352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73B-B2EF-4917-8960-852441A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99C-9841-42D1-B3E6-012A33B8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3A1-D6DE-4206-8C86-59C2F0A3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A5E-9F10-47DC-B139-6A374B90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C88-0FC7-40E3-B9D5-D14A93C7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686-143E-4529-ADF2-ECD271C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08A-DAEE-4FCD-B0BC-023CB150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3D3-1520-4CFF-90FC-F91724B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A61-BF25-488E-AFCB-440B6D17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F84-E9C8-4E79-B71A-399FBA0D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7F2-11DB-4589-B341-187D749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1624-D5A6-40B7-9B18-A5656F17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8: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1575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3357720"/>
            <a:ext cx="5759640" cy="2288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x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y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ordinate.x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ordinate.y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1987560"/>
            <a:ext cx="295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627280" y="90756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191628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627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12668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234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708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1195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962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22360" y="10476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773360"/>
            <a:ext cx="7921440" cy="4208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addre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treet: str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housenumber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ndar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orta: ch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ddress.street := 'Rua Santo Antonio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ddress.housenumber := 34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ddress.andar := 3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address.porta := 'E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writeln(address.street, '  ', address.housenumbe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writeln(address.andar, address.porta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165720"/>
            <a:ext cx="7921440" cy="580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ua Santo Antonio 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3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94472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290760" cy="223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501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ada divi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ão com informação do tipo 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ada gaveta com o mesmo tipo da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2133360"/>
            <a:ext cx="9144000" cy="295092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052640"/>
            <a:ext cx="74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colecção de variáveis de tipos mi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como um armário com divis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3006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Cada divisão contem coisas de um tipo 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2480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907920"/>
            <a:ext cx="7705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untar variáveis que logicamente formam um conjunto. Records vão estruturar 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 exemplo: um carro é definido por as seguintas informações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rc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ode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n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ilindrade do mot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trícul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pre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00600" y="2349360"/>
          <a:ext cx="4343400" cy="26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0600" y="2349360"/>
                    <a:ext cx="4343400" cy="26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971880" y="5014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sualização de u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elemente de um record chama-se “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ield”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ca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907920"/>
            <a:ext cx="7705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untar variáveis que logicamente formam um conjunto. Records vão estruturar 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 exemplo: um carro é definido por as seguintas informações: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rc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ode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n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ilindrade do mot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o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matrícul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pre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71880" y="50148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sualização de u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00600" y="2349360"/>
          <a:ext cx="4343400" cy="26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0600" y="2349360"/>
                    <a:ext cx="4343400" cy="26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7164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elemente de um record chama-se “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ield”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ca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907920"/>
            <a:ext cx="316872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na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m1: type1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m2: type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mN: type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66760" y="3392640"/>
            <a:ext cx="696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 indentificador (com todas as reg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tem1..item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 indentificadores dos campos individ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ype1..type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 tipos dos campos. Podem ser diferente ou ig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4292640"/>
            <a:ext cx="4105080" cy="1739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stud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ame: str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year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pinas: boolean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2492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; uma ficha com as informações de um al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3384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4292640"/>
            <a:ext cx="5759280" cy="1739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students: array[1..1000]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ame: str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year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pinas: boolea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3493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array d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; uma caixa com fichas de al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677880"/>
            <a:ext cx="4608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907920"/>
            <a:ext cx="316872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.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3573360"/>
            <a:ext cx="5759280" cy="2837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stud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ame: str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year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pinas: boolean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sudent.name := ‘Peter Stallinga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student.year :=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ourier New"/>
              </a:rPr>
              <a:t>sudent.propinas :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4480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ords.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907920"/>
            <a:ext cx="316872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[index].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357720"/>
            <a:ext cx="5759640" cy="3111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Var students: array[1..1000]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ame: str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year: intege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propinas: boolean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i := 105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tudents[i].name := 'Peter Stallinga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tudents[i].year := 200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tudents[i].propinas := TRU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64000" y="1052640"/>
            <a:ext cx="25210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20T21:28:58Z</dcterms:modified>
  <cp:revision>554</cp:revision>
  <dc:subject/>
  <dc:title>Slide 1</dc:title>
</cp:coreProperties>
</file>