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51D-339A-4E6A-81ED-BD477157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EE8-871C-4991-8180-049C996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65E-91D4-4503-82DF-4F1FEFA1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F0D-B005-47A2-8722-FEDA8930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931-C0DE-4763-89D3-756259A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30C-2A9C-4F31-8AC2-46D1023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696-BC68-47BB-939C-07537FE8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697-71DF-445A-8180-DB79F05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495-EB22-4E9D-BC76-3BD404CA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438-F5E0-481C-B6C8-36B20D74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0C9-3EB1-4818-BF87-63AFAD4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0E4-D908-4EC2-AC0C-92AEE71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C3B9-36A9-4C73-8584-27742EFE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22: Algori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816360" cy="300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9640" y="220500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meu portuguê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poderia ser p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979640" y="479736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1125360"/>
            <a:ext cx="3240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Vai sempre encontrar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Repetir para L2, L3 ... LN (cicl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2400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636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0072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9272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7708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908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79640" y="479736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79640" y="63817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971640" y="6669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71640" y="443700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a: Colocar número muito grande (eliminar o número da pesqui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595008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979640" y="479736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79640" y="63817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71640" y="6669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971640" y="443700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(ciclo i=1..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595008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979640" y="2637000"/>
            <a:ext cx="2448000" cy="93636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02160" y="20620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600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4000" y="465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979640" y="479736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79640" y="638172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971640" y="6669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971640" y="443700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(ciclo i=1..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595008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3200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072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9272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8472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7708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6764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465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fim chega a situação a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79640" y="170172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03280" y="170172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27808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79640" y="32860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971640" y="3573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971640" y="134136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134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79640" y="1341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03280" y="285444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928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19640" y="1900080"/>
            <a:ext cx="4752720" cy="2527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, b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i := encontra mais pequ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piar para b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[mi]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119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... do tip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6720" y="1197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2360" y="450864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 := encontra mais pe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979280" y="3357720"/>
            <a:ext cx="2087640" cy="122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6920" y="4797360"/>
            <a:ext cx="475308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979640" y="170172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3280" y="170172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03280" y="227808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79640" y="32860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971640" y="3573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971640" y="134136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71640" y="134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79640" y="1341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03280" y="285444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19640" y="1900080"/>
            <a:ext cx="475272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, b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n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or j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piar para b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[mi]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9440" y="57340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iar para b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9640" y="6165720"/>
            <a:ext cx="475308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979280" y="5084640"/>
            <a:ext cx="2087640" cy="6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979640" y="170172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03280" y="170172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227808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79640" y="32860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971640" y="3573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971640" y="134136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71640" y="134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1341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03280" y="285444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9640" y="1900080"/>
            <a:ext cx="475272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, b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[mi]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979640" y="170172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03280" y="170172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03280" y="227808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9640" y="32860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971640" y="3573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971640" y="1341360"/>
            <a:ext cx="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71640" y="13413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79640" y="1341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03280" y="2854440"/>
            <a:ext cx="1224000" cy="431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r 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28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19640" y="1900080"/>
            <a:ext cx="475272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, b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[mi]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623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egamos ao fim de implementação em PASCAL do primeiro 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32000" y="2781360"/>
            <a:ext cx="417672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258920" y="1557000"/>
            <a:ext cx="417672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19640" y="4365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9640" y="2060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2060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92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528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24000" y="2781360"/>
            <a:ext cx="237672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050920" y="1557360"/>
            <a:ext cx="244980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200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3200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8728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5600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ção de “Algoritm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1125360"/>
            <a:ext cx="626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o: Descri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ção em termos gerais de resolver um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924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hammed ibn-Musa Al-Khowariz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0 - 85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916360" y="2781360"/>
            <a:ext cx="158436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771640" y="1557360"/>
            <a:ext cx="172908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24000" y="2060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24000" y="2060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7964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35600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708360" y="2781360"/>
            <a:ext cx="403236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635280" y="1557000"/>
            <a:ext cx="388944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1636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91636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7164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2472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40360" y="2781360"/>
            <a:ext cx="57600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140360" y="1557360"/>
            <a:ext cx="57600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708360" y="2060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08360" y="2060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564000" y="1844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5600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292720" y="2781360"/>
            <a:ext cx="237492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219640" y="1557360"/>
            <a:ext cx="252108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0072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52472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92720" y="2781360"/>
            <a:ext cx="71928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292720" y="1557360"/>
            <a:ext cx="72072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48360" y="1844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2144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05440" y="2781360"/>
            <a:ext cx="93528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6730920" y="1557360"/>
            <a:ext cx="108108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084720" y="2060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84720" y="2060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940360" y="1844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52472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308720" y="2781360"/>
            <a:ext cx="576360" cy="29844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380360" y="1557360"/>
            <a:ext cx="431640" cy="277920"/>
          </a:xfrm>
          <a:custGeom>
            <a:avLst/>
            <a:gdLst/>
            <a:ahLst/>
            <a:rect l="l" t="t" r="r" b="b"/>
            <a:pathLst>
              <a:path w="2631" h="188">
                <a:moveTo>
                  <a:pt x="2631" y="45"/>
                </a:moveTo>
                <a:cubicBezTo>
                  <a:pt x="2192" y="116"/>
                  <a:pt x="1753" y="188"/>
                  <a:pt x="1315" y="181"/>
                </a:cubicBezTo>
                <a:cubicBezTo>
                  <a:pt x="877" y="174"/>
                  <a:pt x="219" y="38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419640" y="4365720"/>
            <a:ext cx="36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87564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87564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667640" y="2060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32720" y="1844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24720" y="184320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7928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19640" y="436572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 o último número é a bo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969696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920" y="5229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19640" y="436572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petir para outros elemen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: apenas procurar o mais pequeno nos elementos 2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E o último número é a bo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8360" y="5734080"/>
            <a:ext cx="3382920" cy="826920"/>
          </a:xfrm>
          <a:custGeom>
            <a:avLst/>
            <a:gdLst/>
            <a:ahLst/>
            <a:rect l="l" t="t" r="r" b="b"/>
            <a:pathLst>
              <a:path w="2131" h="521">
                <a:moveTo>
                  <a:pt x="2131" y="136"/>
                </a:moveTo>
                <a:cubicBezTo>
                  <a:pt x="1628" y="328"/>
                  <a:pt x="1126" y="521"/>
                  <a:pt x="771" y="498"/>
                </a:cubicBezTo>
                <a:cubicBezTo>
                  <a:pt x="416" y="475"/>
                  <a:pt x="128" y="83"/>
                  <a:pt x="0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124000" y="184464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547640" y="184464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547640" y="242100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24000" y="28526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116000" y="3139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116000" y="148392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11600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124000" y="14842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928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419640" y="1900080"/>
            <a:ext cx="475272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i := encontra mais pequ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nos elementos ent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i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ocar a[i] com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26920" y="4797360"/>
            <a:ext cx="475308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99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2268360" y="3573360"/>
            <a:ext cx="19432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44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580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242100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8920" y="242100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242100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242100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20620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44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580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24210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24210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3280" y="24210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7708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67640" y="2421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arefa: Ordena o seguinte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38545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fazer i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124000" y="184464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547640" y="184464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47640" y="242100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24000" y="28526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1116000" y="3139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1116000" y="148392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11600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24000" y="14842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419640" y="1900080"/>
            <a:ext cx="475272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i := encontra mais pequ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nos elementos ent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i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ocar a[i] com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826920" y="4797360"/>
            <a:ext cx="4753080" cy="204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i :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+1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268360" y="3573360"/>
            <a:ext cx="19432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24000" y="184464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547640" y="184464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547640" y="242100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124000" y="28526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116000" y="3139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392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11600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124000" y="14842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928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19640" y="1484280"/>
            <a:ext cx="475272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n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mi :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or j := i+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ocar a[i] com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4360" y="3789360"/>
            <a:ext cx="647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547640" y="3789360"/>
            <a:ext cx="6480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[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 flipV="1">
            <a:off x="2627280" y="4292280"/>
            <a:ext cx="144000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116000" y="3429000"/>
            <a:ext cx="647640" cy="216000"/>
          </a:xfrm>
          <a:custGeom>
            <a:avLst/>
            <a:gdLst/>
            <a:ahLst/>
            <a:rect l="l" t="t" r="r" b="b"/>
            <a:pathLst>
              <a:path w="408" h="136">
                <a:moveTo>
                  <a:pt x="0" y="136"/>
                </a:moveTo>
                <a:cubicBezTo>
                  <a:pt x="79" y="68"/>
                  <a:pt x="159" y="0"/>
                  <a:pt x="227" y="0"/>
                </a:cubicBezTo>
                <a:cubicBezTo>
                  <a:pt x="295" y="0"/>
                  <a:pt x="351" y="68"/>
                  <a:pt x="408" y="136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1042200" y="4437000"/>
            <a:ext cx="792360" cy="216000"/>
          </a:xfrm>
          <a:custGeom>
            <a:avLst/>
            <a:gdLst/>
            <a:ahLst/>
            <a:rect l="l" t="t" r="r" b="b"/>
            <a:pathLst>
              <a:path w="408" h="136">
                <a:moveTo>
                  <a:pt x="0" y="136"/>
                </a:moveTo>
                <a:cubicBezTo>
                  <a:pt x="79" y="68"/>
                  <a:pt x="159" y="0"/>
                  <a:pt x="227" y="0"/>
                </a:cubicBezTo>
                <a:cubicBezTo>
                  <a:pt x="295" y="0"/>
                  <a:pt x="351" y="68"/>
                  <a:pt x="408" y="136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68360" y="5084640"/>
            <a:ext cx="2448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existe uma instrução para directamente trocar doi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24000" y="184464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47640" y="184464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547640" y="242100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24000" y="28526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116000" y="3139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116000" y="148392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11600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24000" y="14842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7928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419640" y="1484280"/>
            <a:ext cx="4752720" cy="398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i :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+1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ocar a[i] com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4000" y="3933720"/>
            <a:ext cx="647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547640" y="3789360"/>
            <a:ext cx="6480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[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116000" y="4869000"/>
            <a:ext cx="647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2627280" y="4292280"/>
            <a:ext cx="144000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1547640" y="4292280"/>
            <a:ext cx="28764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971640" y="4005360"/>
            <a:ext cx="57600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1280" y="4437000"/>
            <a:ext cx="50472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68360" y="5805360"/>
            <a:ext cx="475308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mp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mi] :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79640" y="4941720"/>
            <a:ext cx="28872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55640" y="62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2: Procurar o elemento mais pequeno 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rocar com lugar 1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antagem: não é necessário um segundo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124000" y="184464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547640" y="184464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47640" y="242100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24000" y="285264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116000" y="3139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16000" y="148392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11600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124000" y="14842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7928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1484280"/>
            <a:ext cx="475272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i :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i+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temp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a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a[mi] :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68360" y="623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egamos ao fim de implementação em PASCAL do segundo 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19640" y="1484280"/>
            <a:ext cx="475272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-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i :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i+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a[j]&lt;min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n := a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i := 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mp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i] := a[m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mi] :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lhar n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há números (seguidos) não ordenados troca-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ete isso até o array estar or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9640" y="2852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3964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33200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33200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9528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18728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33200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3200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124000" y="2852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12400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18728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7964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124000" y="2852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12400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91636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1636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97964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77164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77164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564000" y="26240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708360" y="28526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70836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0072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50072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564000" y="26258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35600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0072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50072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29272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29272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35600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148360" y="26240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148360" y="26258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94036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940360" y="26258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732720" y="26240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12720" y="24811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414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3320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12580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636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70836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49892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29272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083280" y="28400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87708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667640" y="28400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7564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87564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667640" y="28526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67640" y="2852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732720" y="26258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524720" y="26240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87280" y="443700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imeiro pa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array ainda não está ordenado              Mais um pass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788000" y="4869000"/>
            <a:ext cx="647640" cy="341280"/>
          </a:xfrm>
          <a:prstGeom prst="rightArrow">
            <a:avLst>
              <a:gd name="adj1" fmla="val 50000"/>
              <a:gd name="adj2" fmla="val 4744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9528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18728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18728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97964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97964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77164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77164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564000" y="2060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564000" y="206208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35600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35600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148360" y="2060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riar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148360" y="206208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94036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940360" y="206208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32720" y="206064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732720" y="206208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7524720" y="206064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971640" y="4292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 passo 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 houve nenhuma troca. Por isso: o array está orde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971640" y="3716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último passo (quando os números estão orden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2554200" y="3645000"/>
            <a:ext cx="3097440" cy="20160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12720" y="1917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414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3320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12580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91636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70836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49892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9272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083280" y="2276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87708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667640" y="227664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714920" y="4148280"/>
            <a:ext cx="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38560" y="4148280"/>
            <a:ext cx="1224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a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[i] e a[i+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138560" y="4724280"/>
            <a:ext cx="1224000" cy="432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qu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ecess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714920" y="5156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706920" y="54435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706920" y="378756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706920" y="3787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714920" y="378792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770200" y="457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2122560" y="3213000"/>
            <a:ext cx="0" cy="27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122560" y="321300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714920" y="3213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714920" y="537372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2122200" y="595008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482920" y="5942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houve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924360" y="1916280"/>
            <a:ext cx="489564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um passo do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NOT houvetro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11280" y="2421000"/>
            <a:ext cx="3097080" cy="20160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71640" y="2924280"/>
            <a:ext cx="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195640" y="2924280"/>
            <a:ext cx="1224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a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[i] e a[i+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195640" y="3500280"/>
            <a:ext cx="1224000" cy="432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qu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ecess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771640" y="3932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1763640" y="42195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763640" y="256356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763640" y="2563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771640" y="256392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26920" y="3355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79280" y="1989000"/>
            <a:ext cx="0" cy="27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79280" y="198900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771640" y="1989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771640" y="414972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78920" y="472608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39640" y="4718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houve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24360" y="1916280"/>
            <a:ext cx="4895640" cy="301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for i := 1 to 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compare dois elementos seguidos</a:t>
            </a:r>
            <a:br>
              <a:rPr sz="1600"/>
            </a:b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troca os (e assinala)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neces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NOT houvetro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1280" y="2421000"/>
            <a:ext cx="3097080" cy="20160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771640" y="2924280"/>
            <a:ext cx="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195640" y="2924280"/>
            <a:ext cx="1224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a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[i] e a[i+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195640" y="3500280"/>
            <a:ext cx="1224000" cy="432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qu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ecess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771640" y="3932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763640" y="42195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763640" y="256356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763640" y="2563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771640" y="256392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826920" y="3355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79280" y="1989000"/>
            <a:ext cx="0" cy="27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79280" y="198900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771640" y="1989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71640" y="414972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178920" y="472608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39640" y="4718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houve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924360" y="1916280"/>
            <a:ext cx="489564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or i := 1 to 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if a[i]&gt;a[i+1]</a:t>
            </a:r>
            <a:br>
              <a:rPr sz="1600"/>
            </a:b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troca os (e assina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NOT houvetro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11280" y="2421000"/>
            <a:ext cx="3097080" cy="20160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771640" y="2924280"/>
            <a:ext cx="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195640" y="2924280"/>
            <a:ext cx="1224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a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[i] e a[i+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195640" y="3500280"/>
            <a:ext cx="1224000" cy="432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qu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ecess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771640" y="3932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1763640" y="42195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1763640" y="256356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763640" y="2563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771640" y="256392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26920" y="3355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179280" y="1989000"/>
            <a:ext cx="0" cy="27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79280" y="198900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771640" y="1989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2771640" y="414972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78920" y="472608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39640" y="4718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houve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924360" y="1916280"/>
            <a:ext cx="489564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or i := 1 to 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if a[i]&gt;a[i+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temp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a[i] := a[i+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a[i+1] :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houvetroca :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NOT houvetro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11280" y="2421000"/>
            <a:ext cx="3097080" cy="20160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2771640" y="2924280"/>
            <a:ext cx="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2195640" y="2924280"/>
            <a:ext cx="1224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a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[i] e a[i+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195640" y="3500280"/>
            <a:ext cx="1224000" cy="432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rocar qu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ecess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2771640" y="393228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1763640" y="421956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1763640" y="256356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763640" y="25639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2771640" y="256392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826920" y="3355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=1..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9280" y="1989000"/>
            <a:ext cx="0" cy="27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9280" y="198900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771640" y="1989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2771640" y="414972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178920" y="4726080"/>
            <a:ext cx="2592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39640" y="4718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houve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924360" y="1916280"/>
            <a:ext cx="489564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N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or i := 1 to 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f a[i]&gt;a[i+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mp :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i] := a[i+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[i+1] :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houvetroca :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NOT houvetro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79280" y="5734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á pron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55640" y="62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passo: compare todos os pares de números seg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stão mal ordenados troca-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ta a fazer um passa do array até não houve nenhuma t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1809720" cy="1733760"/>
          </a:xfrm>
          <a:prstGeom prst="rect">
            <a:avLst/>
          </a:prstGeom>
          <a:ln w="0">
            <a:noFill/>
          </a:ln>
        </p:spPr>
      </p:pic>
      <p:sp>
        <p:nvSpPr>
          <p:cNvPr id="1713" name=""/>
          <p:cNvSpPr/>
          <p:nvPr/>
        </p:nvSpPr>
        <p:spPr>
          <a:xfrm>
            <a:off x="3276720" y="2421000"/>
            <a:ext cx="5182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e último algoritmo chama-se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Bubble sor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is, parece bolinhas de ar na água a subir para a superfície. Os elementos menos leve movem lentemente a um lado do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900000" y="429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ém destes algoritmos apresentados aqui para odernar um array existem mais. Por exemplo o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Quick Sor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” que é muito mais rápido (mas também muito mais difícil a perce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39640" y="623736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172360" y="1917720"/>
            <a:ext cx="0" cy="345600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algoritmos é mais rápi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5564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r eficiência, por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tas vezes o programa deve ler um elemento do ar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843280" y="227664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*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mínimo ler todos os pares um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áximo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*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máximo ler todos os pares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: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édia dos dois números a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9720" cy="173376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2843280" y="443700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r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, depois ler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) + 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2) + ....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áximo: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: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39640" y="4724280"/>
            <a:ext cx="180036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Benguiat Bk BT"/>
              </a:rPr>
              <a:t>Scan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812000" y="3357720"/>
            <a:ext cx="7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812000" y="5078520"/>
            <a:ext cx="7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7020000" y="1628640"/>
            <a:ext cx="1873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N=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Procurar mais pequeno 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79640" y="479736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Copiar para lugar 1 no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331640" y="2492280"/>
            <a:ext cx="3816360" cy="108108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5772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4797360"/>
            <a:ext cx="0" cy="9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Copiar para lugar 1 no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31640" y="2492280"/>
            <a:ext cx="3816360" cy="108108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335772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79640" y="4797360"/>
            <a:ext cx="0" cy="11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: Ordenar um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700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4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580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0836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83280" y="20588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708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67640" y="20588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Benguiat Bk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02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4560" y="3570120"/>
            <a:ext cx="79236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692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74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128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818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564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66200" y="3570120"/>
            <a:ext cx="792000" cy="576360"/>
          </a:xfrm>
          <a:prstGeom prst="rect">
            <a:avLst/>
          </a:prstGeom>
          <a:solidFill>
            <a:srgbClr val="eaeaea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2115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          2           3          4           5          6          7           8          9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1843200"/>
            <a:ext cx="107928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goritmo 1: Procurar o elemento mais pequeno e copiar para novo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4797360"/>
            <a:ext cx="1224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urar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s pequ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117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Repetir para L2, L3 ... LN (cicl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5373720"/>
            <a:ext cx="1224000" cy="4316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piar -&gt; 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331640" y="2492280"/>
            <a:ext cx="3816360" cy="108108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3357720"/>
            <a:ext cx="1079640" cy="1008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3573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00cc"/>
                </a:solidFill>
                <a:latin typeface="Benguiat Bk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71640" y="609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71640" y="4437000"/>
            <a:ext cx="0" cy="165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5-04T14:46:05Z</dcterms:modified>
  <cp:revision>711</cp:revision>
  <dc:subject/>
  <dc:title>Slide 1</dc:title>
</cp:coreProperties>
</file>