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E48-AB8C-4188-BFCE-0D0A66E3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66C-2B66-4175-9648-2B383598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3F0-A735-4F3F-8EC0-FBC2E7B0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A5F-F50E-4E7F-832C-3CEEB950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49D-6C39-45B9-92C7-046EB7D0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580-C19F-4FDF-BDEC-8071268F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72E-A5B4-42CB-890D-DCC0AF7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FD2-5287-4D00-BC21-7EFD4183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0D2-2AC2-459C-B931-12B10BB8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2A1-2FCF-42FC-9F4D-A6A3671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6E7-6CE2-42FD-8CCF-B67B352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B70-8C31-4B94-9489-90647F1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E1A-A46D-4CEC-AB16-C5F0A41C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5111640" cy="39258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50920" y="1989000"/>
            <a:ext cx="583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1: Ciclos 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repeat-until e while-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3905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2: repeat-until e while-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07920"/>
            <a:ext cx="799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s ciclos </a:t>
            </a: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repeat-unti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while-d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ão para repetir coisas numa maneira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2205000"/>
            <a:ext cx="0" cy="374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2924280"/>
            <a:ext cx="2089080" cy="2305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52720" y="4005000"/>
            <a:ext cx="14436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196720" y="400500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3860640"/>
            <a:ext cx="1800000" cy="4320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1800" y="579060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84000" y="579240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1800" y="371412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000" y="371592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1800" y="2419200"/>
            <a:ext cx="1429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000" y="242064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-do,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2400" y="1844640"/>
            <a:ext cx="25124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condiçã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600360" cy="2752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4581360"/>
            <a:ext cx="640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a instrução até condição é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condição é verificada no início do ciclo (0 vezes instru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 é, tal como sempre, uma expressão que dá um valor do tipo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-do,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907920"/>
            <a:ext cx="3529080" cy="265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WhileExamp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: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hile (x&lt;=1.0)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x:0: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:= x + 0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640" y="4149720"/>
            <a:ext cx="427572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s temos de iniciar o nosso variável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o: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3789360"/>
            <a:ext cx="1438560" cy="277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1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2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3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4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5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6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7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9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27280" cy="2747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133720"/>
            <a:ext cx="720720" cy="2087280"/>
          </a:xfrm>
          <a:custGeom>
            <a:avLst/>
            <a:gdLst/>
            <a:ahLst/>
            <a:rect l="l" t="t" r="r" b="b"/>
            <a:pathLst>
              <a:path w="454" h="1315">
                <a:moveTo>
                  <a:pt x="454" y="0"/>
                </a:moveTo>
                <a:cubicBezTo>
                  <a:pt x="272" y="253"/>
                  <a:pt x="90" y="506"/>
                  <a:pt x="45" y="725"/>
                </a:cubicBezTo>
                <a:cubicBezTo>
                  <a:pt x="0" y="944"/>
                  <a:pt x="91" y="1129"/>
                  <a:pt x="182" y="131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013360"/>
            <a:ext cx="4176720" cy="140364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esqueça de dar uma poss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abar/sair do ciclo: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:= x +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O que aconteceria se esquecemos este instrução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2997360"/>
            <a:ext cx="2351160" cy="2232000"/>
          </a:xfrm>
          <a:custGeom>
            <a:avLst/>
            <a:gdLst/>
            <a:ahLst/>
            <a:rect l="l" t="t" r="r" b="b"/>
            <a:pathLst>
              <a:path w="1481" h="1406">
                <a:moveTo>
                  <a:pt x="0" y="0"/>
                </a:moveTo>
                <a:cubicBezTo>
                  <a:pt x="574" y="336"/>
                  <a:pt x="1149" y="673"/>
                  <a:pt x="1315" y="907"/>
                </a:cubicBezTo>
                <a:cubicBezTo>
                  <a:pt x="1481" y="1141"/>
                  <a:pt x="1239" y="1273"/>
                  <a:pt x="998" y="1406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5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at-until,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3480" y="1844640"/>
            <a:ext cx="210096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ti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diçã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581360"/>
            <a:ext cx="640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a instrução até condição é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condição é verificada n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 ciclo (0 vezes instrução não é possí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 é, tal como sempre, uma expressão que dá um valor do tipo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867280" y="907920"/>
            <a:ext cx="22766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at-until,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907920"/>
            <a:ext cx="3529080" cy="243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RepeatExamp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: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x:0: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:= x + 0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until (x&gt;1.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149720"/>
            <a:ext cx="4248360" cy="119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s temos de iniciar o nosso variável de controlo: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dar uma possibilidade de acabar/sair do ciclo: x := x +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133720"/>
            <a:ext cx="720720" cy="2087280"/>
          </a:xfrm>
          <a:custGeom>
            <a:avLst/>
            <a:gdLst/>
            <a:ahLst/>
            <a:rect l="l" t="t" r="r" b="b"/>
            <a:pathLst>
              <a:path w="454" h="1315">
                <a:moveTo>
                  <a:pt x="454" y="0"/>
                </a:moveTo>
                <a:cubicBezTo>
                  <a:pt x="272" y="253"/>
                  <a:pt x="90" y="506"/>
                  <a:pt x="45" y="725"/>
                </a:cubicBezTo>
                <a:cubicBezTo>
                  <a:pt x="0" y="944"/>
                  <a:pt x="91" y="1129"/>
                  <a:pt x="182" y="131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" y="3573360"/>
            <a:ext cx="2801880" cy="368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gin-end não necess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2625840" cy="4000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51640" y="3789360"/>
            <a:ext cx="1438200" cy="277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1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2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3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4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5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6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7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0.9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040" y="2781360"/>
            <a:ext cx="768600" cy="718920"/>
          </a:xfrm>
          <a:custGeom>
            <a:avLst/>
            <a:gdLst/>
            <a:ahLst/>
            <a:rect l="l" t="t" r="r" b="b"/>
            <a:pathLst>
              <a:path w="484" h="453">
                <a:moveTo>
                  <a:pt x="484" y="0"/>
                </a:moveTo>
                <a:cubicBezTo>
                  <a:pt x="318" y="76"/>
                  <a:pt x="152" y="152"/>
                  <a:pt x="76" y="227"/>
                </a:cubicBezTo>
                <a:cubicBezTo>
                  <a:pt x="0" y="302"/>
                  <a:pt x="15" y="377"/>
                  <a:pt x="30" y="45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526000"/>
            <a:ext cx="4248360" cy="368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dição 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141720"/>
            <a:ext cx="3276720" cy="2374920"/>
          </a:xfrm>
          <a:custGeom>
            <a:avLst/>
            <a:gdLst/>
            <a:ahLst/>
            <a:rect l="l" t="t" r="r" b="b"/>
            <a:pathLst>
              <a:path w="2064" h="1496">
                <a:moveTo>
                  <a:pt x="0" y="0"/>
                </a:moveTo>
                <a:cubicBezTo>
                  <a:pt x="783" y="170"/>
                  <a:pt x="1566" y="340"/>
                  <a:pt x="1815" y="589"/>
                </a:cubicBezTo>
                <a:cubicBezTo>
                  <a:pt x="2064" y="838"/>
                  <a:pt x="1780" y="1167"/>
                  <a:pt x="1497" y="1496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35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27640" y="4005360"/>
            <a:ext cx="3529080" cy="431640"/>
          </a:xfrm>
          <a:custGeom>
            <a:avLst/>
            <a:gdLst/>
            <a:ahLst/>
            <a:rect l="l" t="t" r="r" b="b"/>
            <a:pathLst>
              <a:path w="2223" h="272">
                <a:moveTo>
                  <a:pt x="0" y="0"/>
                </a:moveTo>
                <a:cubicBezTo>
                  <a:pt x="427" y="136"/>
                  <a:pt x="855" y="272"/>
                  <a:pt x="1225" y="272"/>
                </a:cubicBezTo>
                <a:cubicBezTo>
                  <a:pt x="1595" y="272"/>
                  <a:pt x="2057" y="38"/>
                  <a:pt x="2223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dos trê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48360" y="1197000"/>
            <a:ext cx="1711440" cy="2612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1341360"/>
            <a:ext cx="2735280" cy="20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204624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while-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549360"/>
            <a:ext cx="23749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at-u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43700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14972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ndição 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5413320"/>
            <a:ext cx="230364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o mínimo 1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877000"/>
            <a:ext cx="784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sempre possível converter um ciclo num outro tipo</a:t>
            </a:r>
            <a:br>
              <a:rPr sz="18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não existem ciclos na linguagem da máqui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79736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9800" y="4797360"/>
            <a:ext cx="2303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692280"/>
          <a:ext cx="3200400" cy="9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3200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859280" y="98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iclo com variável de controlo 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060640"/>
            <a:ext cx="3529080" cy="946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 i := 1 to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k := 1 to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3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for k := 1 to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3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writeln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3860640"/>
          <a:ext cx="3645000" cy="11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860640"/>
                    <a:ext cx="364500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932360" y="4076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iclo completamente dentro do outro ciclo (deve começar e acabar dentre do cic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157720"/>
            <a:ext cx="3529080" cy="15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 i := 1 to 10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:=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x := x+0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until x&gt;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00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53211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mpilador não aceita isso (felizmente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m estruturação (indentação) vai evitar i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30T21:54:38Z</dcterms:modified>
  <cp:revision>322</cp:revision>
  <dc:subject/>
  <dc:title>Slide 1</dc:title>
</cp:coreProperties>
</file>