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5CE-101C-432D-9D58-77190894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F7F-74A6-43BB-84F3-D0BF93EC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358-0DC2-42DD-986A-478B19F4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D72-6ADA-4FC6-82D4-ED71E110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C7A-5CCF-407F-9399-5DAC8D61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9D1-FE60-45D0-96E2-58E55817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C98-0798-4620-A38B-3F7E618C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082-2DA5-434F-BE5F-D707205E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326-9D35-431C-B4A4-DF2D6371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DD6-7C32-4E91-B9EF-3EB517D8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FC8-812B-4050-9082-0C10692C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7DB-0BEC-4DCF-9015-1992EA0A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2819-23E3-4813-908C-EE898EA77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71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ção à Comp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9079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la 12: Program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ção mo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55436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476280"/>
            <a:ext cx="5761080" cy="6061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NestedProcedu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x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CEDURE Module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y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PROCEDURE Module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var z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WriteLn('Now I am entering Procedure Module2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WriteLn('Give a value for z: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ReadLn(z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Writeln(z*2:0: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WriteLn('Leaving Module2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Now I am entering Procedure Module1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Give a value for y: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ReadLn(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y/3:0: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Module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Leaving Module1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Now I am starting the program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Module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404640"/>
            <a:ext cx="4140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;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est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Cha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04000" y="2852640"/>
            <a:ext cx="1981080" cy="2800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1093680" cy="12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919080" cy="1081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308720" y="476280"/>
            <a:ext cx="67320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101080" y="404640"/>
            <a:ext cx="48888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8655120" y="404640"/>
            <a:ext cx="306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ação modul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268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500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retorno</a:t>
            </a:r>
            <a:br>
              <a:rPr sz="1800"/>
            </a:br>
            <a:r>
              <a:rPr b="0" lang="pt-PT" sz="1800" spc="-1" strike="noStrike">
                <a:solidFill>
                  <a:srgbClr val="ff0000"/>
                </a:solidFill>
                <a:latin typeface="Courier New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2861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valor retornado</a:t>
            </a:r>
            <a:br>
              <a:rPr sz="1800"/>
            </a:br>
            <a:r>
              <a:rPr b="0" lang="pt-PT" sz="1800" spc="-1" strike="noStrike">
                <a:solidFill>
                  <a:srgbClr val="6600cc"/>
                </a:solidFill>
                <a:latin typeface="Courier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852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em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5653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parâmetros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input val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3429000"/>
            <a:ext cx="4535280" cy="158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4221000"/>
            <a:ext cx="45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342900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3645000"/>
            <a:ext cx="50292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4365720"/>
            <a:ext cx="50292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3645000"/>
            <a:ext cx="50328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4365720"/>
            <a:ext cx="50328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58136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458136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6160" y="4581360"/>
            <a:ext cx="3585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3860640"/>
            <a:ext cx="3589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3213000"/>
            <a:ext cx="1008000" cy="129564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2997360"/>
            <a:ext cx="1295280" cy="5029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2637000"/>
            <a:ext cx="1368360" cy="368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1268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ulos são pequenos programas dentro do programa. “Procedimentos e Funçõ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68360" y="2276640"/>
            <a:ext cx="352908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EDURE ProcNam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 &lt;varlist&gt;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ourier New"/>
              </a:rPr>
              <a:t>Const &lt;constlis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ructi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4290840"/>
            <a:ext cx="720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regras de escrever procedures são iguais às regras de escrever programas: (A diferença é só a palavra Procedure em vez de Program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 das variáveis/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gin .. end;  (agora finalizado por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;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836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lugar para definir procedimentos é dentro do programa,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ntes o começo do programa (begin .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2205000"/>
            <a:ext cx="352908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RAM WithPro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WriteAj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Writeln(‘Ajax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ruc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3179880"/>
            <a:ext cx="352764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WriteAj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Writeln(‘Ajax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4664160"/>
            <a:ext cx="1584360" cy="6364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s instruções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o pro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3448080"/>
            <a:ext cx="1584360" cy="5047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Um novo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2637000"/>
            <a:ext cx="1584360" cy="5047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s variáveis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o pro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;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836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sar o procedimento é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(cham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2205000"/>
            <a:ext cx="352908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RAM WithPro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WriteAj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Writeln(‘Ajax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ruc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889520"/>
            <a:ext cx="35276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32360" y="4664160"/>
            <a:ext cx="2089080" cy="718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Uma das instruções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de ser o novo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ed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2133360" cy="2509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rot="19800000">
            <a:off x="6950520" y="17002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WriteAja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880" y="3573360"/>
            <a:ext cx="600120" cy="1440000"/>
          </a:xfrm>
          <a:custGeom>
            <a:avLst/>
            <a:gdLst/>
            <a:ahLst/>
            <a:rect l="l" t="t" r="r" b="b"/>
            <a:pathLst>
              <a:path w="378" h="907">
                <a:moveTo>
                  <a:pt x="378" y="907"/>
                </a:moveTo>
                <a:cubicBezTo>
                  <a:pt x="204" y="665"/>
                  <a:pt x="30" y="423"/>
                  <a:pt x="15" y="272"/>
                </a:cubicBezTo>
                <a:cubicBezTo>
                  <a:pt x="0" y="121"/>
                  <a:pt x="234" y="53"/>
                  <a:pt x="28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;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633680"/>
            <a:ext cx="352908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RAM WithPro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WriteAj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Writeln(‘Ajax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633680"/>
            <a:ext cx="3529080" cy="374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RAM WithPro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WriteAj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Writeln(‘Ajax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4370400"/>
            <a:ext cx="1511280" cy="28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08240"/>
            <a:ext cx="352728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Writeln(‘Ajax’);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2920" y="1633680"/>
            <a:ext cx="208944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58831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instrução (chamada)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Ajax;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é efectivamente substituid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0" lang="pt-PT" sz="1800" spc="-1" strike="noStrike">
                <a:solidFill>
                  <a:srgbClr val="000000"/>
                </a:solidFill>
                <a:latin typeface="Courier New"/>
              </a:rPr>
              <a:t>WriteLn(‘Ajax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5164200"/>
            <a:ext cx="35290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j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48751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1633680"/>
            <a:ext cx="3529080" cy="3257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ro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Aj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‘Ajax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692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demos imaginar que as instruções do procediment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ão inseridas no código pela cha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92593E-006 C 0.0592 0.02825 0.11841 0.05649 0.125 0.08612 C 0.1316 0.11575 0.08559 0.14677 0.03959 0.17779 E">
                                      <p:cBhvr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;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5164200"/>
            <a:ext cx="3529080" cy="337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j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48751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1633680"/>
            <a:ext cx="3529080" cy="3257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ro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WriteAj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Writeln(‘Ajax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692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lhor é pensar que o programa vai temporareamente se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rumpido a executar as instruções do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628640"/>
            <a:ext cx="338472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RAM WithPro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WriteAj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Writeln(‘Ajax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365720"/>
            <a:ext cx="610920" cy="26964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5300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365720"/>
            <a:ext cx="610920" cy="26964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57520"/>
            <a:ext cx="610920" cy="27000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637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873520"/>
            <a:ext cx="610920" cy="26964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85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390840"/>
            <a:ext cx="610920" cy="27000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33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632040"/>
            <a:ext cx="610920" cy="27000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365720"/>
            <a:ext cx="610920" cy="269640"/>
          </a:xfrm>
          <a:custGeom>
            <a:avLst/>
            <a:gdLst>
              <a:gd name="textAreaLeft" fmla="*/ 95400 w 610920"/>
              <a:gd name="textAreaRight" fmla="*/ 534600 w 6109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4292640"/>
            <a:ext cx="720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5300640"/>
            <a:ext cx="374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encontrad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.. programa interum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5300640"/>
            <a:ext cx="41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hamada encontrad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.. programa interompido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.. e começa no início do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5300640"/>
            <a:ext cx="41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claração de uma variável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5300640"/>
            <a:ext cx="41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creve ‘Ajax’ no ecr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5300640"/>
            <a:ext cx="41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m do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5300640"/>
            <a:ext cx="41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inua com os resto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300640"/>
            <a:ext cx="41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m d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4365720"/>
            <a:ext cx="122400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4005360"/>
            <a:ext cx="1224000" cy="21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em exec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4221000"/>
            <a:ext cx="144360" cy="1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628640"/>
            <a:ext cx="338472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RAM WithPro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WriteAja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Writeln(‘Ajax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;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476280"/>
            <a:ext cx="6264360" cy="44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GRAM WithProcedu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x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PROCEDURE Module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var y: re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Now I am entering Procedure Module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Give a value for y: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adLn(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y/3:0: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Starting the program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Module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riteLn('Came back from Module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5084640"/>
            <a:ext cx="6264360" cy="1554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tarting the progra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Now I am entering Procedure Module1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Give a value for y: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ffff00"/>
                </a:solidFill>
                <a:latin typeface="Courier New"/>
              </a:rPr>
              <a:t>12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4.000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Came back from Modul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992160" cy="1166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64360" y="2276640"/>
            <a:ext cx="17240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ures; Procedimento chama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476280"/>
            <a:ext cx="5761080" cy="6274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GRAM TwoProcedu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x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CEDURE Module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y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Now I am entering Procedure Module1'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Give a value for y: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ReadLn(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y/3:0: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Leaving Module1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PROCEDURE Module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var z: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Now I am entering Procedure Module2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Module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Give a value for z: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ReadLn(z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z*2:0: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Leaving Module2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WriteLn('Now I am starting the program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Module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2135160" cy="125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20000" y="2205000"/>
            <a:ext cx="17240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0:27:03Z</dcterms:created>
  <dc:creator>Peter Stallinga</dc:creator>
  <dc:description/>
  <dc:language>en-US</dc:language>
  <cp:lastModifiedBy>Peter Stallinga</cp:lastModifiedBy>
  <dcterms:modified xsi:type="dcterms:W3CDTF">2005-03-30T21:57:37Z</dcterms:modified>
  <cp:revision>357</cp:revision>
  <dc:subject/>
  <dc:title>Slide 1</dc:title>
</cp:coreProperties>
</file>