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A268-A6A6-4A19-8E13-BE64D46B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CD4E-0CBE-4842-980F-3C4E51AC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D7A7-2C5A-4003-9738-9BA06D62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9C67-8BA0-4EFC-B8E0-89B4DC51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C02E-1F22-4ADD-85B9-BB786580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CD10-405C-44A4-8187-0AB1600E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DC51-505D-4D92-B5A3-0A702824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A5C6-73C5-4684-B259-03B580B8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A20-1372-45B1-B652-0F905970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7B06-C0F3-4FD2-8A53-C6D18113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39A0-550C-439B-8ABF-4B52BA6D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0FA-87F2-4998-A763-66C89012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A8BA-2009-4E10-8B36-2BE0F7DFD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71640" y="18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ção à Compu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06920" y="9079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16: Programação recurs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5327640" cy="35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3413160"/>
            <a:ext cx="6264360" cy="1797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UNCTION Fibonacci(n: longint): long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if (n=1) OR (n=2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ibonacci :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ibonacci := Fibonacci(n-2) + Fibonacci(n-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09080" y="66135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T16_5.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740720" y="5950080"/>
            <a:ext cx="718920" cy="64764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1197000"/>
            <a:ext cx="727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1989000"/>
            <a:ext cx="37432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20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1-1-2-3-5-8-13-21-34-55-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ção Recursiva. Fibonn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119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étodo sugerido: </a:t>
            </a:r>
            <a:br>
              <a:rPr sz="1800"/>
            </a:b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Recursividad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635280" y="907920"/>
            <a:ext cx="151128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cursividade e 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836640"/>
            <a:ext cx="777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riáveis loc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ópia para cada nível de chamar (uma caixa nova cada ve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1989000"/>
            <a:ext cx="6264360" cy="2284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UNCTION Factorial(n: integer): intege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ar m: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m :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if n=1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actorial :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actorial := n*Factorial(n-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38880" y="2637000"/>
            <a:ext cx="2808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hamar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actorial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90560" y="47912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476600"/>
            <a:ext cx="430200" cy="316080"/>
          </a:xfrm>
          <a:custGeom>
            <a:avLst/>
            <a:gdLst/>
            <a:ahLst/>
            <a:rect l="l" t="t" r="r" b="b"/>
            <a:pathLst>
              <a:path w="226" h="318">
                <a:moveTo>
                  <a:pt x="0" y="0"/>
                </a:moveTo>
                <a:cubicBezTo>
                  <a:pt x="71" y="64"/>
                  <a:pt x="143" y="129"/>
                  <a:pt x="181" y="182"/>
                </a:cubicBezTo>
                <a:cubicBezTo>
                  <a:pt x="219" y="235"/>
                  <a:pt x="203" y="318"/>
                  <a:pt x="226" y="31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474920" y="47260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122560" y="47260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22560" y="5301720"/>
            <a:ext cx="142920" cy="2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17840" y="4726080"/>
            <a:ext cx="647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5480" y="4726080"/>
            <a:ext cx="144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17840" y="4726080"/>
            <a:ext cx="144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74920" y="501336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54200" y="4789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66920" y="4475160"/>
            <a:ext cx="430200" cy="316080"/>
          </a:xfrm>
          <a:custGeom>
            <a:avLst/>
            <a:gdLst/>
            <a:ahLst/>
            <a:rect l="l" t="t" r="r" b="b"/>
            <a:pathLst>
              <a:path w="226" h="318">
                <a:moveTo>
                  <a:pt x="0" y="0"/>
                </a:moveTo>
                <a:cubicBezTo>
                  <a:pt x="71" y="64"/>
                  <a:pt x="143" y="129"/>
                  <a:pt x="181" y="182"/>
                </a:cubicBezTo>
                <a:cubicBezTo>
                  <a:pt x="219" y="235"/>
                  <a:pt x="203" y="318"/>
                  <a:pt x="226" y="31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338560" y="4724280"/>
            <a:ext cx="14256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986200" y="47242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986200" y="53006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81120" y="4724280"/>
            <a:ext cx="648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9120" y="4724280"/>
            <a:ext cx="14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81120" y="4724280"/>
            <a:ext cx="180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38560" y="501156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64000" y="4789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475160"/>
            <a:ext cx="430200" cy="316080"/>
          </a:xfrm>
          <a:custGeom>
            <a:avLst/>
            <a:gdLst/>
            <a:ahLst/>
            <a:rect l="l" t="t" r="r" b="b"/>
            <a:pathLst>
              <a:path w="226" h="318">
                <a:moveTo>
                  <a:pt x="0" y="0"/>
                </a:moveTo>
                <a:cubicBezTo>
                  <a:pt x="71" y="64"/>
                  <a:pt x="143" y="129"/>
                  <a:pt x="181" y="182"/>
                </a:cubicBezTo>
                <a:cubicBezTo>
                  <a:pt x="219" y="235"/>
                  <a:pt x="203" y="318"/>
                  <a:pt x="226" y="31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48000" y="47242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95640" y="47242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95640" y="53006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90920" y="4724280"/>
            <a:ext cx="647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38560" y="4724280"/>
            <a:ext cx="180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90920" y="4724280"/>
            <a:ext cx="14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501156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4788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40360" y="4473720"/>
            <a:ext cx="430200" cy="315720"/>
          </a:xfrm>
          <a:custGeom>
            <a:avLst/>
            <a:gdLst/>
            <a:ahLst/>
            <a:rect l="l" t="t" r="r" b="b"/>
            <a:pathLst>
              <a:path w="226" h="318">
                <a:moveTo>
                  <a:pt x="0" y="0"/>
                </a:moveTo>
                <a:cubicBezTo>
                  <a:pt x="71" y="64"/>
                  <a:pt x="143" y="129"/>
                  <a:pt x="181" y="182"/>
                </a:cubicBezTo>
                <a:cubicBezTo>
                  <a:pt x="219" y="235"/>
                  <a:pt x="203" y="318"/>
                  <a:pt x="226" y="31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211640" y="47228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59280" y="47228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859280" y="529920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4560" y="4722840"/>
            <a:ext cx="647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2200" y="4722840"/>
            <a:ext cx="14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4560" y="4722840"/>
            <a:ext cx="14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1640" y="501012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37080" y="4789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49800" y="4475160"/>
            <a:ext cx="430200" cy="316080"/>
          </a:xfrm>
          <a:custGeom>
            <a:avLst/>
            <a:gdLst/>
            <a:ahLst/>
            <a:rect l="l" t="t" r="r" b="b"/>
            <a:pathLst>
              <a:path w="226" h="318">
                <a:moveTo>
                  <a:pt x="0" y="0"/>
                </a:moveTo>
                <a:cubicBezTo>
                  <a:pt x="71" y="64"/>
                  <a:pt x="143" y="129"/>
                  <a:pt x="181" y="182"/>
                </a:cubicBezTo>
                <a:cubicBezTo>
                  <a:pt x="219" y="235"/>
                  <a:pt x="203" y="318"/>
                  <a:pt x="226" y="31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221440" y="4724280"/>
            <a:ext cx="14256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869080" y="47242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869080" y="53006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4724280"/>
            <a:ext cx="648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4724280"/>
            <a:ext cx="14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64000" y="4724280"/>
            <a:ext cx="180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21440" y="501156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00720" y="4788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13440" y="4473720"/>
            <a:ext cx="430200" cy="315720"/>
          </a:xfrm>
          <a:custGeom>
            <a:avLst/>
            <a:gdLst/>
            <a:ahLst/>
            <a:rect l="l" t="t" r="r" b="b"/>
            <a:pathLst>
              <a:path w="226" h="318">
                <a:moveTo>
                  <a:pt x="0" y="0"/>
                </a:moveTo>
                <a:cubicBezTo>
                  <a:pt x="71" y="64"/>
                  <a:pt x="143" y="129"/>
                  <a:pt x="181" y="182"/>
                </a:cubicBezTo>
                <a:cubicBezTo>
                  <a:pt x="219" y="235"/>
                  <a:pt x="203" y="318"/>
                  <a:pt x="226" y="31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084720" y="47228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732720" y="47228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732720" y="529920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27640" y="4722840"/>
            <a:ext cx="648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75640" y="4722840"/>
            <a:ext cx="14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27640" y="4722840"/>
            <a:ext cx="180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84720" y="5010120"/>
            <a:ext cx="64800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2191320" y="4945320"/>
            <a:ext cx="152280" cy="1728720"/>
          </a:xfrm>
          <a:custGeom>
            <a:avLst/>
            <a:gdLst>
              <a:gd name="textAreaLeft" fmla="*/ 97200 w 152280"/>
              <a:gd name="textAreaRight" fmla="*/ 152640 w 152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4062960" y="4945320"/>
            <a:ext cx="152280" cy="1728720"/>
          </a:xfrm>
          <a:custGeom>
            <a:avLst/>
            <a:gdLst>
              <a:gd name="textAreaLeft" fmla="*/ 97200 w 152280"/>
              <a:gd name="textAreaRight" fmla="*/ 152640 w 152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5936400" y="4945320"/>
            <a:ext cx="152280" cy="1728720"/>
          </a:xfrm>
          <a:custGeom>
            <a:avLst/>
            <a:gdLst>
              <a:gd name="textAreaLeft" fmla="*/ 97200 w 152280"/>
              <a:gd name="textAreaRight" fmla="*/ 152640 w 152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03280" y="602136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Factorial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602136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Factorial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602136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Factorial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03280" y="638172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=3*Factorial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132000" y="6165360"/>
            <a:ext cx="144720" cy="28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638172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=2*Factorial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005440" y="6165360"/>
            <a:ext cx="142920" cy="28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638172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08720" y="4437000"/>
            <a:ext cx="1150920" cy="1368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80360" y="443700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Factorial(3)</a:t>
            </a:r>
            <a:br>
              <a:rPr sz="1000"/>
            </a:b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n=3, m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24720" y="4724280"/>
            <a:ext cx="1150920" cy="13687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96360" y="4724280"/>
            <a:ext cx="107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Factorial(2)</a:t>
            </a:r>
            <a:br>
              <a:rPr sz="1000"/>
            </a:b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n=2, m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40720" y="5013360"/>
            <a:ext cx="1150920" cy="1368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12000" y="501336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Factorial(1)</a:t>
            </a:r>
            <a:br>
              <a:rPr sz="1000"/>
            </a:b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n=2, m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12000" y="584028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cursividade e 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836640"/>
            <a:ext cx="777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riáveis loc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ópia para cada nível de chamar (uma caixa nova cada ve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42920" y="1989000"/>
            <a:ext cx="6264360" cy="2284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UNCTION Factorial(n: integer): intege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ar m: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m :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if n=1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actorial :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actorial := n*Factorial(n-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38880" y="2637000"/>
            <a:ext cx="2808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hamar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actorial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0560" y="47912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474920" y="47260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122560" y="47260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122560" y="5301720"/>
            <a:ext cx="142920" cy="2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17840" y="4726080"/>
            <a:ext cx="647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5480" y="4726080"/>
            <a:ext cx="144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17840" y="4726080"/>
            <a:ext cx="144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74920" y="501336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54200" y="4789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338560" y="4724280"/>
            <a:ext cx="14256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986200" y="47242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986200" y="53006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81120" y="4724280"/>
            <a:ext cx="648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29120" y="4724280"/>
            <a:ext cx="14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81120" y="4724280"/>
            <a:ext cx="180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38560" y="501156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64000" y="4789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348000" y="47242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995640" y="47242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995640" y="53006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90920" y="4724280"/>
            <a:ext cx="647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38560" y="4724280"/>
            <a:ext cx="180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0920" y="4724280"/>
            <a:ext cx="14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48000" y="501156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27640" y="4788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211640" y="47228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859280" y="47228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859280" y="529920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54560" y="4722840"/>
            <a:ext cx="647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2200" y="4722840"/>
            <a:ext cx="14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4722840"/>
            <a:ext cx="14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11640" y="501012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37080" y="4789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221440" y="4724280"/>
            <a:ext cx="14256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869080" y="47242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869080" y="53006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64000" y="4724280"/>
            <a:ext cx="648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12000" y="4724280"/>
            <a:ext cx="14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0" y="4724280"/>
            <a:ext cx="180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21440" y="501156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00720" y="4788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084720" y="47228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732720" y="472284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732720" y="529920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27640" y="4722840"/>
            <a:ext cx="648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75640" y="4722840"/>
            <a:ext cx="14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27640" y="4722840"/>
            <a:ext cx="180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84720" y="5010120"/>
            <a:ext cx="64800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191320" y="4945320"/>
            <a:ext cx="152280" cy="1728720"/>
          </a:xfrm>
          <a:custGeom>
            <a:avLst/>
            <a:gdLst>
              <a:gd name="textAreaLeft" fmla="*/ 97200 w 152280"/>
              <a:gd name="textAreaRight" fmla="*/ 152640 w 152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4062960" y="4945320"/>
            <a:ext cx="152280" cy="1728720"/>
          </a:xfrm>
          <a:custGeom>
            <a:avLst/>
            <a:gdLst>
              <a:gd name="textAreaLeft" fmla="*/ 97200 w 152280"/>
              <a:gd name="textAreaRight" fmla="*/ 152640 w 152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5936400" y="4945320"/>
            <a:ext cx="152280" cy="1728720"/>
          </a:xfrm>
          <a:custGeom>
            <a:avLst/>
            <a:gdLst>
              <a:gd name="textAreaLeft" fmla="*/ 97200 w 152280"/>
              <a:gd name="textAreaRight" fmla="*/ 152640 w 152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602136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Factorial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74920" y="602136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Factorial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8360" y="602136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Factorial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03280" y="638172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=3*Factorial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132000" y="6165360"/>
            <a:ext cx="144720" cy="28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638172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=2*Factorial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005440" y="6165360"/>
            <a:ext cx="142920" cy="28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638172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308720" y="4437000"/>
            <a:ext cx="1150920" cy="1368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80360" y="443700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Factorial(3)</a:t>
            </a:r>
            <a:br>
              <a:rPr sz="1000"/>
            </a:b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n=3, m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24720" y="4724280"/>
            <a:ext cx="1150920" cy="13687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96360" y="4724280"/>
            <a:ext cx="107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Factorial(2)</a:t>
            </a:r>
            <a:br>
              <a:rPr sz="1000"/>
            </a:b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n=2, m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740720" y="5013360"/>
            <a:ext cx="1150920" cy="1368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12000" y="501336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Factorial(1)</a:t>
            </a:r>
            <a:br>
              <a:rPr sz="1000"/>
            </a:b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n=2, m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12000" y="584028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638172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=2*  1  = 2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67640" y="5516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=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03280" y="6381720"/>
            <a:ext cx="1728720" cy="2872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=3*2=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451640" y="522936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=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11280" y="6165720"/>
            <a:ext cx="1224000" cy="28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3528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16000" y="1268280"/>
            <a:ext cx="7128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ntra um procedimento provoca a criação de uma cópia de todas as variáveis loc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air um procedimento causa a destruição de todas as variáveis loc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cursividade e 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ção Recurs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126828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procedimento é recursivo quando está definido em termos de si próp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3132000" cy="3011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92720" y="436572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procedimento está a chamar si próp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ção Recursiva. 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6000" y="1268280"/>
            <a:ext cx="712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creve uma função que recebe um número (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 e retorna o factorial desse número,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por exemplo: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6! = 6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se um ciclo (qual tipo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3413160"/>
            <a:ext cx="6264360" cy="2527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UNCTION Factorial(n: integer): intege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* returns n! 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result: intege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i: intege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sult := 1; (* initialize the variable 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 i := 1 to n 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sult := i*resul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actorial := result;  (* return result 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09080" y="66135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T16_1.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4653000"/>
            <a:ext cx="2016000" cy="194472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6512040"/>
            <a:ext cx="360360" cy="3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ção Recursiva. Fac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6512040"/>
            <a:ext cx="360360" cy="345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26920" y="981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definição do factorial da matemát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14778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3600" spc="-1" strike="noStrike">
                <a:solidFill>
                  <a:srgbClr val="000000"/>
                </a:solidFill>
                <a:latin typeface="Times New Roman"/>
              </a:rPr>
              <a:t>! = </a:t>
            </a:r>
            <a:r>
              <a:rPr b="0" i="1" lang="pt-PT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PT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pt-PT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3600" spc="-1" strike="noStrike">
                <a:solidFill>
                  <a:srgbClr val="000000"/>
                </a:solidFill>
                <a:latin typeface="Times New Roman"/>
              </a:rPr>
              <a:t>-1)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234936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orquê não usar esta definição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notar que a definição é recursiva; o factorial está definido em termos de si próp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3629160"/>
            <a:ext cx="6264360" cy="1310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UNCTION Factorial(n: integer): intege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* returns n! 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actorial := n*Factorial(n-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09080" y="66135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T16_2.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3640" y="4653000"/>
            <a:ext cx="2016000" cy="194472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530064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sto nunca para. Porquê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ção Recursiva. Fac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836640"/>
            <a:ext cx="6264360" cy="1310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UNCTION Factorial(n: integer): intege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* returns n! 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actorial := n*Factorial(n-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9242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actorial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i chamar Factorial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i chamar Factorial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i chamar Factorial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i chamar Factorial(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i chamar Factorial(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..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b infin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77080" y="1052640"/>
            <a:ext cx="1476360" cy="1419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300720" y="2708280"/>
            <a:ext cx="2028960" cy="3390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5229360"/>
            <a:ext cx="5329440" cy="64260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esqueça de dar uma possibilidade de acabar/sair do ciclo recur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ção Recursiva. Fac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836640"/>
            <a:ext cx="6264360" cy="1797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UNCTION Factorial(n: integer): intege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if n=1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actorial :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actorial := n*Factorial(n-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2924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actorial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i chamar Factorial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i chamar Factorial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77080" y="1052640"/>
            <a:ext cx="1476360" cy="1419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300720" y="2708280"/>
            <a:ext cx="2028960" cy="3390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5229360"/>
            <a:ext cx="5329440" cy="64260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esqueça de dar uma possibilidade de acabar/sair do ciclo recur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3782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e retorn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09080" y="66135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T16_3.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40720" y="5950080"/>
            <a:ext cx="718920" cy="64764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ção Recursiva. Exempl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1268280"/>
            <a:ext cx="71280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creve uma função que recebe um número (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 e retorna o número Fibonacci,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 que segue a seguinta defin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1-1-2-3-5-8-13-21-34-55-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6512040"/>
            <a:ext cx="360360" cy="345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16000" y="4149720"/>
            <a:ext cx="705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étodo sugerido: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) guarda os dois últimos números em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b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) soma-os para gerar o novo númer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) Actualiza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b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) Continue (volta ao ponto 2) até chegar a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4913280"/>
            <a:ext cx="660600" cy="576360"/>
          </a:xfrm>
          <a:custGeom>
            <a:avLst/>
            <a:gdLst/>
            <a:ahLst/>
            <a:rect l="l" t="t" r="r" b="b"/>
            <a:pathLst>
              <a:path w="416" h="363">
                <a:moveTo>
                  <a:pt x="416" y="363"/>
                </a:moveTo>
                <a:cubicBezTo>
                  <a:pt x="216" y="257"/>
                  <a:pt x="16" y="151"/>
                  <a:pt x="8" y="91"/>
                </a:cubicBezTo>
                <a:cubicBezTo>
                  <a:pt x="0" y="31"/>
                  <a:pt x="185" y="15"/>
                  <a:pt x="371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16000" y="4149720"/>
            <a:ext cx="705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étodo sugerido: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) guarda os dois últimos números em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b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) soma-os para gerar o novo númer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) Actualiza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b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) Continue (volta ao ponto 2) até chegar ao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3413160"/>
            <a:ext cx="6264360" cy="3257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UNCTION Fibonnaci(n: integer): intege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fa, fb, f: intege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i: intege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a := 1; fb := 1; f :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 i := 3 to n do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 := fa + f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a := f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b := f;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Fibonacci := 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09080" y="66135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T16_4.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5950080"/>
            <a:ext cx="718920" cy="64764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1197000"/>
            <a:ext cx="727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2349360"/>
            <a:ext cx="230328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pt-PT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1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pt-PT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14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0" i="1" lang="pt-PT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1-1-2-3-5-8-13-21-34-55-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ção Recursiva. Fibonn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7544E-006 L -2.5E-006 -0.49583 E">
                                      <p:cBhvr>
                                        <p:cTn id="7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ção Recursiva. Exempl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1268280"/>
            <a:ext cx="71280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creve uma função que recebe um número (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 e retorna o número Fibonacci, </a:t>
            </a:r>
            <a:r>
              <a:rPr b="0" i="1" lang="pt-PT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 que segue a seguinta defin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1-1-2-3-5-8-13-21-34-55-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6512040"/>
            <a:ext cx="360360" cy="345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16000" y="41497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étodo sugerido: </a:t>
            </a:r>
            <a:br>
              <a:rPr sz="1800"/>
            </a:b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Recursividad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04-11T13:48:01Z</dcterms:modified>
  <cp:revision>503</cp:revision>
  <dc:subject/>
  <dc:title>Slide 1</dc:title>
</cp:coreProperties>
</file>