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DCC-5BA6-466C-B1D6-F78B1ED8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347-F8B4-4626-9427-D0730BD5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F51-3911-4B03-A593-A6EA5EAC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A8B-AF9E-4B65-A8AC-DDBCC172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C53-4F21-4244-A165-5390DD1A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167-01AE-4717-B98C-50CC3D96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FA6-5295-4C20-AFE4-F98992E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153-331F-455F-A36D-6B9C214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17B-0851-4E57-B7E3-9D599F5A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E68-8A91-4AF4-A935-1B6EB16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D38-C4AB-4D83-84AD-92748A1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618-EFAD-49E7-A3FE-C0EBD458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45DD-7A68-46DA-BA49-7658D3DF8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20: Apon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080320" cy="294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551664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 vantagem do Windows: Arrastar e lar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836640"/>
            <a:ext cx="5904000" cy="2770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wordptr: ^wor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: wor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atribuir um valor ao word w: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 := 50817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atribuir o endereço ao apontador: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ordptr := Addr(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Mostrar o conteudo do endereco: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wordptr^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3716280"/>
            <a:ext cx="5904000" cy="2770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byteptr: ^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yte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: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atribuir um valor ao word w: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 := 50817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atribuir o endereço ao apontador: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yteptr := Addr(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Mostrar o conteudo do endereco: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byteptr^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2997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20_1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6000" y="6014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20_2.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836640"/>
            <a:ext cx="1512720" cy="337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5081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6000" y="3716280"/>
            <a:ext cx="1512720" cy="337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1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Porqu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16000" y="3398760"/>
            <a:ext cx="3168720" cy="2551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16000" y="1152360"/>
            <a:ext cx="3168720" cy="1922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78800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ap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653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49360"/>
            <a:ext cx="5904000" cy="28317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GRAM TestSpee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Type ra = array[1..1000] of real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Var r: r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i: longi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CEDURE SlowProc(a: r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a[1] := 1.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for i := 1 to 4000000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SlowProc(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3141720"/>
            <a:ext cx="5904000" cy="31968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GRAM TestSpee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Type ra = array[1..1000] of re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rap = ^r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Var r: r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i: longi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CEDURE FastProc(a: rap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(* a is a pointer to an array, a^ is what 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to, the array. a^[1] is the first element of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array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a^[1] := 1.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for i := 1 to 4000000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FastProc(@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8760" y="4581360"/>
            <a:ext cx="2300760" cy="91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 de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entium II, 45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urbo Pascal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5734080"/>
            <a:ext cx="100800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1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860640"/>
            <a:ext cx="100836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11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47640" y="3429000"/>
            <a:ext cx="3603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268360" y="5805000"/>
            <a:ext cx="71928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77080" y="692280"/>
            <a:ext cx="172872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549360"/>
            <a:ext cx="5904000" cy="28317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GRAM TestSpee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Type ra = array[1..1000] of real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Var r: r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i: longi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CEDURE SlowProc(a: r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a[1] := 1.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for i := 1 to 4000000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SlowProc(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8760" y="4581360"/>
            <a:ext cx="2300760" cy="91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 de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entium II, 45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urbo Pascal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5734080"/>
            <a:ext cx="100800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1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860640"/>
            <a:ext cx="100836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11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547640" y="3429000"/>
            <a:ext cx="3603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68360" y="5805000"/>
            <a:ext cx="71928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3213000"/>
            <a:ext cx="5904000" cy="28317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GRAM TestSpee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Type ra = array[1..1000] of real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Var r: r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i: longin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CEDURE SlowProc(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Var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a: r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a[1] := 1.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for i := 1 to 4000000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SlowProc(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6165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referência é passar o endereço do objecto e por isso é mais ráp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77080" y="692280"/>
            <a:ext cx="172872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1800360" cy="1449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98764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a base de dados para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lunos e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funcionários,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isciplinas e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al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637000"/>
            <a:ext cx="741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quanto não sabemos o número de alunos, funcionários, disciplinas e salas temos de declarar um array com tamanho máximo possível. Isto vai gastar a memória to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lhor fazer isso dinamicamente. Reserva espaço para as variáveis na altura de correr o programa. Isso é (apenas) possível usando apont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46134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5805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orientada por objectos (O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 N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141300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I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a constante predefinida em PA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I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ignifica “sem endereço atribui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apontador que está a apontar nada tem o valor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I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4720" y="1125360"/>
            <a:ext cx="590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apontadores temos de ter muito cuid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ôr um valor num endereço apontado por um apontador não inicializado pode danificar o sistema operativo (até danificar o disco rígido ou comput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3573360"/>
            <a:ext cx="3672000" cy="228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PROGRAM DestroyComputer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p: ^by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for i := 1 to 4000000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p := Random(640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p^ :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2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2162160" cy="2162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48360" y="3357720"/>
            <a:ext cx="3527280" cy="26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093080" y="3573360"/>
            <a:ext cx="301320" cy="385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867280" y="414972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372360" y="3500280"/>
            <a:ext cx="301320" cy="38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6372360" y="4292640"/>
            <a:ext cx="301320" cy="385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7667640" y="472428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6659640" y="4869000"/>
            <a:ext cx="301680" cy="385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7164360" y="42195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5221440" y="4724280"/>
            <a:ext cx="301320" cy="38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6156360" y="5229360"/>
            <a:ext cx="301680" cy="385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5508720" y="530064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6013440" y="465120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6516720" y="4005360"/>
            <a:ext cx="301680" cy="385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>
            <a:off x="8101080" y="407664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>
            <a:off x="6804000" y="45813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7"/>
          <a:stretch/>
        </p:blipFill>
        <p:spPr>
          <a:xfrm>
            <a:off x="7740720" y="35733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8"/>
          <a:stretch/>
        </p:blipFill>
        <p:spPr>
          <a:xfrm>
            <a:off x="7308720" y="472428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9"/>
          <a:stretch/>
        </p:blipFill>
        <p:spPr>
          <a:xfrm>
            <a:off x="8101080" y="5516640"/>
            <a:ext cx="301680" cy="385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0"/>
          <a:stretch/>
        </p:blipFill>
        <p:spPr>
          <a:xfrm>
            <a:off x="8101080" y="465120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1"/>
          <a:stretch/>
        </p:blipFill>
        <p:spPr>
          <a:xfrm>
            <a:off x="7310520" y="54435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2"/>
          <a:stretch/>
        </p:blipFill>
        <p:spPr>
          <a:xfrm>
            <a:off x="6950160" y="5083200"/>
            <a:ext cx="301680" cy="385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076720" y="3068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mó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 / Po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apontador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uma variável cujo valor é um endere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05120" y="2492280"/>
            <a:ext cx="2667240" cy="1362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4200" y="234936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94172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valor d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endereço $32500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stá a apontar endereço $32500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827680" y="2697120"/>
            <a:ext cx="1949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Decla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144880"/>
            <a:ext cx="30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ar p: poi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4720" y="14954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1197000"/>
            <a:ext cx="698364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2144880"/>
            <a:ext cx="309564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x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Addr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o endereço d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14954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@ / Add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5034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qualquer variável (objec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378320"/>
            <a:ext cx="302580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nteúdo do endereç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37288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7372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ap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3080" y="1197000"/>
            <a:ext cx="698364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3080" y="3502080"/>
            <a:ext cx="698364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095640" cy="2948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268280"/>
            <a:ext cx="32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a variável do tipo real com valor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 ap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365720"/>
            <a:ext cx="590400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x := 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 := Addr(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p^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9500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resultado deste programa ... é imprevisí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65440" y="58910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ta que nos computadores Intel: um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eça com o LS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96000" y="4543560"/>
            <a:ext cx="1104840" cy="234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04080" y="4543560"/>
            <a:ext cx="1082520" cy="236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7760" y="2917800"/>
            <a:ext cx="10746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7880" y="117936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34000" y="111600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001101110101000110100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2720" y="1179360"/>
            <a:ext cx="107496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41600" y="1181160"/>
            <a:ext cx="1103040" cy="2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27680" y="1177920"/>
            <a:ext cx="110484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35760" y="1177920"/>
            <a:ext cx="1082520" cy="23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18280" y="117936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" y="1181160"/>
            <a:ext cx="1103400" cy="2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76600" y="3492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09800" y="81108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36520" y="1482840"/>
            <a:ext cx="68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byte e o valor do byte é 129 (1000001).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^ = 12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52560" y="291780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38680" y="285444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110001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0101000110100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46280" y="29192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2916360"/>
            <a:ext cx="1104840" cy="23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40440" y="2916360"/>
            <a:ext cx="1082520" cy="23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22960" y="291780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440" y="2919240"/>
            <a:ext cx="110304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81280" y="20876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4480" y="254952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38320" y="318600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word e o valor do word é 50817 (11000110 10000001).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^ = 508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21040" y="4545000"/>
            <a:ext cx="107496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16200" y="454500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2320" y="448164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110001101110101000110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9560" y="45464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454500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4720" y="45464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44920" y="37148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8120" y="417672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7320" y="4857840"/>
            <a:ext cx="77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longint e o valor do longint é 7439246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00101100010101110110001110000001).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^ = 7439246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0920" y="5850000"/>
            <a:ext cx="74916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m todos estes casos, o valor de 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é igual. O conteúdo do endereço 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depende do tipo de apontad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Decla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4438800"/>
            <a:ext cx="30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ar p: ^ti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78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3490920"/>
            <a:ext cx="698328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990800"/>
            <a:ext cx="30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ar p: poi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341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1042920"/>
            <a:ext cx="698328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1052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specificação do 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35672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specificação do 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Declaração exem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1784520"/>
            <a:ext cx="30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ar p: ^ti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1350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8720" y="836640"/>
            <a:ext cx="698328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9129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specificação do 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3573360"/>
            <a:ext cx="5904000" cy="824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byteptr:  ^byt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ordPtr:  ^wor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l6arrayptr: ^array[1..6] of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565440" y="58910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ta que nos computadores Intel: um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eça com o LS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96000" y="4543560"/>
            <a:ext cx="1104840" cy="234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04080" y="4543560"/>
            <a:ext cx="1082520" cy="236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7760" y="2917800"/>
            <a:ext cx="10746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7880" y="117936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ontadores.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4000" y="111600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001101110101000110100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2720" y="1179360"/>
            <a:ext cx="107496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41600" y="1181160"/>
            <a:ext cx="1103040" cy="2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27680" y="1177920"/>
            <a:ext cx="110484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35760" y="1177920"/>
            <a:ext cx="1082520" cy="23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18280" y="117936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" y="1181160"/>
            <a:ext cx="1103400" cy="2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76600" y="3492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09800" y="81108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36520" y="1482840"/>
            <a:ext cx="68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byte e o valor do byte é 129 (1000001).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^ = 12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52560" y="291780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38680" y="285444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110001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0101000110100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46280" y="29192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2916360"/>
            <a:ext cx="1104840" cy="23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40440" y="2916360"/>
            <a:ext cx="1082520" cy="23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291780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440" y="2919240"/>
            <a:ext cx="110304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81280" y="20876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4480" y="254952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38320" y="318600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word e o valor do word é 50817 (11000110 10000001).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^ = 508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21040" y="4545000"/>
            <a:ext cx="107496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6200" y="4545000"/>
            <a:ext cx="1103400" cy="231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2320" y="448164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100100111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0000001110001101110101000110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9560" y="45464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545000"/>
            <a:ext cx="11034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4546440"/>
            <a:ext cx="1103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44920" y="37148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8120" y="4176720"/>
            <a:ext cx="0" cy="309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57320" y="4857840"/>
            <a:ext cx="77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ponta um longint e o valor do longint é 7439246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00101100010101110110001110000001).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^ = 7439246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0920" y="5850000"/>
            <a:ext cx="74916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m todos estes casos, o valor de 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é igual. O conteúdo do endereço </a:t>
            </a:r>
            <a:r>
              <a:rPr b="0" lang="pt-PT" sz="18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depende do tipo de apontad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1800" y="6599160"/>
            <a:ext cx="12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20_1.P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4-29T20:21:39Z</dcterms:modified>
  <cp:revision>629</cp:revision>
  <dc:subject/>
  <dc:title>Slide 1</dc:title>
</cp:coreProperties>
</file>