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41C-D14C-4907-BFDF-93C32D9B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49D-69D9-4895-B60F-7842980D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AA7-A69B-4BFF-8A6B-F6B5BC4F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64C-B520-4A86-9857-2DF4CDBB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7AA-2F22-41AE-BA60-8FC5D59D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CD0-B92C-46C8-901E-12F8DCD0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AC6-26A7-4B62-A536-F6768547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74B-79EB-4180-A8E6-9A8D6FBA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986-FCC5-4386-BA4D-EB035282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3F4-3A9F-4E06-A42C-E5EC762A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D46C-7815-4443-A920-175B2B38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A5B-4619-41BA-B6C5-7CA1C190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0B36-5620-4152-9B91-BE6AEB69D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9079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6: Constantes e atribu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3614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9000" y="1870200"/>
          <a:ext cx="6966000" cy="3421080"/>
        </p:xfrm>
        <a:graphic>
          <a:graphicData uri="http://schemas.openxmlformats.org/drawingml/2006/table">
            <a:tbl>
              <a:tblPr/>
              <a:tblGrid>
                <a:gridCol w="1895400"/>
                <a:gridCol w="1773360"/>
                <a:gridCol w="1773360"/>
                <a:gridCol w="1523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 de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br>
                        <a:rPr sz="1600"/>
                      </a:b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ois execução</a:t>
                      </a:r>
                      <a:br>
                        <a:rPr sz="1600"/>
                      </a:b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 lin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 de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ois execu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 lin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 de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ois execu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 lin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OGRAM Ex;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R a: rea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: rea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ST C = 4.3;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 := 1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 := C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 := a+b+C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terminado</a:t>
                      </a:r>
                      <a:br>
                        <a:rPr sz="1600"/>
                      </a:b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0</a:t>
                      </a:r>
                      <a:br>
                        <a:rPr sz="1600"/>
                      </a:b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0</a:t>
                      </a:r>
                      <a:br>
                        <a:rPr sz="1600"/>
                      </a:b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terminado</a:t>
                      </a:r>
                      <a:br>
                        <a:rPr sz="1600"/>
                      </a:b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terminado</a:t>
                      </a:r>
                      <a:br>
                        <a:rPr sz="1600"/>
                      </a:b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.3</a:t>
                      </a:r>
                      <a:br>
                        <a:rPr sz="1600"/>
                      </a:b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.3</a:t>
                      </a:r>
                      <a:br>
                        <a:rPr sz="1600"/>
                      </a:b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.3</a:t>
                      </a:r>
                      <a:br>
                        <a:rPr sz="1600"/>
                      </a:b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24000" y="414972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ul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: Constantes e atribu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13413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Que será ser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2781360"/>
            <a:ext cx="7345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mat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ribu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form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112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 espcificar o formato e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l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 formato se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060640"/>
            <a:ext cx="6121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22 caracteres,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ex 1.23456789012345E+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2917800"/>
            <a:ext cx="612144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número de dígitos +1 (ou +2), e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_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       _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4025880"/>
            <a:ext cx="61214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ext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tamanho do 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4941720"/>
            <a:ext cx="554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ca fe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comprimento fica imprevisí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form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3440" y="83664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) Especificar o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amanh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do texto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9440" y="1773360"/>
            <a:ext cx="61214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write(inteiro1: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9440" y="2924280"/>
            <a:ext cx="612144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~~~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1904760" y="2423880"/>
            <a:ext cx="152280" cy="72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25"/>
                </a:lnTo>
                <a:cubicBezTo>
                  <a:pt x="10800" y="9525"/>
                  <a:pt x="5400" y="10425"/>
                  <a:pt x="0" y="10425"/>
                </a:cubicBezTo>
                <a:cubicBezTo>
                  <a:pt x="5400" y="10425"/>
                  <a:pt x="10800" y="11325"/>
                  <a:pt x="10800" y="122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4720" y="2349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 lu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8108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492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637080" y="213336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~ = espaç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9440" y="3860640"/>
            <a:ext cx="61214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write(‘Benfica’:1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9440" y="5011560"/>
            <a:ext cx="612144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~~~~~~~Ben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2553120" y="3864600"/>
            <a:ext cx="150840" cy="2016360"/>
          </a:xfrm>
          <a:custGeom>
            <a:avLst/>
            <a:gdLst>
              <a:gd name="textAreaLeft" fmla="*/ 96480 w 150840"/>
              <a:gd name="textAreaRight" fmla="*/ 151200 w 15084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25"/>
                </a:lnTo>
                <a:cubicBezTo>
                  <a:pt x="10800" y="9525"/>
                  <a:pt x="5400" y="10425"/>
                  <a:pt x="0" y="10425"/>
                </a:cubicBezTo>
                <a:cubicBezTo>
                  <a:pt x="5400" y="10425"/>
                  <a:pt x="10800" y="11325"/>
                  <a:pt x="10800" y="122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81440" y="443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5 lu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629080" y="4652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9080" y="465300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997440" y="4220640"/>
            <a:ext cx="287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4720" y="3645000"/>
            <a:ext cx="705636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4720" y="1557360"/>
            <a:ext cx="705636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form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3440" y="83664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) Especificar as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asas decimai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floating poin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49440" y="1773360"/>
            <a:ext cx="61214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write(real1:7: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9440" y="2924280"/>
            <a:ext cx="612144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~~~1.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2047680" y="2280960"/>
            <a:ext cx="152280" cy="10065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920 h 1006560"/>
              <a:gd name="textAreaBottom" fmla="*/ 980640 h 100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25"/>
                </a:lnTo>
                <a:cubicBezTo>
                  <a:pt x="10800" y="9525"/>
                  <a:pt x="5400" y="10425"/>
                  <a:pt x="0" y="10425"/>
                </a:cubicBezTo>
                <a:cubicBezTo>
                  <a:pt x="5400" y="10425"/>
                  <a:pt x="10800" y="11325"/>
                  <a:pt x="10800" y="122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4720" y="2349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 lu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24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249228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276720" y="213336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~ = espaç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4720" y="1557360"/>
            <a:ext cx="7056360" cy="25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2412000" y="3140280"/>
            <a:ext cx="144360" cy="432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25"/>
                </a:lnTo>
                <a:cubicBezTo>
                  <a:pt x="10800" y="9525"/>
                  <a:pt x="5400" y="10425"/>
                  <a:pt x="0" y="10425"/>
                </a:cubicBezTo>
                <a:cubicBezTo>
                  <a:pt x="5400" y="10425"/>
                  <a:pt x="10800" y="11325"/>
                  <a:pt x="10800" y="122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3500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 casas decim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48436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371628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635280" y="213336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356000" y="256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tribuição (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assigmen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6922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tribuição: mudar o valor de uma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1280" y="115920"/>
            <a:ext cx="4319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0" spc="-1" strike="noStrike">
                <a:solidFill>
                  <a:srgbClr val="000000"/>
                </a:solidFill>
                <a:latin typeface="FuturaBlack BT"/>
              </a:rPr>
              <a:t>:=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29973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lado esquerde: uma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lado direito: uma expressão que vai retor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valor do mesmo tipo da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9080" y="4508640"/>
            <a:ext cx="1368360" cy="1608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B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:= 3.0;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 := 3.0*a;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 := Cos(t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4508640"/>
            <a:ext cx="1368360" cy="1608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.0 := a;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:= TRUE;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:= 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89440" y="6381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a, b, c, t do tipo re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tribuição (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assigmen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69228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símbolo         </a:t>
            </a:r>
            <a:r>
              <a:rPr b="1" lang="pt-PT" sz="6000" spc="-1" strike="noStrike">
                <a:solidFill>
                  <a:srgbClr val="000000"/>
                </a:solidFill>
                <a:latin typeface="FuturaBlack BT"/>
              </a:rPr>
              <a:t>: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2205000"/>
            <a:ext cx="7705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é parte de uma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equaçã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é parte de uma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omparaçã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uma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tribuiçã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:= a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ê-se assi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(o novo valor de a) (será) (o velho valor de a) (mais um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ível da máquin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(busca o valor de a da memória), (adicione 1), (põe o valor calculado na memór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9440" y="6381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a, b, c, t do tipo re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tribuição (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assigmen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58920" y="69228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símbolo         </a:t>
            </a:r>
            <a:r>
              <a:rPr b="1" lang="pt-PT" sz="6000" spc="-1" strike="noStrike">
                <a:solidFill>
                  <a:srgbClr val="000000"/>
                </a:solidFill>
                <a:latin typeface="FuturaBlack BT"/>
              </a:rPr>
              <a:t>: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2205000"/>
            <a:ext cx="7705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é parte de uma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equaçã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é parte de uma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omparaçã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uma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tribuiçã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:= a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ê-se assi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(o novo valor de a) (será) (o velho valor de a) (mais um)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ível da máquin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(busca o valor de a da memória), (adicione 1), (põe o valor calculado na memór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89440" y="6381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a, b, c, t do tipo re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3789360"/>
            <a:ext cx="3311640" cy="11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” será “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” ma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916360" y="4365360"/>
            <a:ext cx="934920" cy="215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620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tantes são como as variáveis, mas naõ podem mudar do valor durante a execução do program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1557360"/>
            <a:ext cx="5040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ffffff"/>
                </a:solidFill>
                <a:latin typeface="Arial"/>
              </a:rPr>
              <a:t>CONST NOME = valo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2565360"/>
            <a:ext cx="6121440" cy="2574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PROGRAM DeclareVarsECons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VAR a: real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  i: integer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CONST PI = 3.141592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a := 45.0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a := PI*a/180.0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551664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is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legível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ácil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modificaç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3-02T12:18:21Z</dcterms:modified>
  <cp:revision>154</cp:revision>
  <dc:subject/>
  <dc:title>Slide 1</dc:title>
</cp:coreProperties>
</file>